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2" name="PlaceHolder 2"/>
          <p:cNvSpPr>
            <a:spLocks noGrp="1"/>
          </p:cNvSpPr>
          <p:nvPr>
            <p:ph type="dt" idx="91"/>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5" name="PlaceHolder 5"/>
          <p:cNvSpPr>
            <a:spLocks noGrp="1"/>
          </p:cNvSpPr>
          <p:nvPr>
            <p:ph type="ftr" idx="92"/>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6" name="PlaceHolder 6"/>
          <p:cNvSpPr>
            <a:spLocks noGrp="1"/>
          </p:cNvSpPr>
          <p:nvPr>
            <p:ph type="sldNum" idx="93"/>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AF95-F3BF-4F3C-AABD-B8576B3ED71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7A74-EC00-41AE-8A47-C155F6361E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C23C-E5F1-4532-B418-3E807DBBEA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E062-4517-4939-8F10-54D80DE032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0E16-27BE-492D-8499-2D23D4542A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1652-5B3A-4173-805D-B026E67BBB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1F7B-2C83-4656-9E7B-8151DEF3F7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1CBF-B6CF-4DEA-A473-46DA514158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4E22-62AE-43F1-BD47-B29DB0A35A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6AA2-2FF4-42CB-BACF-2BB4BAE49A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47BB-83F5-4214-8735-33EB66C0C72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B3F2-0DB4-409A-85BF-38B7588820B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FB49-094F-4E06-9E31-D6A680088F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E674-7A5F-4059-A1DE-F2BE1A510E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6FE88-6116-4736-B463-EA86179F7E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AC35-F60D-4E27-AE3F-50444EE389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1C26-E2D5-48EB-811F-8525BBD8CF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349A-4CC3-411E-B704-A1CFFE6D37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D8D4-B65E-4556-84A9-B031E6CC56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DCD2-BA6B-457C-B313-DE1B5DAE5D7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7468-6168-41EE-8F6E-23A4476991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D210-DEB1-432D-A862-12C6DD9B3C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1B25-C722-4AA8-96C1-33594EB701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EBCE-C23C-49B1-8D82-71ED73902F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EAA3-3C72-486D-85D8-829F58C0E7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9032-7A1F-457A-BDCE-C4E6A42088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E20C-1565-4197-A7A7-0698A7AD60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B5CB-C212-476E-BD9C-408E7D8505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E587-5CDE-4BA2-80E3-59EC739025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CBAA-3C21-40ED-AA01-ED516AE872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702C-02A1-483D-A109-F8FA17161B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C3B68-206E-4B97-B125-4EDA42B6713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01A25-6679-40BD-AC60-DC190A6B9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4B28-2B8D-4D4D-AE35-87DB82196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F2F3EA-606B-4DEC-8560-C916369523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6F392B-6C10-4EDE-980D-ECD976A523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30D35B-0FC9-4926-9705-C2D20EB09B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040192-26B6-43B4-8597-A03268EEF8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8F141A-9282-44BC-8CAB-A36D98BB5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D66833-A87D-490D-9CC0-DF5172EB90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5A20D3-D5C7-4659-9495-3640EDC0EC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D1A56F-9D94-4664-A871-C5771036E8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D0B498-B896-4A39-8023-9D45A2320F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76A414-2A6C-4965-8A8B-537E42651EE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22B80-5B3F-401E-9ED7-DF03FE104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417C80-75D4-459D-8DAD-5F9C3FEE3C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D410F4-CC9E-4C82-868B-03D5E345AD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341D62-4F90-41A2-B04B-F25FE20259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0B960D-94EC-4D3E-8DED-6EBC9A1547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1150A3-867E-4778-BF93-81590E89CD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B823A1-691E-4C03-9AB7-D14887E6AF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86BE23-AEA0-4A23-AD4B-FC1194E9F6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1EDF01-F8B2-4763-881E-A262A23D46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3B8729-28C0-4696-914A-8B51783D1E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C1C674F-04EE-4900-9B61-EB3ADB04CA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9494C-C917-442C-A93E-51E426087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79B288-956F-44F5-B063-21211FD73F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00577C6-7AE1-47CF-802C-41BF7114BE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614923-082B-4503-B506-E3F1395199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8909FC-8C1B-4F92-9D23-5EE5DCAAC4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7D7815-76C1-48E2-B2FE-A62E44926C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2DB3E0-9DC3-499D-BE49-3B6D8987C5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09819C-3070-402E-BD80-90C222839C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C56E63-81E9-4436-A493-AB6E4E6466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C122B8-1626-4221-8C80-C06051B8ED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031F61-E7B2-4C1E-B495-260CAADE20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E9872-CEE7-4844-BF24-C7D4CB0B6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C4D8E3-AC16-4634-8B6B-6DAA60863F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2E8554-7E29-48D6-B813-A424B22C1A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73B9DD-665C-4309-9A9F-7C1040807C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A8C1AD2-D90F-48B5-9588-ADEDAD9BBB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4DE52C-C5F9-45C8-B2D7-250B3F913B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DC4561-5D87-4B74-9042-CF5686073F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65EB4E-1D87-4B95-8B3D-23EF9637E2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94A471-9F7F-488E-9401-0F1FF4CC5B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F21B27-DD9D-46DD-B99F-44200F5CD8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24FA8E-6767-4FF7-982E-8CB641CE2D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3EDCC-9040-4056-A17A-09BBAD59E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DC6E94-A80D-4B71-8E81-DE14C59B42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1202E5-7126-48CD-878A-72F7228A76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BA8F1B-C206-4A6F-8ADB-F4659FFD59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96D9D2-CF7D-4A25-B84A-5D4A219F9E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F654EF-2BD6-4950-BB48-BF29746C79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D5B45AD-4B5E-4B26-9BB8-FCDBF273754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7D022F-15AC-4653-A534-D1426ABBEE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5A0565-4DBB-4E51-BC82-D123FC714C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07071E-B570-4D95-B575-716BCC6FB81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52F0F6-40DE-45A8-A42E-735EB3C0D0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0DEA1-1E2D-4453-BBB6-CD006E86F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F86994-20A7-432C-B7E7-A9F8FF02CF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155109-034E-4CBC-94EC-ABB0A09793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928D0E-2590-481D-A2F4-C0C8875FA5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BE0C73-2660-4DB4-9A91-8541F631FA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AEA235-F1A5-43EE-8F28-D90DA1F7DD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00C63B3-0EEC-40D6-8A97-33A212AE354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4ED5DCC-D211-4AE8-8C12-A6DEE0FBE7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20ADA0E-8168-4AF5-8A13-60C39BA4A7D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0424A2-4D4B-4BF0-9390-76F91CDF7F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92FC33-9F15-47DA-A435-3195E23EE7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9BCF6-AF5B-44BA-9508-7709F03F0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40561A9-9AD8-4628-BC63-BD200EB111D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0422D0-A8A2-456D-89A3-97841679F4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5827FE0-BE2F-4568-948B-2228BBAA3F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66CD14-DBC7-44F1-8C76-83C259361B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A82004-657E-47B1-BCB8-535F863585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A5F685-084B-437B-B479-394186100BD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1CCE2F-A981-4EE3-B75A-7A6E7C401F8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876EAE0-7CD0-4C11-AC78-09E28D8B8AA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3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EA8B5F6-D1DC-413E-88BE-98F36415A2A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C3C0C09-EA59-4D29-B833-2803ABF5437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37DD8-2C32-464F-B9DD-C61D0DF79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6864AB4-CE8D-4518-B0FA-FF06AF8C622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D8C881-21EB-45D7-B71A-B987779C765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07D49C-982A-436E-B850-F80B0DEE634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BB45F0F-08A9-4E32-A5DA-89375DA35D2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B2D4DB6-79AF-416B-8F30-597C0D1155A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DF58C94-D59B-4905-AF1F-6AF92AAE47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DB5BD8-2291-4CF0-87A7-704B7CA974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ADA717-00AA-4C3F-BBAA-6E67EDDC910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253B0E-4856-49B1-9D83-BCF9DCEB4D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F72D91C-AB64-457D-8041-43008A0163F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B0CCE-3520-4A74-89D1-FF7FB94E8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54CE585-B959-459B-99F9-BB1B8DF94E4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59C09D0-5954-440E-B6C6-175C53A7E7E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94BBD2D-3E95-4D3D-8A2B-E7232508878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F1E9D25-1474-4E30-B63B-5DE0020C3F7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EE7646-710B-4673-9524-532C994B460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D5CC018-AA5C-42CD-B87B-73F287373AC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6C5A01B-98A9-4D13-BEA4-318CD6BE298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474E1E5-D755-4DFD-B182-D99358BFDE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9B1D2D-1F08-4159-A1B4-00E0470E2D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FA2199-BBE7-4577-914A-83841D7628A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3D629-3474-417F-AC82-C820CA84F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A746ADD-0C3A-4892-8E52-23B411771C9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B54BB8E-066D-4CFD-AC2E-25C97B8E38D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D5FD369-B051-40EB-9F97-40A30E20E1A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1361D48-C54C-4FD2-BC7B-218113A7EE3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27CA7E5-FDD4-43B4-99F6-56493D30BA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ADB9D47-0569-4830-B476-3C981CF85F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224AE89-7CEC-4D17-BCA7-0FFD6AF9318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07F39FF-C642-4D7D-B21F-3CD05ABBE1D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E646C6-5F7D-48E0-99D8-E49D9E561B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615C28-DAE0-4289-A943-D86A70B35BF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0C21B-1AEB-4976-9A0F-D9F24426B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38815-335F-4A7C-B30E-7C934FBCE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F7D7B3-3722-4B0A-B52B-47D342C36F2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581340F-B366-437C-95F7-677727E7A40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FA90593-B8C4-4398-84B2-259A00B9F80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4C5CFB-3CA5-4C36-A39B-4CF08A2843C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E605065-A13E-4649-8FA7-714B3764C6B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3D301F0-1D25-4C74-84CB-DFFC0347B6E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8745C1A-B69A-4822-8777-C0192843BFF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28215E3-19D7-4E57-8950-65337C9E15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15044E1-73C2-4465-A7C2-E48DE0A4774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3CA2846-53DA-4359-AE50-7BA6BC5F7EF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934FF-6DF7-4DF3-8107-24120660F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C0CAA6F-3577-4520-A529-576A16806FA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598EC3A-4BA9-4C98-A25A-4B1B238A59B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E60578A-49FA-487A-8CF5-9A5870273B9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C4E858-7A03-4709-B6D7-1B0443EFB75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4E8572C-DE47-4DED-90EE-34CDA6B3370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2FE028F-A2AD-426F-A955-75DC2EF7980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11CFE21-6DB2-4A7C-8DD6-BBDE3AB2F36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D49AA42-632E-49F9-8E77-6AE3CE5F76A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B19FC4-6478-4DA0-BE24-C27A7620E39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3EDCF58-0588-47D7-97D5-5B24ABE4E00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3DC6A-8210-4BE7-8BF2-6BEDACB25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FD1DCFF-94AC-4DC9-971D-9D7DEAB9279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BE0F18C-B9C7-41D6-9E6F-1B6226E62B2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D1C21B6-7F04-4E88-93B1-94BF06B483E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5D0BAFC-6D1F-469E-943B-7E2D8445C1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99EFDD4-213D-48D5-A86E-FE2CC2FDA04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2560D7D-77DE-42BA-863F-54A0E331A79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058C8F7-137F-4879-A861-B8F872C4759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1125297-5D49-4391-A739-3CD66651A9A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A048A0A-3470-4945-BDD8-910B4D0C457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AA64764-4C8D-4499-B110-143C365DD00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1DDE8-85CD-4D3F-9FB2-512219103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BB4C6E2-33D2-40A9-A984-A4CE964BCDB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A028223-6DB2-4725-B801-984D0DF07E7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540433C-E532-4443-A0DB-FC0AC17B16C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A1FC3A3-9A8C-486E-A664-AD723FD5994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AE4F084-D77A-42C8-B999-26D88DBEF17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D8D20C7-08B4-40A2-BDFB-F01BF3B4DBC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B6D6645-6CB0-4B0F-BA47-622FE2EEC6C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859AE7A-441F-4EE3-886C-64320E26BE8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00DA6FD-B63A-4AD5-A01D-59A394B9B3A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94FB829-27D0-43E9-AA3F-74550083F71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CFAB3-F9AE-48B7-BEAB-0BCA2FC7E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3881179-439F-4A2A-9257-396964AD6F0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F3C9F38-E3EE-4962-9E93-C08A95A96D8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18BA54B-C5DF-4B2B-80EE-196530CF683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CD10D38-3DB0-4627-B3BF-F9796568DD7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57BA1A0-A92F-45C9-8D27-86144B0F1F6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04FC5ED-1093-455F-8744-95CA47F0044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5D4BE33-61AB-4FC0-AA94-A2E4E13F4CD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50831A8-797B-4441-BCDC-329BDB9E4D1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5551538-A7F3-4DB6-8F1B-14635666FAC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814D883-411C-4E41-B75D-93D70F5D36F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132C67-E535-4C03-8707-0064243A79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13607D3-9BCC-40CC-865F-76083C1A430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9DA7CD8-5DE1-498B-8422-F59B6188A01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3AC062A-A6CA-4806-B76A-6E5B5C6C5F2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27B51DB-F94D-4E6B-9B7F-3AE8AD865AD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76E15FC-FB43-4290-891D-1F3A362BFE8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3E6B77A-6723-42E2-AFF5-83B8E6A6854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D737756-541D-4ECD-A4BD-A366013CA3C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585DAB6-F0FB-4F21-B0F4-F21E258B0DB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7FC3D78-0600-4222-A73E-E81CB4ED412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DE2EF60-1DFB-43A9-B9BC-34E0D967391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5C402F-4F03-40EA-A146-ED7914BBA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0A92C8A-A6F7-4E63-8C42-A5F3E59FA62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1C91A31-70F3-4FEB-962C-D9BC8082ABC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5F8B882-CBE7-4661-BABE-FBEFD13C378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93579BF-A963-4A51-94B3-F325BDCCB1B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2C7D28E9-BF5F-4F56-B82A-702D2D39284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E4DC7FB-9BD9-4183-87B5-A118717AAA9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64CD33A-A7D8-408E-B044-0C636A504A8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309CE48-540C-47AF-AAC5-E1597ADD01F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3B2007A-6A5B-4FB1-9CEE-6A0854443C7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0CB0F18-B19A-45B1-B3A3-E10D688AE45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0193A-B70A-4C2D-A6FD-D178570ED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4D410D0-7C84-4315-A511-12B3F7037B1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5EF4053-270B-4C63-8798-D1D510F51C2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863FA57-078F-4589-B1C3-F011C73E35E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DA500BA-5B40-44C1-BA45-F7BAE69F182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896004A-4446-43FD-A0C1-11053AFAED8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A2F5F38-07E8-4758-A919-BCFA57825DB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51265DF-9A37-4DD9-B0C7-1F8BB9BF627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FDB00EF-13C2-445D-AC5C-06D6B5C0D21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21DE4DA-260A-48D5-8998-C52A716D6A6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439BD3F-92F9-4FD7-BF07-5B0900EECD9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79F1E-5B0E-414D-B4BA-762847FC5F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95FCF61-A680-4AE8-AD9A-BCC63AFB7CD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BC2E80A-80CD-46B2-8DEE-127E5DF6707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9F88C74-8C2D-44A8-96CC-1600D3F7C80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272D3EB-BC7B-4300-83EF-22EB0B4A44F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9585E92-412C-44E8-B8F3-2A9BD09EDC6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F939F75-4302-4354-9789-D2056B01630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326E5F6-516C-497D-984E-B550ADC2A8B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D8DDA30-E046-4426-9949-8B9B27AAFEB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BF5BD82-497E-45A3-9F58-D56C5859D07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33EED0C-F9CE-4ADF-9BB3-BD723978B7A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08A593-3FF5-46FC-B111-78217B19B6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85563FA-C2F6-4A92-9E69-16E11034ADC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6498ACD-701D-4D32-848D-CC1F3FF86EE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79C288B-3F05-47DC-B103-FA966A2A384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FC606EE-BAF4-4557-969C-82BD8CF6B24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0B58A84-4987-4272-B52B-33A8DAC8BD6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D7BB74C-C312-42E1-94BC-0263B6EB8C7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0E243D3-6C14-49F4-A8C6-BDD1EF953A6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3612326-239A-44E5-BA93-CF7E17F1357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024EBE8-F531-4498-ADCE-9152E6D62A1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AD4FD3F-D3D0-405A-9C03-C163923BC451}"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84896-43CA-4566-AD7A-2F5F71DDD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364B82-ECBE-41BD-B6DB-5053109635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83A6FC0-A07C-40DA-92B6-975CB6F1CA3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DC3C4C9E-B452-430E-8A71-211F9202D3D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EA42A31-35DE-4BC0-958C-8DC0362C465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6CF7B07-4031-4B41-846E-F6D3190C129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64BAA53-BBE7-4872-8232-BCF5E1F9285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3CA566C-EA87-484E-B2AB-2B09DCB0A2E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BA8B327-0C0E-4879-81BE-0B8F9977814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3055926-E712-4D68-9386-6FAA406F28B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58776C2-9856-44A2-9B91-00A79229ABE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AEDDB8F-2B88-49C8-8814-0046138485F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533C7-EE40-4E06-9319-F596D1955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3FD8F55-E05E-4505-9BB4-F51CB0C8403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C6637C5-1148-42C0-894E-5EF3F4BD4EE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AAB7C36-51D6-4928-BDF3-51C19854E5C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12420E1-D8F2-4671-ADF0-97194E5F985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D635F40-019B-4D06-AE15-71EEC433A91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3F60CE2-1BA4-4D48-869C-01E25750D7B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10848CC-01CA-495B-B658-16F014725C0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DC9A757-529C-4FFC-ACA5-4F788C69AA2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9A3F407-E46D-4CAB-9B46-3180B7F7FB8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35134BB-A571-4A20-ACC6-9741028BCF1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0CA0E-768E-4018-8FAA-8DF6AADDE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6042953-A479-4DFC-B6EA-D671183AC34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C4BE2E2-BB39-4F30-AC34-CD8A8D4CAF4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A255A74-A4AF-4CFC-8BA9-4BB39809547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75C5672-C709-46BE-837F-C191C674018A}"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2EFB56A-4682-4281-AB8E-D6C3A1B331C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83979E6-5991-4050-8B53-C055334D27F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2579589-19C9-43D1-94BB-3B594FC9594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AFA6F23-A370-48B2-B1EF-44B88F793AD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4F8CE7B-6D9F-4606-AD92-4F2D12402FE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1F4DCF0-F176-49C4-8A27-D1470148DC5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5F462-74A3-49A2-B725-471494EA8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F669025-7FD4-4B41-AA0A-D19D75CD717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E26D8CC-5B46-45B1-917D-852FBB28642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32F3FB5-0A26-4062-86D3-57AF998C4C4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E0AE169-EDF5-4974-B529-48EA8916B72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514800D-7D9E-4086-94A6-11587D2C772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79E2247-0964-413C-A44D-34507AACB69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EAD04F2-7767-4AD6-90E7-703F08EEEAE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594C803-8DCE-4C0F-AED4-CFBBA3D7322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12044C1-3709-4EF6-8FF6-4D8668D94F3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066D8D4-B35F-4318-984C-82E7FAA14BC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16450-CBA1-4775-94EC-9774A3B2AB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3B152EC-BF15-43E3-B7F1-F98F10CA2D8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F854BD9-D9AA-4775-BFE2-CC9D5073AE3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CB177CF-82B6-4383-8F4A-70B881DF70B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F1AB87C-EB10-4E54-B0BF-A1651A67690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B8928FD-CE60-4219-9DAE-EC545C700DB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05E9863-D278-40AC-BCFB-B0F85B062F0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9B5E393-FA74-4033-8737-3E5B9DBD806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27328C3B-6BD8-4DB7-B6F6-10786B7AEB1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4F209F5-FEEF-4565-A0E6-CB8A6E11E30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5D80F65-2C31-407F-A746-9D9D2D3808C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275D92-5FCA-4793-AF21-0C3C3F59F7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BD998DA-AE24-45AD-A05C-B32AF0C2053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B8C6952-3AFC-4E3C-A7CE-0FE57C29224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6E3FCFC-0328-43D8-A09E-7E36B224443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F129DAC-6560-4AA9-9728-4B54A262368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FD9D978-3929-4F8C-88DD-D6C90FD6F7C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A6E489B-1ECF-4995-905D-EE01356D3B2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3A3FDBF-579C-40B4-B711-0B07856A73C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1D0F7C3-0B1C-43CF-8379-53E0208C73D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6C39635-C5C2-420E-9072-65E00309A20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4915544-C196-4015-992E-7B3BBCE3843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9A4D7E-2FEE-410F-BE39-942A7DB20B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4A78DD1-BB28-4EAE-99E0-B229F279CA1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D09EBA-ED3F-4522-AA49-CFE1F65F5F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9F649E-835E-4A9D-AFEA-FE8BE1A5E3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DE2FA9-3461-43D4-AADE-50941494AF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C300F-CBAA-421C-9FF7-D54BF15CF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4F7891-0964-4C40-8308-7C2AAB6CBF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DA5500-B1ED-4DB6-BDA2-7B95A1E179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70A855-70AE-4E54-9E35-93186D3BC9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F6E9BA-B1D2-4131-9FC6-B60D081DC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C8215-623B-4EC1-BD34-EC0EF05B9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5915C8-1170-4080-9C35-192D71F06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51B447-EEA6-43D4-B200-319368BD80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4115F6-95B6-481A-8D00-3FAB6C0E9A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3DCD6B-8492-4E36-A8F8-6E7D95EF3F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48C04D-B99A-41AA-B64F-27FE52ACB1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B7662-CC07-4AF9-9C3F-296200D20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44ED4B-28B1-42B8-9905-396260AC80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5A3EBD-D623-4046-A951-4F562CAC01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E0E736-86E5-4B02-A18E-437184ED09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AFB6F7-76AA-46AB-A11A-1E5E83711E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CBB27D-E5F8-48FD-9219-3D3F3E2D14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9CBB6-45BE-4B74-8C25-9025A1F935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50575-D45A-4E0B-B188-8BC7D1809D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9C1C0D-EE67-4976-BB0D-F5DF3A451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0F9DFB-859C-4951-9F92-D7D51BABF8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60C6F8-6D39-4C0A-BEC4-94B09AB1FC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92949-2A17-47D1-AC8A-0C5E06A7D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267A9B-9925-44A1-A106-8EF52443D7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2E5276-9813-48FC-8B20-847AFC4CBD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E8F223-0EE3-4666-8210-5148F955A1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8F8538-A15D-4F70-9C08-292AF2EE8E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A1E64A-60D3-4B3D-9BF2-1BC5E405FF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9181DA-9E02-4E9B-AC15-45581A2585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C0C4B2-9129-487D-A048-1604AECE16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D94049-AEA8-4AB2-8116-73123FC4E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851A45-EA61-4C2A-AFB0-40107D9732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BEF20-3E5A-416C-A4A6-1A494513B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F7756-4536-488F-B2CD-A8774302E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29F220-1BD7-42C0-B1B2-F2C4C70886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FB08BE-998E-4627-8837-8444F70C59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DC149C-6BED-4E0F-8AFB-7EFC042840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53B339-0D46-45D0-82DD-848819C45B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1EA28-898F-4A53-B904-4D859D5B47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E9F03A-0D26-4055-8C3A-AE176CE3B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8FEBA0-6D31-4B63-8849-4DADEAC968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E2A9F3-AEE1-4EE5-A4F5-76251A05CE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E9DAA8-14FF-4E21-80C1-DA579ED1DD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CCE44C-B701-4ACC-94A5-9E400BB4BA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E6230-E707-472D-87EF-931297765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30A42F-B181-4029-A7BD-B3CC4260A8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1B401-EF89-429F-83A4-44954D270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E387A7-2215-43D9-A026-CBD1698460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5D3ED3-59D4-470C-9214-17B10E7CBE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EC06B5-D4F0-4DFC-98F0-86B2033D53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54A03B-24BC-47AF-B1D8-DD62924DE2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9FA97B-B4E0-4A01-955F-583B5ADC82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DE7BE0-61DE-4A85-8F1D-896074F969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F99D42-0A42-4CCC-861B-59161CBAF0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6EF323-99A9-431E-9550-DAC2362473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DA3F8-F34D-4726-9ED1-B3A8EA40F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3E4405-D512-4FEB-8A74-1A82401143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D43E6D-4031-4615-8321-7AD4B13F1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EABE2-7143-464D-BD30-7344B03DAD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B9FCAF-FC9B-4213-8F2F-2C779C3533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7D2879-A249-4BA8-BA2D-665FF29891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E1094D-9D6D-4603-B6E6-1396069FE2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169A32-D5AA-4FFA-8095-038ADCBCDA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6B32D0-C2D5-48FB-AB9A-12EB91474D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42AECE-9AC0-483A-8A92-12BE51EE0C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9F17BE-22DB-43B4-A0AA-D858EF7220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64B0-8520-40A4-AF65-BC3B290E3E21}"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Group 2"/>
          <p:cNvGrpSpPr/>
          <p:nvPr/>
        </p:nvGrpSpPr>
        <p:grpSpPr>
          <a:xfrm>
            <a:off x="0" y="152280"/>
            <a:ext cx="8686800" cy="6096240"/>
            <a:chOff x="0" y="152280"/>
            <a:chExt cx="8686800" cy="6096240"/>
          </a:xfrm>
        </p:grpSpPr>
        <p:sp>
          <p:nvSpPr>
            <p:cNvPr id="41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1805-627A-4C71-8AC2-38D0F55B00E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Group 2"/>
          <p:cNvGrpSpPr/>
          <p:nvPr/>
        </p:nvGrpSpPr>
        <p:grpSpPr>
          <a:xfrm>
            <a:off x="0" y="152280"/>
            <a:ext cx="8686800" cy="6096240"/>
            <a:chOff x="0" y="152280"/>
            <a:chExt cx="8686800" cy="6096240"/>
          </a:xfrm>
        </p:grpSpPr>
        <p:sp>
          <p:nvSpPr>
            <p:cNvPr id="45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E953-1BFE-4B5B-9A57-6616507B81C8}"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
          <p:cNvGrpSpPr/>
          <p:nvPr/>
        </p:nvGrpSpPr>
        <p:grpSpPr>
          <a:xfrm>
            <a:off x="0" y="152280"/>
            <a:ext cx="8686800" cy="6096240"/>
            <a:chOff x="0" y="152280"/>
            <a:chExt cx="8686800" cy="6096240"/>
          </a:xfrm>
        </p:grpSpPr>
        <p:sp>
          <p:nvSpPr>
            <p:cNvPr id="50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1321-57B6-4715-9495-6855AA234F26}"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2"/>
          <p:cNvGrpSpPr/>
          <p:nvPr/>
        </p:nvGrpSpPr>
        <p:grpSpPr>
          <a:xfrm>
            <a:off x="0" y="152280"/>
            <a:ext cx="8686800" cy="6096240"/>
            <a:chOff x="0" y="152280"/>
            <a:chExt cx="8686800" cy="6096240"/>
          </a:xfrm>
        </p:grpSpPr>
        <p:sp>
          <p:nvSpPr>
            <p:cNvPr id="54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5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CA3D-0075-4FB7-B051-1FA5E5B4560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Group 2"/>
          <p:cNvGrpSpPr/>
          <p:nvPr/>
        </p:nvGrpSpPr>
        <p:grpSpPr>
          <a:xfrm>
            <a:off x="0" y="152280"/>
            <a:ext cx="8686800" cy="6096240"/>
            <a:chOff x="0" y="152280"/>
            <a:chExt cx="8686800" cy="6096240"/>
          </a:xfrm>
        </p:grpSpPr>
        <p:sp>
          <p:nvSpPr>
            <p:cNvPr id="59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9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22FF-E2EE-4B6A-A4FC-E5049EC777ED}"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8" name="Group 2"/>
          <p:cNvGrpSpPr/>
          <p:nvPr/>
        </p:nvGrpSpPr>
        <p:grpSpPr>
          <a:xfrm>
            <a:off x="0" y="152280"/>
            <a:ext cx="8686800" cy="6096240"/>
            <a:chOff x="0" y="152280"/>
            <a:chExt cx="8686800" cy="6096240"/>
          </a:xfrm>
        </p:grpSpPr>
        <p:sp>
          <p:nvSpPr>
            <p:cNvPr id="63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4"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C8D9-CCA6-453F-9DB7-6253DA794F80}"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2"/>
          <p:cNvGrpSpPr/>
          <p:nvPr/>
        </p:nvGrpSpPr>
        <p:grpSpPr>
          <a:xfrm>
            <a:off x="0" y="152280"/>
            <a:ext cx="8686800" cy="6096240"/>
            <a:chOff x="0" y="152280"/>
            <a:chExt cx="8686800" cy="6096240"/>
          </a:xfrm>
        </p:grpSpPr>
        <p:sp>
          <p:nvSpPr>
            <p:cNvPr id="68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8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9"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2970-41CC-4AE8-BC76-9A45AE94B882}"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17"/>
          <p:cNvGrpSpPr/>
          <p:nvPr/>
        </p:nvGrpSpPr>
        <p:grpSpPr>
          <a:xfrm>
            <a:off x="-7920" y="-7920"/>
            <a:ext cx="9169560" cy="6873840"/>
            <a:chOff x="-7920" y="-7920"/>
            <a:chExt cx="9169560" cy="6873840"/>
          </a:xfrm>
        </p:grpSpPr>
        <p:sp>
          <p:nvSpPr>
            <p:cNvPr id="729" name="Straight Connector 18"/>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Straight Connector 19"/>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0"/>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1"/>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22"/>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23"/>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4"/>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5"/>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6"/>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4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1"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F046-A734-4A6D-A7B7-A27BA98C3E8C}"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0" name="Group 16"/>
          <p:cNvGrpSpPr/>
          <p:nvPr/>
        </p:nvGrpSpPr>
        <p:grpSpPr>
          <a:xfrm>
            <a:off x="-7920" y="-7920"/>
            <a:ext cx="9169560" cy="6873840"/>
            <a:chOff x="-7920" y="-7920"/>
            <a:chExt cx="9169560" cy="6873840"/>
          </a:xfrm>
        </p:grpSpPr>
        <p:sp>
          <p:nvSpPr>
            <p:cNvPr id="78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9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3" name="PlaceHolder 3"/>
          <p:cNvSpPr>
            <a:spLocks noGrp="1"/>
          </p:cNvSpPr>
          <p:nvPr>
            <p:ph type="dt" idx="5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PlaceHolder 4"/>
          <p:cNvSpPr>
            <a:spLocks noGrp="1"/>
          </p:cNvSpPr>
          <p:nvPr>
            <p:ph type="ftr" idx="5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5"/>
          <p:cNvSpPr>
            <a:spLocks noGrp="1"/>
          </p:cNvSpPr>
          <p:nvPr>
            <p:ph type="sldNum" idx="5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A1D4-285F-47C5-B801-68125F5B8727}"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2" name="Group 16"/>
          <p:cNvGrpSpPr/>
          <p:nvPr/>
        </p:nvGrpSpPr>
        <p:grpSpPr>
          <a:xfrm>
            <a:off x="-7920" y="-7920"/>
            <a:ext cx="9169560" cy="6873840"/>
            <a:chOff x="-7920" y="-7920"/>
            <a:chExt cx="9169560" cy="6873840"/>
          </a:xfrm>
        </p:grpSpPr>
        <p:sp>
          <p:nvSpPr>
            <p:cNvPr id="83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5" name="PlaceHolder 3"/>
          <p:cNvSpPr>
            <a:spLocks noGrp="1"/>
          </p:cNvSpPr>
          <p:nvPr>
            <p:ph type="dt" idx="5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C970-BE7E-4AFD-95F5-81A00AC4342B}"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6"/>
          <p:cNvGrpSpPr/>
          <p:nvPr/>
        </p:nvGrpSpPr>
        <p:grpSpPr>
          <a:xfrm>
            <a:off x="-7920" y="-7920"/>
            <a:ext cx="9169560" cy="6873840"/>
            <a:chOff x="-7920" y="-7920"/>
            <a:chExt cx="9169560" cy="6873840"/>
          </a:xfrm>
        </p:grpSpPr>
        <p:sp>
          <p:nvSpPr>
            <p:cNvPr id="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7"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18EA-3D62-43E7-BBF4-31E7DB24A40A}"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Group 16"/>
          <p:cNvGrpSpPr/>
          <p:nvPr/>
        </p:nvGrpSpPr>
        <p:grpSpPr>
          <a:xfrm>
            <a:off x="-7920" y="-7920"/>
            <a:ext cx="9169560" cy="6873840"/>
            <a:chOff x="-7920" y="-7920"/>
            <a:chExt cx="9169560" cy="6873840"/>
          </a:xfrm>
        </p:grpSpPr>
        <p:sp>
          <p:nvSpPr>
            <p:cNvPr id="8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97" name="PlaceHolder 3"/>
          <p:cNvSpPr>
            <a:spLocks noGrp="1"/>
          </p:cNvSpPr>
          <p:nvPr>
            <p:ph type="dt" idx="5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5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6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590A-B16D-4D4A-9AD1-300572F6D047}"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16"/>
          <p:cNvGrpSpPr/>
          <p:nvPr/>
        </p:nvGrpSpPr>
        <p:grpSpPr>
          <a:xfrm>
            <a:off x="-7920" y="-7920"/>
            <a:ext cx="9169560" cy="6873840"/>
            <a:chOff x="-7920" y="-7920"/>
            <a:chExt cx="9169560" cy="6873840"/>
          </a:xfrm>
        </p:grpSpPr>
        <p:sp>
          <p:nvSpPr>
            <p:cNvPr id="9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49" name="PlaceHolder 3"/>
          <p:cNvSpPr>
            <a:spLocks noGrp="1"/>
          </p:cNvSpPr>
          <p:nvPr>
            <p:ph type="dt" idx="6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6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2724-4023-4ED7-8BE7-5D28E9F60C5A}"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8" name="Group 16"/>
          <p:cNvGrpSpPr/>
          <p:nvPr/>
        </p:nvGrpSpPr>
        <p:grpSpPr>
          <a:xfrm>
            <a:off x="-7920" y="-7920"/>
            <a:ext cx="9169560" cy="6873840"/>
            <a:chOff x="-7920" y="-7920"/>
            <a:chExt cx="9169560" cy="6873840"/>
          </a:xfrm>
        </p:grpSpPr>
        <p:sp>
          <p:nvSpPr>
            <p:cNvPr id="98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0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01" name="PlaceHolder 3"/>
          <p:cNvSpPr>
            <a:spLocks noGrp="1"/>
          </p:cNvSpPr>
          <p:nvPr>
            <p:ph type="dt" idx="6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4"/>
          <p:cNvSpPr>
            <a:spLocks noGrp="1"/>
          </p:cNvSpPr>
          <p:nvPr>
            <p:ph type="ftr" idx="6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PlaceHolder 5"/>
          <p:cNvSpPr>
            <a:spLocks noGrp="1"/>
          </p:cNvSpPr>
          <p:nvPr>
            <p:ph type="sldNum" idx="6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6091-B08B-4BA4-826F-A26199F7D00F}"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Group 16"/>
          <p:cNvGrpSpPr/>
          <p:nvPr/>
        </p:nvGrpSpPr>
        <p:grpSpPr>
          <a:xfrm>
            <a:off x="-7920" y="-7920"/>
            <a:ext cx="9169560" cy="6873840"/>
            <a:chOff x="-7920" y="-7920"/>
            <a:chExt cx="9169560" cy="6873840"/>
          </a:xfrm>
        </p:grpSpPr>
        <p:sp>
          <p:nvSpPr>
            <p:cNvPr id="104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53" name="PlaceHolder 3"/>
          <p:cNvSpPr>
            <a:spLocks noGrp="1"/>
          </p:cNvSpPr>
          <p:nvPr>
            <p:ph type="dt" idx="6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4"/>
          <p:cNvSpPr>
            <a:spLocks noGrp="1"/>
          </p:cNvSpPr>
          <p:nvPr>
            <p:ph type="ftr" idx="6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PlaceHolder 5"/>
          <p:cNvSpPr>
            <a:spLocks noGrp="1"/>
          </p:cNvSpPr>
          <p:nvPr>
            <p:ph type="sldNum" idx="6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BECC-5C16-4DCD-99D8-325143225712}"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Group 16"/>
          <p:cNvGrpSpPr/>
          <p:nvPr/>
        </p:nvGrpSpPr>
        <p:grpSpPr>
          <a:xfrm>
            <a:off x="-7920" y="-7920"/>
            <a:ext cx="9169560" cy="6873840"/>
            <a:chOff x="-7920" y="-7920"/>
            <a:chExt cx="9169560" cy="6873840"/>
          </a:xfrm>
        </p:grpSpPr>
        <p:sp>
          <p:nvSpPr>
            <p:cNvPr id="109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0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05" name="PlaceHolder 3"/>
          <p:cNvSpPr>
            <a:spLocks noGrp="1"/>
          </p:cNvSpPr>
          <p:nvPr>
            <p:ph type="dt" idx="7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PlaceHolder 4"/>
          <p:cNvSpPr>
            <a:spLocks noGrp="1"/>
          </p:cNvSpPr>
          <p:nvPr>
            <p:ph type="ftr" idx="7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PlaceHolder 5"/>
          <p:cNvSpPr>
            <a:spLocks noGrp="1"/>
          </p:cNvSpPr>
          <p:nvPr>
            <p:ph type="sldNum" idx="7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9811-7CBF-4CEF-B297-1EDDAAD9E924}"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4" name="Group 16"/>
          <p:cNvGrpSpPr/>
          <p:nvPr/>
        </p:nvGrpSpPr>
        <p:grpSpPr>
          <a:xfrm>
            <a:off x="-7920" y="-7920"/>
            <a:ext cx="9169560" cy="6873840"/>
            <a:chOff x="-7920" y="-7920"/>
            <a:chExt cx="9169560" cy="6873840"/>
          </a:xfrm>
        </p:grpSpPr>
        <p:sp>
          <p:nvSpPr>
            <p:cNvPr id="114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5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57" name="PlaceHolder 3"/>
          <p:cNvSpPr>
            <a:spLocks noGrp="1"/>
          </p:cNvSpPr>
          <p:nvPr>
            <p:ph type="dt" idx="7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4"/>
          <p:cNvSpPr>
            <a:spLocks noGrp="1"/>
          </p:cNvSpPr>
          <p:nvPr>
            <p:ph type="ftr" idx="7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PlaceHolder 5"/>
          <p:cNvSpPr>
            <a:spLocks noGrp="1"/>
          </p:cNvSpPr>
          <p:nvPr>
            <p:ph type="sldNum" idx="7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53DA-E449-46F2-BABC-F72399E602D2}"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6" name="Group 16"/>
          <p:cNvGrpSpPr/>
          <p:nvPr/>
        </p:nvGrpSpPr>
        <p:grpSpPr>
          <a:xfrm>
            <a:off x="-7920" y="-7920"/>
            <a:ext cx="9169560" cy="6873840"/>
            <a:chOff x="-7920" y="-7920"/>
            <a:chExt cx="9169560" cy="6873840"/>
          </a:xfrm>
        </p:grpSpPr>
        <p:sp>
          <p:nvSpPr>
            <p:cNvPr id="119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8"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1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11" name="PlaceHolder 3"/>
          <p:cNvSpPr>
            <a:spLocks noGrp="1"/>
          </p:cNvSpPr>
          <p:nvPr>
            <p:ph type="dt" idx="7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7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7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8B2F-344B-4627-9062-296E337C0F3B}"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Group 16"/>
          <p:cNvGrpSpPr/>
          <p:nvPr/>
        </p:nvGrpSpPr>
        <p:grpSpPr>
          <a:xfrm>
            <a:off x="-7920" y="-7920"/>
            <a:ext cx="9169560" cy="6873840"/>
            <a:chOff x="-7920" y="-7920"/>
            <a:chExt cx="9169560" cy="6873840"/>
          </a:xfrm>
        </p:grpSpPr>
        <p:sp>
          <p:nvSpPr>
            <p:cNvPr id="125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65" name="PlaceHolder 3"/>
          <p:cNvSpPr>
            <a:spLocks noGrp="1"/>
          </p:cNvSpPr>
          <p:nvPr>
            <p:ph type="dt" idx="7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5"/>
          <p:cNvSpPr>
            <a:spLocks noGrp="1"/>
          </p:cNvSpPr>
          <p:nvPr>
            <p:ph type="sldNum" idx="8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C421-5727-49DD-A9C8-DD1D055F6F1A}"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16"/>
          <p:cNvGrpSpPr/>
          <p:nvPr/>
        </p:nvGrpSpPr>
        <p:grpSpPr>
          <a:xfrm>
            <a:off x="-7920" y="-7920"/>
            <a:ext cx="9169560" cy="6873840"/>
            <a:chOff x="-7920" y="-7920"/>
            <a:chExt cx="9169560" cy="6873840"/>
          </a:xfrm>
        </p:grpSpPr>
        <p:sp>
          <p:nvSpPr>
            <p:cNvPr id="13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17" name="PlaceHolder 3"/>
          <p:cNvSpPr>
            <a:spLocks noGrp="1"/>
          </p:cNvSpPr>
          <p:nvPr>
            <p:ph type="dt" idx="8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4"/>
          <p:cNvSpPr>
            <a:spLocks noGrp="1"/>
          </p:cNvSpPr>
          <p:nvPr>
            <p:ph type="ftr" idx="8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5"/>
          <p:cNvSpPr>
            <a:spLocks noGrp="1"/>
          </p:cNvSpPr>
          <p:nvPr>
            <p:ph type="sldNum" idx="8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879F-C617-43E4-BF36-D77D32FB6829}"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Group 16"/>
          <p:cNvGrpSpPr/>
          <p:nvPr/>
        </p:nvGrpSpPr>
        <p:grpSpPr>
          <a:xfrm>
            <a:off x="-7920" y="-7920"/>
            <a:ext cx="9169560" cy="6873840"/>
            <a:chOff x="-7920" y="-7920"/>
            <a:chExt cx="9169560" cy="6873840"/>
          </a:xfrm>
        </p:grpSpPr>
        <p:sp>
          <p:nvSpPr>
            <p:cNvPr id="13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69" name="PlaceHolder 3"/>
          <p:cNvSpPr>
            <a:spLocks noGrp="1"/>
          </p:cNvSpPr>
          <p:nvPr>
            <p:ph type="dt" idx="8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4"/>
          <p:cNvSpPr>
            <a:spLocks noGrp="1"/>
          </p:cNvSpPr>
          <p:nvPr>
            <p:ph type="ftr" idx="8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PlaceHolder 5"/>
          <p:cNvSpPr>
            <a:spLocks noGrp="1"/>
          </p:cNvSpPr>
          <p:nvPr>
            <p:ph type="sldNum" idx="8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47D5-37D7-4C4D-B9A8-A7484CF5B4AC}"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0" y="927000"/>
            <a:ext cx="8991720" cy="4496040"/>
            <a:chOff x="0" y="927000"/>
            <a:chExt cx="8991720" cy="4496040"/>
          </a:xfrm>
        </p:grpSpPr>
        <p:sp>
          <p:nvSpPr>
            <p:cNvPr id="98"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999"/>
                    <a:pt x="4417"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0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05BE-8000-4715-8D43-51692D64A50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8" name="Group 16"/>
          <p:cNvGrpSpPr/>
          <p:nvPr/>
        </p:nvGrpSpPr>
        <p:grpSpPr>
          <a:xfrm>
            <a:off x="-7920" y="-7920"/>
            <a:ext cx="9169560" cy="6873840"/>
            <a:chOff x="-7920" y="-7920"/>
            <a:chExt cx="9169560" cy="6873840"/>
          </a:xfrm>
        </p:grpSpPr>
        <p:sp>
          <p:nvSpPr>
            <p:cNvPr id="14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21" name="PlaceHolder 3"/>
          <p:cNvSpPr>
            <a:spLocks noGrp="1"/>
          </p:cNvSpPr>
          <p:nvPr>
            <p:ph type="dt" idx="8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4"/>
          <p:cNvSpPr>
            <a:spLocks noGrp="1"/>
          </p:cNvSpPr>
          <p:nvPr>
            <p:ph type="ftr" idx="8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PlaceHolder 5"/>
          <p:cNvSpPr>
            <a:spLocks noGrp="1"/>
          </p:cNvSpPr>
          <p:nvPr>
            <p:ph type="sldNum" idx="9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65DA3-B512-4679-BD7B-2C7E3684F8AD}"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152280"/>
            <a:ext cx="8686800" cy="6096240"/>
            <a:chOff x="0" y="152280"/>
            <a:chExt cx="8686800" cy="6096240"/>
          </a:xfrm>
        </p:grpSpPr>
        <p:sp>
          <p:nvSpPr>
            <p:cNvPr id="14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4ED3-2E5D-4064-B054-EB276B2EA368}"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2"/>
          <p:cNvGrpSpPr/>
          <p:nvPr/>
        </p:nvGrpSpPr>
        <p:grpSpPr>
          <a:xfrm>
            <a:off x="0" y="152280"/>
            <a:ext cx="8686800" cy="6096240"/>
            <a:chOff x="0" y="152280"/>
            <a:chExt cx="8686800" cy="6096240"/>
          </a:xfrm>
        </p:grpSpPr>
        <p:sp>
          <p:nvSpPr>
            <p:cNvPr id="18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D592-15B1-480A-B471-7C2977B05CA6}"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2"/>
          <p:cNvGrpSpPr/>
          <p:nvPr/>
        </p:nvGrpSpPr>
        <p:grpSpPr>
          <a:xfrm>
            <a:off x="0" y="152280"/>
            <a:ext cx="8686800" cy="6096240"/>
            <a:chOff x="0" y="152280"/>
            <a:chExt cx="8686800" cy="6096240"/>
          </a:xfrm>
        </p:grpSpPr>
        <p:sp>
          <p:nvSpPr>
            <p:cNvPr id="23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4552-CE75-4F5A-B475-9EED5BAD93FB}"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Group 2"/>
          <p:cNvGrpSpPr/>
          <p:nvPr/>
        </p:nvGrpSpPr>
        <p:grpSpPr>
          <a:xfrm>
            <a:off x="0" y="152280"/>
            <a:ext cx="8686800" cy="6096240"/>
            <a:chOff x="0" y="152280"/>
            <a:chExt cx="8686800" cy="6096240"/>
          </a:xfrm>
        </p:grpSpPr>
        <p:sp>
          <p:nvSpPr>
            <p:cNvPr id="27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8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F648-8F0F-42AA-BA4A-B56B54A02138}"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Group 2"/>
          <p:cNvGrpSpPr/>
          <p:nvPr/>
        </p:nvGrpSpPr>
        <p:grpSpPr>
          <a:xfrm>
            <a:off x="0" y="152280"/>
            <a:ext cx="8686800" cy="6096240"/>
            <a:chOff x="0" y="152280"/>
            <a:chExt cx="8686800" cy="6096240"/>
          </a:xfrm>
        </p:grpSpPr>
        <p:sp>
          <p:nvSpPr>
            <p:cNvPr id="32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DFC5-0FE2-401E-B384-0D3982CF321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2"/>
          <p:cNvGrpSpPr/>
          <p:nvPr/>
        </p:nvGrpSpPr>
        <p:grpSpPr>
          <a:xfrm>
            <a:off x="0" y="152280"/>
            <a:ext cx="8686800" cy="6096240"/>
            <a:chOff x="0" y="152280"/>
            <a:chExt cx="8686800" cy="6096240"/>
          </a:xfrm>
        </p:grpSpPr>
        <p:sp>
          <p:nvSpPr>
            <p:cNvPr id="36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7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D0A0-9AE6-46E7-A68C-B395BD45C242}"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Arial"/>
                <a:cs typeface="B Titr"/>
              </a:rPr>
              <a:t>حسابداری مالی</a:t>
            </a:r>
            <a:r>
              <a:rPr b="1" lang="fa-IR" sz="4200" spc="-1" strike="noStrike">
                <a:solidFill>
                  <a:srgbClr val="ffffff"/>
                </a:solidFill>
                <a:latin typeface="Arial"/>
                <a:ea typeface="B Titr"/>
              </a:rPr>
              <a:t>1</a:t>
            </a:r>
            <a:endParaRPr b="0" lang="en-US" sz="4200" spc="-1" strike="noStrike">
              <a:solidFill>
                <a:srgbClr val="ffffff"/>
              </a:solidFill>
              <a:latin typeface="Arial"/>
            </a:endParaRPr>
          </a:p>
        </p:txBody>
      </p:sp>
      <p:sp>
        <p:nvSpPr>
          <p:cNvPr id="146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itr"/>
              </a:rPr>
              <a:t>حسابداری حق العمل کاری</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اد: مهسا محمدی</a:t>
            </a:r>
            <a:endParaRPr b="0" lang="en-US" sz="44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29">
                                  <p:stCondLst>
                                    <p:cond delay="0"/>
                                  </p:stCondLst>
                                  <p:childTnLst>
                                    <p:animMotion origin="layout" path="M 0 0 C 0.007 -0.01332 0.014 -0.02797 0.021 -0.04662 C 0.04 -0.09991 0.045 -0.15186 0.031 -0.15985 C 0.017 -0.16918 -0.01 -0.13188 -0.029 -0.07859 C -0.039 -0.05062 -0.045 -0.02398 -0.047 -0.004 C -0.05 0.01199 -0.051 0.02797 -0.051 0.04662 C -0.051 0.10657 -0.038 0.15586 -0.023 0.15586 C -0.008 0.15586 0.005 0.10657 0.005 0.04662 C 0.005 0.01865 0.002 -0.00799 -0.003 -0.02664 C -0.005 -0.04263 -0.01 -0.05994 -0.016 -0.07726 C -0.036 -0.13188 -0.063 -0.16918 -0.077 -0.15985 C -0.091 -0.15053 -0.086 -0.09991 -0.066 -0.04529 C -0.058 -0.01998 -0.047 0.00133 -0.036 0.01599 C -0.028 0.02931 -0.019 0.0413 -0.007 0.05328 C 0.029 0.09191 0.065 0.10923 0.075 0.09325 C 0.084 0.07726 0.064 0.0333 0.028 -0.004 C 0.013 -0.01998 -0.003 -0.03197 -0.016 -0.03996 C -0.028 -0.04796 -0.043 -0.05462 -0.059 -0.05861 C -0.103 -0.07193 -0.141 -0.06794 -0.144 -0.04662 C -0.148 -0.02664 -0.115 0 -0.071 0.01332 C -0.051 0.01865 -0.032 0.02131 -0.017 0.01998 C -0.004 0.01998 0.01 0.01732 0.025 0.01332 C 0.069 0 0.102 -0.02797 0.098 -0.04796 C 0.095 -0.06794 0.057 -0.07327 0.013 -0.05994 C -0.008 -0.05328 -0.027 -0.04396 -0.04 -0.0333 C -0.051 -0.02531 -0.062 -0.01599 -0.074 -0.004 C -0.109 0.03463 -0.13 0.07726 -0.12 0.09325 C -0.111 0.10923 -0.074 0.09191 -0.039 0.05462 C -0.022 0.03597 -0.008 0.01732 0 0 Z">
                                      <p:cBhvr>
                                        <p:cTn id="6" dur="2000" fill="hold"/>
                                        <p:tgtEl>
                                          <p:spTgt spid="1467"/>
                                        </p:tgtEl>
                                      </p:cBhvr>
                                    </p:animMotion>
                                  </p:childTnLst>
                                </p:cTn>
                              </p:par>
                            </p:childTnLst>
                          </p:cTn>
                        </p:par>
                        <p:par>
                          <p:cTn id="7" nodeType="afterEffect" fill="hold">
                            <p:stCondLst>
                              <p:cond delay="2000"/>
                            </p:stCondLst>
                            <p:childTnLst>
                              <p:par>
                                <p:cTn id="8" nodeType="afterEffect" fill="hold" presetClass="emph" presetID="8">
                                  <p:stCondLst>
                                    <p:cond delay="0"/>
                                  </p:stCondLst>
                                  <p:childTnLst>
                                    <p:animRot by="21600000">
                                      <p:cBhvr>
                                        <p:cTn id="9" dur="2000" fill="hold"/>
                                        <p:tgtEl>
                                          <p:spTgt spid="1468">
                                            <p:txEl>
                                              <p:pRg st="1" end="1"/>
                                            </p:txEl>
                                          </p:spTgt>
                                        </p:tgtEl>
                                        <p:attrNameLst>
                                          <p:attrName>r</p:attrName>
                                        </p:attrNameLst>
                                      </p:cBhvr>
                                    </p:animRot>
                                  </p:childTnLst>
                                </p:cTn>
                              </p:par>
                            </p:childTnLst>
                          </p:cTn>
                        </p:par>
                        <p:par>
                          <p:cTn id="10" nodeType="afterEffect" fill="hold">
                            <p:stCondLst>
                              <p:cond delay="4000"/>
                            </p:stCondLst>
                            <p:childTnLst>
                              <p:par>
                                <p:cTn id="11" nodeType="afterEffect" fill="hold" presetClass="emph" presetID="8">
                                  <p:stCondLst>
                                    <p:cond delay="0"/>
                                  </p:stCondLst>
                                  <p:childTnLst>
                                    <p:animRot by="21600000">
                                      <p:cBhvr>
                                        <p:cTn id="12" dur="2000" fill="hold"/>
                                        <p:tgtEl>
                                          <p:spTgt spid="146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لف ) ثبت حسابداری برای عملیات حق العمل کاری به</a:t>
            </a:r>
            <a:r>
              <a:rPr b="1" lang="en-US" sz="1900" spc="-1" strike="noStrike" u="sng">
                <a:solidFill>
                  <a:srgbClr val="90c226"/>
                </a:solidFill>
                <a:uFillTx/>
                <a:latin typeface="Trebuchet MS"/>
                <a:ea typeface="B Titr"/>
              </a:rPr>
              <a:t> </a:t>
            </a:r>
            <a:r>
              <a:rPr b="1" lang="fa-IR" sz="1900" spc="-1" strike="noStrike" u="sng">
                <a:solidFill>
                  <a:srgbClr val="90c226"/>
                </a:solidFill>
                <a:uFillTx/>
                <a:latin typeface="Trebuchet MS"/>
                <a:cs typeface="B Titr"/>
              </a:rPr>
              <a:t>روش بهای تمام شده در دفاتر آمر</a:t>
            </a:r>
            <a:br>
              <a:rPr sz="1900"/>
            </a:br>
            <a:endParaRPr b="0" lang="en-US" sz="1900" spc="-1" strike="noStrike">
              <a:solidFill>
                <a:srgbClr val="90c226"/>
              </a:solidFill>
              <a:latin typeface="Trebuchet MS"/>
            </a:endParaRPr>
          </a:p>
        </p:txBody>
      </p:sp>
      <p:sp>
        <p:nvSpPr>
          <p:cNvPr id="1486"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در این رابطه دو چیز را می خواهد بداند که عبارتند از :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شخص و معین بودن سود یا زیان حاصله از عملیات حق العمل کاری که بوسیله حق العمل کار انجام می شو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تسویه حساب با حق العمل کار یعنی رقمی که باید به عنوان بدهی به آمر بپردازد.</a:t>
            </a:r>
            <a:endParaRPr b="0" lang="en-US" sz="2000" spc="-1" strike="noStrike">
              <a:solidFill>
                <a:srgbClr val="404040"/>
              </a:solidFill>
              <a:latin typeface="Trebuchet MS"/>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رزش کالای فروش نرفته (به بهای فروش ) یا موجودی کالای پایان دوره کالای امانی نزد حق العمل کار</a:t>
            </a:r>
            <a:br>
              <a:rPr sz="1900"/>
            </a:br>
            <a:endParaRPr b="0" lang="en-US" sz="1900" spc="-1" strike="noStrike">
              <a:solidFill>
                <a:srgbClr val="90c226"/>
              </a:solidFill>
              <a:latin typeface="Trebuchet MS"/>
            </a:endParaRPr>
          </a:p>
        </p:txBody>
      </p:sp>
      <p:sp>
        <p:nvSpPr>
          <p:cNvPr id="1488" name=""/>
          <p:cNvSpPr txBox="1"/>
          <p:nvPr/>
        </p:nvSpPr>
        <p:spPr>
          <a:xfrm>
            <a:off x="609120" y="2160360"/>
            <a:ext cx="6348600" cy="3881160"/>
          </a:xfrm>
          <a:prstGeom prst="rect">
            <a:avLst/>
          </a:prstGeom>
          <a:noFill/>
          <a:ln w="0">
            <a:noFill/>
          </a:ln>
        </p:spPr>
        <p:txBody>
          <a:bodyPr anchor="t">
            <a:normAutofit fontScale="91000"/>
          </a:bodyPr>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کالاهای ارسالی از سوی آمر بوسیله حق العمل کار تا پایان دوره مالی بفروش نرسد ، کالای فروش نرفته به حساب آمر منظور می شود. کالای فروش نرفته در اختیار حق العمل کار باید به بهای تمام شده یا قیمت بازار ، هر کدام که کمتر باشد، ارزش گذاری  گردد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شامل کلیه هزینه های غیرتکراری متحمل شده بوسیله آمر و حق العمل کار می باشدونحوه محاسبه آنها به شرح ذیر می باش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لف: به تناسب تعداد فروش نرفته از بهای تمام شده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 به تناسب هزینه های انجام شده بوسیله آمر و حق العمل کار وارد انبار حق العمل کار می گرد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 نزد حق العمل کار = بهای تمام شده آن + تناسبی از هزینه های غیر تکراری</a:t>
            </a:r>
            <a:endParaRPr b="0" lang="en-US" sz="2000" spc="-1" strike="noStrike">
              <a:solidFill>
                <a:srgbClr val="404040"/>
              </a:solidFill>
              <a:latin typeface="Trebuchet MS"/>
            </a:endParaRPr>
          </a:p>
        </p:txBody>
      </p:sp>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در تهران </a:t>
            </a:r>
            <a:r>
              <a:rPr b="1" lang="fa-IR" sz="2200" spc="-1" strike="noStrike">
                <a:solidFill>
                  <a:srgbClr val="404040"/>
                </a:solidFill>
                <a:latin typeface="Trebuchet MS"/>
                <a:ea typeface="B Zar"/>
              </a:rPr>
              <a:t>100</a:t>
            </a:r>
            <a:r>
              <a:rPr b="1" lang="fa-IR" sz="2200" spc="-1" strike="noStrike">
                <a:solidFill>
                  <a:srgbClr val="404040"/>
                </a:solidFill>
                <a:latin typeface="Trebuchet MS"/>
                <a:ea typeface="B Zar"/>
              </a:rPr>
              <a:t> دستگاه دوچرخه که بهای تمام شده آن </a:t>
            </a:r>
            <a:r>
              <a:rPr b="1" lang="fa-IR" sz="2200" spc="-1" strike="noStrike">
                <a:solidFill>
                  <a:srgbClr val="404040"/>
                </a:solidFill>
                <a:latin typeface="Trebuchet MS"/>
                <a:ea typeface="B Zar"/>
              </a:rPr>
              <a:t>9000</a:t>
            </a:r>
            <a:r>
              <a:rPr b="1" lang="fa-IR" sz="2200" spc="-1" strike="noStrike">
                <a:solidFill>
                  <a:srgbClr val="404040"/>
                </a:solidFill>
                <a:latin typeface="Trebuchet MS"/>
                <a:ea typeface="B Zar"/>
              </a:rPr>
              <a:t> ریال است برای حق العمل کار خود در آبادان براساس قرارداد حق العمل کاری ارسال می کند .آقای الف مبلغ </a:t>
            </a:r>
            <a:r>
              <a:rPr b="1" lang="fa-IR" sz="2200" spc="-1" strike="noStrike">
                <a:solidFill>
                  <a:srgbClr val="404040"/>
                </a:solidFill>
                <a:latin typeface="Trebuchet MS"/>
                <a:ea typeface="B Zar"/>
              </a:rPr>
              <a:t>13000</a:t>
            </a:r>
            <a:r>
              <a:rPr b="1" lang="fa-IR" sz="2200" spc="-1" strike="noStrike">
                <a:solidFill>
                  <a:srgbClr val="404040"/>
                </a:solidFill>
                <a:latin typeface="Trebuchet MS"/>
                <a:cs typeface="B Zar"/>
              </a:rPr>
              <a:t>ریال هزینه حمل و </a:t>
            </a:r>
            <a:r>
              <a:rPr b="1" lang="fa-IR" sz="2200" spc="-1" strike="noStrike">
                <a:solidFill>
                  <a:srgbClr val="404040"/>
                </a:solidFill>
                <a:latin typeface="Trebuchet MS"/>
                <a:ea typeface="B Zar"/>
              </a:rPr>
              <a:t>3000</a:t>
            </a:r>
            <a:r>
              <a:rPr b="1" lang="fa-IR" sz="2200" spc="-1" strike="noStrike">
                <a:solidFill>
                  <a:srgbClr val="404040"/>
                </a:solidFill>
                <a:latin typeface="Trebuchet MS"/>
                <a:cs typeface="B Zar"/>
              </a:rPr>
              <a:t>ریال هزینه بارگیری و </a:t>
            </a:r>
            <a:r>
              <a:rPr b="1" lang="fa-IR" sz="2200" spc="-1" strike="noStrike">
                <a:solidFill>
                  <a:srgbClr val="404040"/>
                </a:solidFill>
                <a:latin typeface="Trebuchet MS"/>
                <a:ea typeface="B Zar"/>
              </a:rPr>
              <a:t>4000</a:t>
            </a:r>
            <a:r>
              <a:rPr b="1" lang="fa-IR" sz="2200" spc="-1" strike="noStrike">
                <a:solidFill>
                  <a:srgbClr val="404040"/>
                </a:solidFill>
                <a:latin typeface="Trebuchet MS"/>
                <a:ea typeface="B Zar"/>
              </a:rPr>
              <a:t> ریال بیمه آنرا پرداخت نمو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حق العمل کار آقای ب مبلغ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بابت بارگیری و هزینه تخلیه به مبلغ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ریال آنها را پرداخت نمود . دوچرخه ها در انبار نگهداری می شود و ماهیانه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اجاره انبار را می پردازد . در پایان دوره مالی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دستگاه دوچرخه فروش نرفته است . قیمت فروش دوچرخه در آبادان  </a:t>
            </a:r>
            <a:r>
              <a:rPr b="1" lang="fa-IR" sz="2200" spc="-1" strike="noStrike">
                <a:solidFill>
                  <a:srgbClr val="404040"/>
                </a:solidFill>
                <a:latin typeface="Trebuchet MS"/>
                <a:ea typeface="B Zar"/>
              </a:rPr>
              <a:t>000/1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محاسبه قیمت موجودی کالای پایان دوره نزد حق العمل کار.</a:t>
            </a:r>
            <a:endParaRPr b="0" lang="en-US" sz="2200" spc="-1" strike="noStrike">
              <a:solidFill>
                <a:srgbClr val="404040"/>
              </a:solidFill>
              <a:latin typeface="Trebuchet MS"/>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txBox="1"/>
          <p:nvPr/>
        </p:nvSpPr>
        <p:spPr>
          <a:xfrm>
            <a:off x="609120" y="2160360"/>
            <a:ext cx="6348600" cy="3881160"/>
          </a:xfrm>
          <a:prstGeom prst="rect">
            <a:avLst/>
          </a:prstGeom>
          <a:noFill/>
          <a:ln w="0">
            <a:noFill/>
          </a:ln>
        </p:spPr>
        <p:txBody>
          <a:bodyPr anchor="t">
            <a:normAutofit/>
          </a:bodyPr>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کاشانی کالاهایی را به ارزش </a:t>
            </a:r>
            <a:r>
              <a:rPr b="1" lang="fa-IR" sz="2000" spc="-1" strike="noStrike">
                <a:solidFill>
                  <a:srgbClr val="404040"/>
                </a:solidFill>
                <a:latin typeface="Trebuchet MS"/>
                <a:ea typeface="B Zar"/>
              </a:rPr>
              <a:t>000/25</a:t>
            </a:r>
            <a:r>
              <a:rPr b="1" lang="fa-IR" sz="2000" spc="-1" strike="noStrike">
                <a:solidFill>
                  <a:srgbClr val="404040"/>
                </a:solidFill>
                <a:latin typeface="Trebuchet MS"/>
                <a:ea typeface="B Zar"/>
              </a:rPr>
              <a:t> ریال برای حق العمل کار خود ،نظری ، در اصفهان فرستاد. او بابت حمل ، بیمه و سایر هزینه های دیگر </a:t>
            </a:r>
            <a:r>
              <a:rPr b="1" lang="fa-IR" sz="2000" spc="-1" strike="noStrike">
                <a:solidFill>
                  <a:srgbClr val="404040"/>
                </a:solidFill>
                <a:latin typeface="Trebuchet MS"/>
                <a:ea typeface="B Zar"/>
              </a:rPr>
              <a:t>1500</a:t>
            </a:r>
            <a:r>
              <a:rPr b="1" lang="fa-IR" sz="2000" spc="-1" strike="noStrike">
                <a:solidFill>
                  <a:srgbClr val="404040"/>
                </a:solidFill>
                <a:latin typeface="Trebuchet MS"/>
                <a:ea typeface="B Zar"/>
              </a:rPr>
              <a:t> ریال پرداخت نمود ، حق العمل کار یک سفته </a:t>
            </a:r>
            <a:r>
              <a:rPr b="1" lang="fa-IR" sz="2000" spc="-1" strike="noStrike">
                <a:solidFill>
                  <a:srgbClr val="404040"/>
                </a:solidFill>
                <a:latin typeface="Trebuchet MS"/>
                <a:ea typeface="B Zar"/>
              </a:rPr>
              <a:t>90</a:t>
            </a:r>
            <a:r>
              <a:rPr b="1" lang="fa-IR" sz="2000" spc="-1" strike="noStrike">
                <a:solidFill>
                  <a:srgbClr val="404040"/>
                </a:solidFill>
                <a:latin typeface="Trebuchet MS"/>
                <a:ea typeface="B Zar"/>
              </a:rPr>
              <a:t> روزه به ارزش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برای آمر صادر نمود . آمر سفته دریافتی را نزد بانک با پرداخت کارمزد </a:t>
            </a:r>
            <a:r>
              <a:rPr b="1" lang="fa-IR" sz="2000" spc="-1" strike="noStrike">
                <a:solidFill>
                  <a:srgbClr val="404040"/>
                </a:solidFill>
                <a:latin typeface="Trebuchet MS"/>
                <a:ea typeface="B Zar"/>
              </a:rPr>
              <a:t>150</a:t>
            </a:r>
            <a:r>
              <a:rPr b="1" lang="fa-IR" sz="2000" spc="-1" strike="noStrike">
                <a:solidFill>
                  <a:srgbClr val="404040"/>
                </a:solidFill>
                <a:latin typeface="Trebuchet MS"/>
                <a:ea typeface="B Zar"/>
              </a:rPr>
              <a:t> ریال نقد نمود ، آقای نظری صورتحسابی برای آقای کاشانی ارسال کرد که کلیه کالاهای امانی به ارزش  </a:t>
            </a:r>
            <a:r>
              <a:rPr b="1" lang="fa-IR" sz="2000" spc="-1" strike="noStrike">
                <a:solidFill>
                  <a:srgbClr val="404040"/>
                </a:solidFill>
                <a:latin typeface="Trebuchet MS"/>
                <a:ea typeface="B Zar"/>
              </a:rPr>
              <a:t>35000</a:t>
            </a:r>
            <a:r>
              <a:rPr b="1" lang="fa-IR" sz="2000" spc="-1" strike="noStrike">
                <a:solidFill>
                  <a:srgbClr val="404040"/>
                </a:solidFill>
                <a:latin typeface="Trebuchet MS"/>
                <a:ea typeface="B Zar"/>
              </a:rPr>
              <a:t> ریال فروخته شده . او بابت کالاها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ریال پرداخت و حق العمل کاری معادل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روی فروش از آن کسر و ما بقی را طی یک چک بانکی برای آمر فرستاد .</a:t>
            </a:r>
            <a:endParaRPr b="0" lang="en-US" sz="2000" spc="-1" strike="noStrike">
              <a:solidFill>
                <a:srgbClr val="404040"/>
              </a:solidFill>
              <a:latin typeface="Trebuchet MS"/>
            </a:endParaRPr>
          </a:p>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سندهای روزنامه و دفتر کل در دفاتر آمر و حق العمل کار</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ب) ثبت حسابداری برای عملیات حق العمل کاری (کالای امانی) به روش سیاهه</a:t>
            </a:r>
            <a:endParaRPr b="0" lang="en-US" sz="1900" spc="-1" strike="noStrike">
              <a:solidFill>
                <a:srgbClr val="90c226"/>
              </a:solidFill>
              <a:latin typeface="Trebuchet MS"/>
            </a:endParaRPr>
          </a:p>
        </p:txBody>
      </p:sp>
      <p:sp>
        <p:nvSpPr>
          <p:cNvPr id="1492" name=""/>
          <p:cNvSpPr txBox="1"/>
          <p:nvPr/>
        </p:nvSpPr>
        <p:spPr>
          <a:xfrm>
            <a:off x="609120" y="2160360"/>
            <a:ext cx="6348600" cy="388116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به عوض ارسال کالابه حق العمل کار با بهای تمام شده ممکن است آن را به بیشتر از بهای تمام شده سیاهه و ارسال نماید که این قیمت را سیاهه یا قیمت فروش نامیده اند. قیمت اضافی یا مازاد نسبت به بهای تمام شده معمولاً برای اقدام زیر باید محاسبه شود:</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آغاز دوره </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ارسالی برای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برگشتی به آمر توسط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پایان دوره</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جلالی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دستگاه اتومبیل اسباب بازی به طور امانی برای حق العمل کار خود آقای طاهری در هرمزگان ارسال نمود. بهای تمام شده یک اتومبیل اسباب بازی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می باشد و قیمت سیاهه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است. آقای جلالی </a:t>
            </a:r>
            <a:r>
              <a:rPr b="1" lang="fa-IR" sz="2000" spc="-1" strike="noStrike">
                <a:solidFill>
                  <a:srgbClr val="404040"/>
                </a:solidFill>
                <a:latin typeface="Trebuchet MS"/>
                <a:ea typeface="B Zar"/>
              </a:rPr>
              <a:t>000/6</a:t>
            </a:r>
            <a:r>
              <a:rPr b="1" lang="fa-IR" sz="2000" spc="-1" strike="noStrike">
                <a:solidFill>
                  <a:srgbClr val="404040"/>
                </a:solidFill>
                <a:latin typeface="Trebuchet MS"/>
                <a:ea typeface="B Zar"/>
              </a:rPr>
              <a:t> ریال بابت هزینه حمل و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بابت بیمه آنها می پرداز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قای طاهری یک چک به آقای جلالی به مبلغ </a:t>
            </a:r>
            <a:r>
              <a:rPr b="1" lang="fa-IR" sz="2000" spc="-1" strike="noStrike">
                <a:solidFill>
                  <a:srgbClr val="404040"/>
                </a:solidFill>
                <a:latin typeface="Trebuchet MS"/>
                <a:ea typeface="B Zar"/>
              </a:rPr>
              <a:t>000/000/1</a:t>
            </a:r>
            <a:r>
              <a:rPr b="1" lang="fa-IR" sz="2000" spc="-1" strike="noStrike">
                <a:solidFill>
                  <a:srgbClr val="404040"/>
                </a:solidFill>
                <a:latin typeface="Trebuchet MS"/>
                <a:ea typeface="B Zar"/>
              </a:rPr>
              <a:t> ریال بابت پیش پرداخت ارسال نمود . ضمناً صورتحساب فروشی برای آمر فرستاد که نشان می داد </a:t>
            </a:r>
            <a:r>
              <a:rPr b="1" lang="fa-IR" sz="2000" spc="-1" strike="noStrike">
                <a:solidFill>
                  <a:srgbClr val="404040"/>
                </a:solidFill>
                <a:latin typeface="Trebuchet MS"/>
                <a:ea typeface="B Zar"/>
              </a:rPr>
              <a:t>80</a:t>
            </a:r>
            <a:r>
              <a:rPr b="1" lang="fa-IR" sz="2000" spc="-1" strike="noStrike">
                <a:solidFill>
                  <a:srgbClr val="404040"/>
                </a:solidFill>
                <a:latin typeface="Trebuchet MS"/>
                <a:ea typeface="B Zar"/>
              </a:rPr>
              <a:t> اتومبیل اسباب بازی به ارزش </a:t>
            </a:r>
            <a:r>
              <a:rPr b="1" lang="fa-IR" sz="2000" spc="-1" strike="noStrike">
                <a:solidFill>
                  <a:srgbClr val="404040"/>
                </a:solidFill>
                <a:latin typeface="Trebuchet MS"/>
                <a:ea typeface="B Zar"/>
              </a:rPr>
              <a:t>000/22</a:t>
            </a:r>
            <a:r>
              <a:rPr b="1" lang="fa-IR" sz="2000" spc="-1" strike="noStrike">
                <a:solidFill>
                  <a:srgbClr val="404040"/>
                </a:solidFill>
                <a:latin typeface="Trebuchet MS"/>
                <a:ea typeface="B Zar"/>
              </a:rPr>
              <a:t> ریال فروخته شده است.</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هایی که آقای طاهری پرداخته :</a:t>
            </a:r>
            <a:r>
              <a:rPr b="1" lang="fa-IR" sz="2000" spc="-1" strike="noStrike">
                <a:solidFill>
                  <a:srgbClr val="404040"/>
                </a:solidFill>
                <a:latin typeface="Trebuchet MS"/>
                <a:ea typeface="B Zar"/>
              </a:rPr>
              <a:t>500/2</a:t>
            </a:r>
            <a:r>
              <a:rPr b="1" lang="fa-IR" sz="2000" spc="-1" strike="noStrike">
                <a:solidFill>
                  <a:srgbClr val="404040"/>
                </a:solidFill>
                <a:latin typeface="Trebuchet MS"/>
                <a:ea typeface="B Zar"/>
              </a:rPr>
              <a:t> هزینه باربری ، </a:t>
            </a:r>
            <a:r>
              <a:rPr b="1" lang="fa-IR" sz="2000" spc="-1" strike="noStrike">
                <a:solidFill>
                  <a:srgbClr val="404040"/>
                </a:solidFill>
                <a:latin typeface="Trebuchet MS"/>
                <a:ea typeface="B Zar"/>
              </a:rPr>
              <a:t>500/7</a:t>
            </a:r>
            <a:r>
              <a:rPr b="1" lang="fa-IR" sz="2000" spc="-1" strike="noStrike">
                <a:solidFill>
                  <a:srgbClr val="404040"/>
                </a:solidFill>
                <a:latin typeface="Trebuchet MS"/>
                <a:ea typeface="B Zar"/>
              </a:rPr>
              <a:t> هزینه تخلیه و بارگیری </a:t>
            </a:r>
            <a:r>
              <a:rPr b="1" lang="fa-IR" sz="2000" spc="-1" strike="noStrike">
                <a:solidFill>
                  <a:srgbClr val="404040"/>
                </a:solidFill>
                <a:latin typeface="Trebuchet MS"/>
                <a:ea typeface="B Zar"/>
              </a:rPr>
              <a:t>000/50</a:t>
            </a:r>
            <a:r>
              <a:rPr b="1" lang="fa-IR" sz="2000" spc="-1" strike="noStrike">
                <a:solidFill>
                  <a:srgbClr val="404040"/>
                </a:solidFill>
                <a:latin typeface="Trebuchet MS"/>
                <a:ea typeface="B Zar"/>
              </a:rPr>
              <a:t> ریال هزینه اجاره انبار ، </a:t>
            </a:r>
            <a:r>
              <a:rPr b="1" lang="fa-IR" sz="2000" spc="-1" strike="noStrike">
                <a:solidFill>
                  <a:srgbClr val="404040"/>
                </a:solidFill>
                <a:latin typeface="Trebuchet MS"/>
                <a:ea typeface="B Zar"/>
              </a:rPr>
              <a:t>000/30</a:t>
            </a:r>
            <a:r>
              <a:rPr b="1" lang="fa-IR" sz="2000" spc="-1" strike="noStrike">
                <a:solidFill>
                  <a:srgbClr val="404040"/>
                </a:solidFill>
                <a:latin typeface="Trebuchet MS"/>
                <a:ea typeface="B Zar"/>
              </a:rPr>
              <a:t> ریال هزینه آگهی .آقای طاهری حق العمل </a:t>
            </a:r>
            <a:r>
              <a:rPr b="1" lang="fa-IR" sz="2000" spc="-1" strike="noStrike">
                <a:solidFill>
                  <a:srgbClr val="404040"/>
                </a:solidFill>
                <a:latin typeface="Trebuchet MS"/>
                <a:ea typeface="B Zar"/>
              </a:rPr>
              <a:t>5</a:t>
            </a:r>
            <a:r>
              <a:rPr b="1" lang="fa-IR" sz="2000" spc="-1" strike="noStrike">
                <a:solidFill>
                  <a:srgbClr val="404040"/>
                </a:solidFill>
                <a:latin typeface="Trebuchet MS"/>
                <a:ea typeface="B Zar"/>
              </a:rPr>
              <a:t>% نسبت به فروش دریافت می کن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عملیات فوق در دفاتر آقای جلالی و آقای طاهری</a:t>
            </a:r>
            <a:r>
              <a:rPr b="1" lang="en-US" sz="2000" spc="-1" strike="noStrike">
                <a:solidFill>
                  <a:srgbClr val="404040"/>
                </a:solidFill>
                <a:latin typeface="Trebuchet MS"/>
                <a:ea typeface="B Zar"/>
              </a:rPr>
              <a:t> .</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موجودی کالای امانی پایان دوره :</a:t>
            </a:r>
            <a:br>
              <a:rPr sz="2900"/>
            </a:br>
            <a:endParaRPr b="0" lang="en-US" sz="2900" spc="-1" strike="noStrike">
              <a:solidFill>
                <a:srgbClr val="90c226"/>
              </a:solidFill>
              <a:latin typeface="Trebuchet MS"/>
            </a:endParaRPr>
          </a:p>
        </p:txBody>
      </p:sp>
      <p:sp>
        <p:nvSpPr>
          <p:cNvPr id="1495"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به ارزش هر کدام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a:t>
            </a:r>
            <a:r>
              <a:rPr b="1" lang="fa-IR" sz="2000" spc="-1" strike="noStrike">
                <a:solidFill>
                  <a:srgbClr val="404040"/>
                </a:solidFill>
                <a:latin typeface="Trebuchet MS"/>
                <a:ea typeface="B Zar"/>
              </a:rPr>
              <a:t>000/400</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ضافه می شود: تناسبی از هزینه های غیر تکراری:</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مل توسط آمر                                                </a:t>
            </a:r>
            <a:r>
              <a:rPr b="1" lang="fa-IR" sz="2000" spc="-1" strike="noStrike">
                <a:solidFill>
                  <a:srgbClr val="404040"/>
                </a:solidFill>
                <a:latin typeface="Trebuchet MS"/>
                <a:ea typeface="B Zar"/>
              </a:rPr>
              <a:t>000/6</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یمه توسط آمر                                               </a:t>
            </a:r>
            <a:r>
              <a:rPr b="1" lang="fa-IR" sz="2000" spc="-1" strike="noStrike">
                <a:solidFill>
                  <a:srgbClr val="404040"/>
                </a:solidFill>
                <a:latin typeface="Trebuchet MS"/>
                <a:ea typeface="B Zar"/>
              </a:rPr>
              <a:t>0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7</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جمع هزینه                                                      </a:t>
            </a:r>
            <a:r>
              <a:rPr b="1" lang="fa-IR" sz="2000" spc="-1" strike="noStrike">
                <a:solidFill>
                  <a:srgbClr val="404040"/>
                </a:solidFill>
                <a:latin typeface="Trebuchet MS"/>
                <a:ea typeface="B Zar"/>
              </a:rPr>
              <a:t>000/18</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رای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a:t>
            </a:r>
            <a:r>
              <a:rPr b="1" lang="fa-IR" sz="2000" spc="-1" strike="noStrike" u="sng">
                <a:solidFill>
                  <a:srgbClr val="404040"/>
                </a:solidFill>
                <a:uFillTx/>
                <a:latin typeface="Trebuchet MS"/>
                <a:ea typeface="B Zar"/>
              </a:rPr>
              <a:t>20</a:t>
            </a:r>
            <a:r>
              <a:rPr b="1" lang="fa-IR" sz="2000" spc="-1" strike="noStrike" u="sng">
                <a:solidFill>
                  <a:srgbClr val="404040"/>
                </a:solidFill>
                <a:uFillTx/>
                <a:latin typeface="Trebuchet MS"/>
                <a:ea typeface="B Zar"/>
              </a:rPr>
              <a:t>* </a:t>
            </a:r>
            <a:r>
              <a:rPr b="1" lang="fa-IR" sz="2000" spc="-1" strike="noStrike" u="sng">
                <a:solidFill>
                  <a:srgbClr val="404040"/>
                </a:solidFill>
                <a:uFillTx/>
                <a:latin typeface="Trebuchet MS"/>
                <a:ea typeface="B Zar"/>
              </a:rPr>
              <a:t>000/18</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3600</a:t>
            </a:r>
            <a:r>
              <a:rPr b="1" lang="en-US" sz="2000" spc="-1" strike="noStrike">
                <a:solidFill>
                  <a:srgbClr val="404040"/>
                </a:solidFill>
                <a:latin typeface="Trebuchet MS"/>
                <a:ea typeface="B Zar"/>
              </a:rPr>
              <a:t>          </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600/403</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600" spc="-1" strike="noStrike" u="sng">
                <a:solidFill>
                  <a:srgbClr val="90c226"/>
                </a:solidFill>
                <a:uFillTx/>
                <a:latin typeface="Trebuchet MS"/>
                <a:cs typeface="B Titr"/>
              </a:rPr>
              <a:t>حسابداری خسارت و ضایعات حاصله از کالای امانی </a:t>
            </a:r>
            <a:br>
              <a:rPr sz="2600"/>
            </a:br>
            <a:endParaRPr b="0" lang="en-US" sz="2600" spc="-1" strike="noStrike">
              <a:solidFill>
                <a:srgbClr val="90c226"/>
              </a:solidFill>
              <a:latin typeface="Trebuchet MS"/>
            </a:endParaRPr>
          </a:p>
        </p:txBody>
      </p:sp>
      <p:sp>
        <p:nvSpPr>
          <p:cNvPr id="1497"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آمر کالاهائی را برای حق العمل کار خود ارسال می کند ممکن است در خلال عملیات خسارات و یا ضایعاتی نسبت به کالاهای ارسالی بوجود آید. و چنین خساراتی در روی حسابهای آمر تأثیر می گذارد و هیچ تاثیری بر روی حسابهای حق العمل کار ندارد، بدین ترتیب آمر لازم است سندهائی صادر نماید تا بتواند این زیانها را تعدیل ک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ضایعات و خسارات دو نوع می باش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عادی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غیر عادی</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یا فوق العاده</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ضایعات و خسارات عادی </a:t>
            </a:r>
            <a:br>
              <a:rPr sz="2900"/>
            </a:br>
            <a:endParaRPr b="0" lang="en-US" sz="2900" spc="-1" strike="noStrike">
              <a:solidFill>
                <a:srgbClr val="90c226"/>
              </a:solidFill>
              <a:latin typeface="Trebuchet MS"/>
            </a:endParaRPr>
          </a:p>
        </p:txBody>
      </p:sp>
      <p:sp>
        <p:nvSpPr>
          <p:cNvPr id="1499" name=""/>
          <p:cNvSpPr txBox="1"/>
          <p:nvPr/>
        </p:nvSpPr>
        <p:spPr>
          <a:xfrm>
            <a:off x="609120" y="2160360"/>
            <a:ext cx="6348600" cy="3881160"/>
          </a:xfrm>
          <a:prstGeom prst="rect">
            <a:avLst/>
          </a:prstGeom>
          <a:noFill/>
          <a:ln w="0">
            <a:noFill/>
          </a:ln>
        </p:spPr>
        <p:txBody>
          <a:bodyPr anchor="t">
            <a:normAutofit fontScale="92000"/>
          </a:bodyPr>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گاهی کالاها بطور عادی دچار خسارت خواهند شد اما در بعضی از موارد این نوع خسارات اجتناب   نا پذیرند، مانند ضایعات و خسارات حاصله از تبخیر، کسری ، شکستگی ، کاهش و افت وزن این ضایعات را ضایعات عادی و معمولی نامند و بخشی از بهای تمام شده کالا را تشکیل می دهد. بدین ترتیب تعداد کالای خسارت دیده ازکل واحدهاکسرمی شود.موقع محاسبه بهای تمام شده کالاهای فروش نرفته این هزینه های عادی و معمولی را باید مدخلیت داد .</a:t>
            </a:r>
            <a:endParaRPr b="0" lang="en-US" sz="2000" spc="-1" strike="noStrike">
              <a:solidFill>
                <a:srgbClr val="404040"/>
              </a:solidFill>
              <a:latin typeface="Trebuchet MS"/>
            </a:endParaRPr>
          </a:p>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یعنی بهای تمام شده کالای فروش نرفته به طور متناسب در اثر این نوع خسارت و ضایعات حادث شده افزایش می یابد.</a:t>
            </a:r>
            <a:endParaRPr b="0" lang="en-US" sz="2000" spc="-1" strike="noStrike">
              <a:solidFill>
                <a:srgbClr val="404040"/>
              </a:solidFill>
              <a:latin typeface="Trebuchet MS"/>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p:nvPr>
        </p:nvSpPr>
        <p:spPr>
          <a:xfrm>
            <a:off x="0" y="1981080"/>
            <a:ext cx="8820000" cy="411480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زمانی که خسارات و ضایعات عادی و معمولی وجود دارد، موجودی کالای امانی پایان دوره به شرح زیر محاسبه می گرد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a:t>
            </a:r>
            <a:r>
              <a:rPr b="1" lang="en-US" sz="1400" spc="-1" strike="noStrike">
                <a:solidFill>
                  <a:srgbClr val="404040"/>
                </a:solidFill>
                <a:latin typeface="Trebuchet MS"/>
              </a:rPr>
              <a:t>         </a:t>
            </a:r>
            <a:r>
              <a:rPr b="1" lang="fa-IR" sz="1400" spc="-1" strike="noStrike">
                <a:solidFill>
                  <a:srgbClr val="404040"/>
                </a:solidFill>
                <a:latin typeface="Trebuchet MS"/>
              </a:rPr>
              <a:t>تعداد موجودی کالای فروش نرفت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و یا می توان به طریقه زیر محاسبه کر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تعداد موجودی کالای امانی پایان دور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برای خسارات و ضایعات عادی و معمولی سندی صادر نمی شود و از بابت آن ثبتی در دفاتر صورت نمی گیرد.</a:t>
            </a:r>
            <a:endParaRPr b="0" lang="en-US" sz="1400" spc="-1" strike="noStrike">
              <a:solidFill>
                <a:srgbClr val="404040"/>
              </a:solidFill>
              <a:latin typeface="Trebuchet MS"/>
            </a:endParaRPr>
          </a:p>
        </p:txBody>
      </p:sp>
      <mc:AlternateContent>
        <mc:Choice xmlns:a14="http://schemas.microsoft.com/office/drawing/2010/main" Requires="a14">
          <p:sp>
            <p:nvSpPr>
              <p:cNvPr id="1501" name="Object 4"/>
              <p:cNvSpPr txBox="1"/>
              <p:nvPr/>
            </p:nvSpPr>
            <p:spPr>
              <a:xfrm>
                <a:off x="2562120" y="2173320"/>
                <a:ext cx="3603600" cy="411120"/>
              </a:xfrm>
              <a:prstGeom prst="rect">
                <a:avLst/>
              </a:prstGeom>
            </p:spPr>
            <p:txBody>
              <a:bodyPr/>
              <a:p>
                <a14:m>
                  <m:oMath xmlns:m="http://schemas.openxmlformats.org/officeDocument/2006/math">
                    <m:f>
                      <m:num>
                        <m:r>
                          <m:rPr>
                            <m:lit/>
                            <m:nor/>
                          </m:rPr>
                          <m:t xml:space="preserve">تكراري غير هاي هزينه جمع </m:t>
                        </m:r>
                        <m:r>
                          <m:t xml:space="preserve">+</m:t>
                        </m:r>
                        <m:r>
                          <m:rPr>
                            <m:lit/>
                            <m:nor/>
                          </m:rPr>
                          <m:t xml:space="preserve">ارسالي كالاي شده تمام بهاي جمع </m:t>
                        </m:r>
                      </m:num>
                      <m:den>
                        <m:r>
                          <m:rPr>
                            <m:lit/>
                            <m:nor/>
                          </m:rPr>
                          <m:t xml:space="preserve">ديده خسارت واحدهاي تعداد - ارسالي كالاي واحدهاي جمع </m:t>
                        </m:r>
                      </m:den>
                    </m:f>
                  </m:oMath>
                </a14:m>
              </a:p>
            </p:txBody>
          </p:sp>
        </mc:Choice>
        <mc:Fallback/>
      </mc:AlternateContent>
      <mc:AlternateContent>
        <mc:Choice xmlns:a14="http://schemas.microsoft.com/office/drawing/2010/main" Requires="a14">
          <p:sp>
            <p:nvSpPr>
              <p:cNvPr id="1502" name="Object 5"/>
              <p:cNvSpPr txBox="1"/>
              <p:nvPr/>
            </p:nvSpPr>
            <p:spPr>
              <a:xfrm>
                <a:off x="2906640" y="2870280"/>
                <a:ext cx="2862360" cy="417600"/>
              </a:xfrm>
              <a:prstGeom prst="rect">
                <a:avLst/>
              </a:prstGeom>
            </p:spPr>
            <p:txBody>
              <a:bodyPr/>
              <a:p>
                <a14:m>
                  <m:oMath xmlns:m="http://schemas.openxmlformats.org/officeDocument/2006/math">
                    <m:f>
                      <m:num>
                        <m:r>
                          <m:rPr>
                            <m:lit/>
                            <m:nor/>
                          </m:rPr>
                          <m:t xml:space="preserve">شده ارسال كالاي ارزش جمع </m:t>
                        </m:r>
                      </m:num>
                      <m:den>
                        <m:r>
                          <m:rPr>
                            <m:lit/>
                            <m:nor/>
                          </m:rPr>
                          <m:t xml:space="preserve">كار العمل حق توسط سالم دريافتي كالاي تعداد </m:t>
                        </m:r>
                      </m:den>
                    </m:f>
                  </m:oMath>
                </a14:m>
              </a:p>
            </p:txBody>
          </p:sp>
        </mc:Choice>
        <mc:Fallback/>
      </mc:AlternateContent>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مقدمه</a:t>
            </a:r>
            <a:endParaRPr b="0" lang="en-US" sz="2900" spc="-1" strike="noStrike">
              <a:solidFill>
                <a:srgbClr val="ffffff"/>
              </a:solidFill>
              <a:latin typeface="Arial"/>
            </a:endParaRPr>
          </a:p>
        </p:txBody>
      </p:sp>
      <p:sp>
        <p:nvSpPr>
          <p:cNvPr id="1470" name="PlaceHolder 2"/>
          <p:cNvSpPr>
            <a:spLocks noGrp="1"/>
          </p:cNvSpPr>
          <p:nvPr>
            <p:ph/>
          </p:nvPr>
        </p:nvSpPr>
        <p:spPr>
          <a:xfrm>
            <a:off x="609480" y="1599840"/>
            <a:ext cx="7925040" cy="4419720"/>
          </a:xfrm>
          <a:prstGeom prst="rect">
            <a:avLst/>
          </a:prstGeom>
          <a:noFill/>
          <a:ln w="0">
            <a:noFill/>
          </a:ln>
        </p:spPr>
        <p:txBody>
          <a:bodyPr anchor="t">
            <a:normAutofit fontScale="88000"/>
          </a:bodyPr>
          <a:p>
            <a:pPr marL="3016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در عصر حاضر و جدید شرکتها و تولید کنندگان سعی و تلاش دارند که با تولید انبوه ، فروش محصولات خود را با تمام امکانات و طرق مختلف به حداکثر ممکنه برسانند . بدین ترتیب فروش محصولات یا به صورت مستقیم و یا به صورت غیر مستقیم صورت می پذیرد. تولیدکنندگان در مورد فروشهای محصولات به طور مستقیم ، فروشندگانی منصوب می کنند تا کالاها را به فروش برسانند ، که به آنان نمایندگان فروش یا بازاریاب می گویند. روش دیگر فروش محصولات این است که شرکتها یک شخص حقیقی یا حقوقی را بر اساس پرداخت حق العمل انتخاب می نمایند و کالاها را بین آنها توزیع تا به فروش برسانند. </a:t>
            </a: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این سیستم غیرمستقیم فروش را سیستم حق العمل کاری نامیده اند و حسابداری آنرا « حسابداری حق العمل کاری » می نامند .</a:t>
            </a:r>
            <a:endParaRPr b="0" lang="en-US" sz="2400" spc="-1" strike="noStrike">
              <a:solidFill>
                <a:srgbClr val="000000"/>
              </a:solidFill>
              <a:latin typeface="Arial"/>
            </a:endParaRPr>
          </a:p>
        </p:txBody>
      </p:sp>
    </p:spTree>
  </p:cSld>
  <p:transition spd="slow">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txBox="1"/>
          <p:nvPr/>
        </p:nvSpPr>
        <p:spPr>
          <a:xfrm>
            <a:off x="609120" y="2160360"/>
            <a:ext cx="634860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مری کالائی به وزن </a:t>
            </a:r>
            <a:r>
              <a:rPr b="1" lang="fa-IR" sz="2000" spc="-1" strike="noStrike">
                <a:solidFill>
                  <a:srgbClr val="404040"/>
                </a:solidFill>
                <a:latin typeface="Trebuchet MS"/>
                <a:ea typeface="B Zar"/>
              </a:rPr>
              <a:t>500</a:t>
            </a:r>
            <a:r>
              <a:rPr b="1" lang="fa-IR" sz="2000" spc="-1" strike="noStrike">
                <a:solidFill>
                  <a:srgbClr val="404040"/>
                </a:solidFill>
                <a:latin typeface="Trebuchet MS"/>
                <a:ea typeface="B Zar"/>
              </a:rPr>
              <a:t> کیلوگرم به ارزش هر کیلوگرم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را برای حق العمل کار خود ارسال می کند. وی بابت هزینه حمل و بیمه </a:t>
            </a:r>
            <a:r>
              <a:rPr b="1" lang="fa-IR" sz="2000" spc="-1" strike="noStrike">
                <a:solidFill>
                  <a:srgbClr val="404040"/>
                </a:solidFill>
                <a:latin typeface="Trebuchet MS"/>
                <a:ea typeface="B Zar"/>
              </a:rPr>
              <a:t>000/40</a:t>
            </a:r>
            <a:r>
              <a:rPr b="1" lang="fa-IR" sz="2000" spc="-1" strike="noStrike">
                <a:solidFill>
                  <a:srgbClr val="404040"/>
                </a:solidFill>
                <a:latin typeface="Trebuchet MS"/>
                <a:ea typeface="B Zar"/>
              </a:rPr>
              <a:t> ریال پرداخت می کند . حق العمل کار </a:t>
            </a:r>
            <a:r>
              <a:rPr b="1" lang="fa-IR" sz="2000" spc="-1" strike="noStrike">
                <a:solidFill>
                  <a:srgbClr val="404040"/>
                </a:solidFill>
                <a:latin typeface="Trebuchet MS"/>
                <a:ea typeface="B Zar"/>
              </a:rPr>
              <a:t>300</a:t>
            </a:r>
            <a:r>
              <a:rPr b="1" lang="fa-IR" sz="2000" spc="-1" strike="noStrike">
                <a:solidFill>
                  <a:srgbClr val="404040"/>
                </a:solidFill>
                <a:latin typeface="Trebuchet MS"/>
                <a:ea typeface="B Zar"/>
              </a:rPr>
              <a:t> کیلوگرم آن را از قرار هر کیلوگرم </a:t>
            </a:r>
            <a:r>
              <a:rPr b="1" lang="fa-IR" sz="2000" spc="-1" strike="noStrike">
                <a:solidFill>
                  <a:srgbClr val="404040"/>
                </a:solidFill>
                <a:latin typeface="Trebuchet MS"/>
                <a:ea typeface="B Zar"/>
              </a:rPr>
              <a:t>350</a:t>
            </a:r>
            <a:r>
              <a:rPr b="1" lang="fa-IR" sz="2000" spc="-1" strike="noStrike">
                <a:solidFill>
                  <a:srgbClr val="404040"/>
                </a:solidFill>
                <a:latin typeface="Trebuchet MS"/>
                <a:ea typeface="B Zar"/>
              </a:rPr>
              <a:t> ریال فروخت و مبلغ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ابت هزینه تخلیه و بارگیری آن و مبلغ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بابت اجاره انبار و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ه عنوان هزینه های فروش و آگهی  پرداخت نمود . ضایعات عادی و معمولی در اثر کسری </a:t>
            </a:r>
            <a:r>
              <a:rPr b="1" lang="fa-IR" sz="2000" spc="-1" strike="noStrike">
                <a:solidFill>
                  <a:srgbClr val="404040"/>
                </a:solidFill>
                <a:latin typeface="Trebuchet MS"/>
                <a:ea typeface="B Zar"/>
              </a:rPr>
              <a:t>50</a:t>
            </a:r>
            <a:r>
              <a:rPr b="1" lang="fa-IR" sz="2000" spc="-1" strike="noStrike">
                <a:solidFill>
                  <a:srgbClr val="404040"/>
                </a:solidFill>
                <a:latin typeface="Trebuchet MS"/>
                <a:ea typeface="B Zar"/>
              </a:rPr>
              <a:t> کیلوگرم است .</a:t>
            </a:r>
            <a:endParaRPr b="0" lang="en-US" sz="2000" spc="-1" strike="noStrike">
              <a:solidFill>
                <a:srgbClr val="404040"/>
              </a:solidFill>
              <a:latin typeface="Trebuchet MS"/>
            </a:endParaRPr>
          </a:p>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محاسبه موجودی کالای فروش نرفته که در دفاتر آمر باید ثبت گردد.</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ارزش موجودی کالای فروش نرفت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تمام شده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از قرار هر کیلو گرم </a:t>
            </a:r>
            <a:r>
              <a:rPr b="1" lang="fa-IR" sz="1200" spc="-1" strike="noStrike">
                <a:solidFill>
                  <a:srgbClr val="404040"/>
                </a:solidFill>
                <a:latin typeface="Trebuchet MS"/>
                <a:ea typeface="B Zar"/>
              </a:rPr>
              <a:t>2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0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هزینه های غیر تکراری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حمل و بیمه                           </a:t>
            </a:r>
            <a:r>
              <a:rPr b="1" lang="fa-IR" sz="1200" spc="-1" strike="noStrike">
                <a:solidFill>
                  <a:srgbClr val="404040"/>
                </a:solidFill>
                <a:latin typeface="Trebuchet MS"/>
                <a:ea typeface="B Zar"/>
              </a:rPr>
              <a:t>000/4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تخلیه و بارگیری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کل هزینه ها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1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مقدار واقعی آماده برای فروش : </a:t>
            </a:r>
            <a:r>
              <a:rPr b="1" lang="fa-IR" sz="1200" spc="-1" strike="noStrike">
                <a:solidFill>
                  <a:srgbClr val="404040"/>
                </a:solidFill>
                <a:latin typeface="Trebuchet MS"/>
                <a:ea typeface="B Zar"/>
              </a:rPr>
              <a:t>450</a:t>
            </a:r>
            <a:r>
              <a:rPr b="1" lang="fa-IR" sz="1200" spc="-1" strike="noStrike">
                <a:solidFill>
                  <a:srgbClr val="404040"/>
                </a:solidFill>
                <a:latin typeface="Trebuchet MS"/>
                <a:ea typeface="B Zar"/>
              </a:rPr>
              <a:t> = (کیلوگرم ضایعات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جمع ارزشی کالای ارسال شد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تعداد موجودی کالای امانی پایان دوره</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تعدادی کالای دریافتی سالم توسط حق العمل کار</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موجودی کالای امانی پایان دوره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تعداد کالاه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3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4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کالای امانی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p:txBody>
      </p:sp>
      <p:sp>
        <p:nvSpPr>
          <p:cNvPr id="1505" name="Line 4"/>
          <p:cNvSpPr/>
          <p:nvPr/>
        </p:nvSpPr>
        <p:spPr>
          <a:xfrm flipH="1">
            <a:off x="2843280" y="4724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 ضایعات و خسارات غیر عادی یا فوق العاده</a:t>
            </a:r>
            <a:endParaRPr b="0" lang="en-US" sz="2900" spc="-1" strike="noStrike">
              <a:solidFill>
                <a:srgbClr val="90c226"/>
              </a:solidFill>
              <a:latin typeface="Trebuchet MS"/>
            </a:endParaRPr>
          </a:p>
        </p:txBody>
      </p:sp>
      <p:sp>
        <p:nvSpPr>
          <p:cNvPr id="1507" name=""/>
          <p:cNvSpPr txBox="1"/>
          <p:nvPr/>
        </p:nvSpPr>
        <p:spPr>
          <a:xfrm>
            <a:off x="609120" y="2160360"/>
            <a:ext cx="6348600" cy="3881160"/>
          </a:xfrm>
          <a:prstGeom prst="rect">
            <a:avLst/>
          </a:prstGeom>
          <a:noFill/>
          <a:ln w="0">
            <a:noFill/>
          </a:ln>
        </p:spPr>
        <p:txBody>
          <a:bodyPr anchor="t">
            <a:normAutofit fontScale="92000"/>
          </a:bodyPr>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ضایعات یا خسارات به کالاها ناشی از حوادث و بلایای طبیعی و یا دور از انتظار باشد ، چنین خساراتی را معمولاً خسارات غیر عادی یا فوق العاده گویند مانند زیان حاصله از آتش سوزی ، سیلاب ، زلزله ، جنگ و غیره .</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هزینه ضایعات در محاسبه موجودی کالای فروش نرفته محاسبه می شود و به حساب کالای امانی بستانکار و به حساب زیان های غیر مترقبه بدهکار خواهد شد . آنگاه مانده این هزینه ها به حساب سود و زیان انتقال می یابد.</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عضی از تجار برای جبران خسارات ناشی از این حوادث سیاست بیمه ای را برای کالای ارسالی انتخاب می کنند و بیمه در قبال این حوادث جبران خسارت می نمای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txBox="1"/>
          <p:nvPr/>
        </p:nvSpPr>
        <p:spPr>
          <a:xfrm>
            <a:off x="609120" y="2160360"/>
            <a:ext cx="6348600" cy="3881160"/>
          </a:xfrm>
          <a:prstGeom prst="rect">
            <a:avLst/>
          </a:prstGeom>
          <a:noFill/>
          <a:ln w="0">
            <a:noFill/>
          </a:ln>
        </p:spPr>
        <p:txBody>
          <a:bodyPr anchor="t">
            <a:normAutofit fontScale="94000"/>
          </a:bodyPr>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کالای ارسالی بر اساس قرار داد حق العمل کاری برای حق العمل کار </a:t>
            </a:r>
            <a:r>
              <a:rPr b="1" lang="fa-IR" sz="2000" spc="-1" strike="noStrike">
                <a:solidFill>
                  <a:srgbClr val="404040"/>
                </a:solidFill>
                <a:latin typeface="Trebuchet MS"/>
                <a:ea typeface="B Zar"/>
              </a:rPr>
              <a:t>1000</a:t>
            </a:r>
            <a:r>
              <a:rPr b="1" lang="fa-IR" sz="2000" spc="-1" strike="noStrike">
                <a:solidFill>
                  <a:srgbClr val="404040"/>
                </a:solidFill>
                <a:latin typeface="Trebuchet MS"/>
                <a:ea typeface="B Zar"/>
              </a:rPr>
              <a:t> کیلوگرم از قرار هر کیلوگرم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ریال می باشد . هزینه های پرداخت شده به وسیله آمر عبارتست از هزینه حمل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بیمه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ریال و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کیلوگرم از کالاها در راه در اثر تصادف دچار حادثه شد و خسارت دید. از شرکت بیمه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ادعای خسارت شد. حق العمل کار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کیلوگرم آن را از قرار هر کیلوگرمی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فروخت و هزینه تخلیه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 اجاره انبار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هزینه فروش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پرداخت نمود .</a:t>
            </a:r>
            <a:endParaRPr b="0" lang="en-US" sz="2000" spc="-1" strike="noStrike">
              <a:solidFill>
                <a:srgbClr val="404040"/>
              </a:solidFill>
              <a:latin typeface="Trebuchet MS"/>
            </a:endParaRPr>
          </a:p>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سندهای روزنامه در ارتباط با موجودی کالای فروش نرفته و در راه در دفاتر آمر</a:t>
            </a:r>
            <a:endParaRPr b="0" lang="en-US" sz="2000" spc="-1" strike="noStrike">
              <a:solidFill>
                <a:srgbClr val="404040"/>
              </a:solidFill>
              <a:latin typeface="Trebuchet MS"/>
            </a:endParaRPr>
          </a:p>
        </p:txBody>
      </p:sp>
    </p:spTree>
  </p:cSld>
  <p:transition spd="slow">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رزش موجودی کالای امانی پایان دوره :</a:t>
            </a:r>
            <a:br>
              <a:rPr sz="2900"/>
            </a:br>
            <a:endParaRPr b="0" lang="en-US" sz="2900" spc="-1" strike="noStrike">
              <a:solidFill>
                <a:srgbClr val="90c226"/>
              </a:solidFill>
              <a:latin typeface="Trebuchet MS"/>
            </a:endParaRPr>
          </a:p>
        </p:txBody>
      </p:sp>
      <p:sp>
        <p:nvSpPr>
          <p:cNvPr id="1510" name=""/>
          <p:cNvSpPr txBox="1"/>
          <p:nvPr/>
        </p:nvSpPr>
        <p:spPr>
          <a:xfrm>
            <a:off x="609120" y="2160360"/>
            <a:ext cx="6348600" cy="3881160"/>
          </a:xfrm>
          <a:prstGeom prst="rect">
            <a:avLst/>
          </a:prstGeom>
          <a:noFill/>
          <a:ln w="0">
            <a:noFill/>
          </a:ln>
        </p:spPr>
        <p:txBody>
          <a:bodyPr anchor="t">
            <a:normAutofit fontScale="93000"/>
          </a:bodyPr>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کیلوگرم از قرار هر کیلوگرم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ریال                                                      </a:t>
            </a:r>
            <a:r>
              <a:rPr b="1" lang="fa-IR" sz="1600" spc="-1" strike="noStrike">
                <a:solidFill>
                  <a:srgbClr val="404040"/>
                </a:solidFill>
                <a:latin typeface="Trebuchet MS"/>
                <a:ea typeface="B Zar"/>
              </a:rPr>
              <a:t>000/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هزینه های غیر تکراری قبل از خسارت</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حمل                            </a:t>
            </a:r>
            <a:r>
              <a:rPr b="1" lang="fa-IR" sz="1600" spc="-1" strike="noStrike">
                <a:solidFill>
                  <a:srgbClr val="404040"/>
                </a:solidFill>
                <a:latin typeface="Trebuchet MS"/>
                <a:ea typeface="B Zar"/>
              </a:rPr>
              <a:t>000/5</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یمه                           </a:t>
            </a:r>
            <a:r>
              <a:rPr b="1" lang="fa-IR" sz="1600" spc="-1" strike="noStrike">
                <a:solidFill>
                  <a:srgbClr val="404040"/>
                </a:solidFill>
                <a:latin typeface="Trebuchet MS"/>
                <a:ea typeface="B Zar"/>
              </a:rPr>
              <a:t>000/3</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هزینه ها                                                                                </a:t>
            </a:r>
            <a:r>
              <a:rPr b="1" lang="fa-IR" sz="1600" spc="-1" strike="noStrike">
                <a:solidFill>
                  <a:srgbClr val="404040"/>
                </a:solidFill>
                <a:latin typeface="Trebuchet MS"/>
                <a:ea typeface="B Zar"/>
              </a:rPr>
              <a:t>00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بهای تمام شده </a:t>
            </a:r>
            <a:r>
              <a:rPr b="1" lang="fa-IR" sz="1600" spc="-1" strike="noStrike">
                <a:solidFill>
                  <a:srgbClr val="404040"/>
                </a:solidFill>
                <a:latin typeface="Trebuchet MS"/>
                <a:ea typeface="B Zar"/>
              </a:rPr>
              <a:t>10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سر می گردد: رقمی که در ارتباط با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کیلوگرم مفقود شده است                     </a:t>
            </a:r>
            <a:r>
              <a:rPr b="1" lang="fa-IR" sz="1600" spc="-1" strike="noStrike" u="sng">
                <a:solidFill>
                  <a:srgbClr val="404040"/>
                </a:solidFill>
                <a:uFillTx/>
                <a:latin typeface="Trebuchet MS"/>
                <a:ea typeface="B Zar"/>
              </a:rPr>
              <a:t>(</a:t>
            </a:r>
            <a:r>
              <a:rPr b="1" lang="fa-IR" sz="1600" spc="-1" strike="noStrike" u="sng">
                <a:solidFill>
                  <a:srgbClr val="404040"/>
                </a:solidFill>
                <a:uFillTx/>
                <a:latin typeface="Trebuchet MS"/>
                <a:ea typeface="B Zar"/>
              </a:rPr>
              <a:t>600/21</a:t>
            </a:r>
            <a:r>
              <a:rPr b="1" lang="fa-IR" sz="1600" spc="-1" strike="noStrike" u="sng">
                <a:solidFill>
                  <a:srgbClr val="404040"/>
                </a:solidFill>
                <a:uFillTx/>
                <a:latin typeface="Trebuchet MS"/>
                <a:ea typeface="B Zar"/>
              </a:rPr>
              <a:t>)</a:t>
            </a:r>
            <a:r>
              <a:rPr b="1" lang="fa-IR" sz="1600" spc="-1" strike="noStrike">
                <a:solidFill>
                  <a:srgbClr val="404040"/>
                </a:solidFill>
                <a:latin typeface="Trebuchet MS"/>
                <a:ea typeface="B Zar"/>
              </a:rPr>
              <a:t> = ـــــــــ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 هزینه های غیر تکراری بعد از خسارت (هزینه تخلیه ):                </a:t>
            </a:r>
            <a:r>
              <a:rPr b="1" lang="fa-IR" sz="1600" spc="-1" strike="noStrike">
                <a:solidFill>
                  <a:srgbClr val="404040"/>
                </a:solidFill>
                <a:latin typeface="Trebuchet MS"/>
                <a:ea typeface="B Zar"/>
              </a:rPr>
              <a:t>000/2</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a:t>
            </a:r>
            <a:r>
              <a:rPr b="1" lang="fa-IR" sz="1600" spc="-1" strike="noStrike">
                <a:solidFill>
                  <a:srgbClr val="404040"/>
                </a:solidFill>
                <a:latin typeface="Trebuchet MS"/>
                <a:ea typeface="B Zar"/>
              </a:rPr>
              <a:t>8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400/8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7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400/88</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050/11</a:t>
            </a:r>
            <a:r>
              <a:rPr b="1" lang="fa-IR" sz="1600" spc="-1" strike="noStrike">
                <a:solidFill>
                  <a:srgbClr val="404040"/>
                </a:solidFill>
                <a:latin typeface="Trebuchet MS"/>
                <a:ea typeface="B Zar"/>
              </a:rPr>
              <a:t> ریال</a:t>
            </a:r>
            <a:r>
              <a:rPr b="0" lang="fa-IR" sz="1600" spc="-1" strike="noStrike">
                <a:solidFill>
                  <a:srgbClr val="404040"/>
                </a:solidFill>
                <a:latin typeface="Trebuchet MS"/>
                <a:ea typeface="B Zar"/>
              </a:rPr>
              <a:t> </a:t>
            </a:r>
            <a:endParaRPr b="0" lang="en-US" sz="1600" spc="-1" strike="noStrike">
              <a:solidFill>
                <a:srgbClr val="404040"/>
              </a:solidFill>
              <a:latin typeface="Trebuchet MS"/>
            </a:endParaRPr>
          </a:p>
        </p:txBody>
      </p:sp>
    </p:spTree>
  </p:cSld>
  <p:transition spd="slow">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روش ستونی ( آماری )</a:t>
            </a:r>
            <a:br>
              <a:rPr sz="2900"/>
            </a:br>
            <a:endParaRPr b="0" lang="en-US" sz="2900" spc="-1" strike="noStrike">
              <a:solidFill>
                <a:srgbClr val="90c226"/>
              </a:solidFill>
              <a:latin typeface="Trebuchet MS"/>
            </a:endParaRPr>
          </a:p>
        </p:txBody>
      </p:sp>
      <p:sp>
        <p:nvSpPr>
          <p:cNvPr id="1512" name=""/>
          <p:cNvSpPr txBox="1"/>
          <p:nvPr/>
        </p:nvSpPr>
        <p:spPr>
          <a:xfrm>
            <a:off x="609120" y="2160360"/>
            <a:ext cx="6348600" cy="3881160"/>
          </a:xfrm>
          <a:prstGeom prst="rect">
            <a:avLst/>
          </a:prstGeom>
          <a:noFill/>
          <a:ln w="0">
            <a:noFill/>
          </a:ln>
        </p:spPr>
        <p:txBody>
          <a:bodyPr anchor="t">
            <a:normAutofit fontScale="98000"/>
          </a:bodyPr>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روش ستونی انتظامی یک ترکیبی از روش بهای تمام شده و روش سیاهه است . تحت این روش ؛ دو ستون در هر طرف حساب کالای امانی وجود دارد.</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دو ستون برای ثبت بهای تمام شده و سیاهه برای کالای ارسالی و موجودی های کالای آغاز دوره و پایان دوره است. ستون فوق العاده و اضافی برای قیمت سیاهه در نظر گرفته می شود که معروف به ستون انتظامی است.</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ز نظر حسابداری این ستون مهم نمی باشد و فقط برای این تهیه می شود که سود هر فقره را نشان دهد در صورتیکه حساب کالای امانی به قیمت سیاهه ثبت شود.</a:t>
            </a:r>
            <a:endParaRPr b="0" lang="en-US" sz="2000" spc="-1" strike="noStrike">
              <a:solidFill>
                <a:srgbClr val="404040"/>
              </a:solidFill>
              <a:latin typeface="Trebuchet MS"/>
            </a:endParaRPr>
          </a:p>
        </p:txBody>
      </p:sp>
    </p:spTree>
  </p:cSld>
  <p:transition spd="slow">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عروسک برای حق العمل کار خود آقای ب ارسال می کند و صورتحسابی برای او ارسال میکند که نشان می دهد قیمت هر عروسک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ریال است در صورتیکه بهای تمام شده آن </a:t>
            </a:r>
            <a:r>
              <a:rPr b="1" lang="fa-IR" sz="2200" spc="-1" strike="noStrike">
                <a:solidFill>
                  <a:srgbClr val="404040"/>
                </a:solidFill>
                <a:latin typeface="Trebuchet MS"/>
                <a:ea typeface="B Zar"/>
              </a:rPr>
              <a:t>35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قای الف </a:t>
            </a:r>
            <a:r>
              <a:rPr b="1" lang="fa-IR" sz="2200" spc="-1" strike="noStrike">
                <a:solidFill>
                  <a:srgbClr val="404040"/>
                </a:solidFill>
                <a:latin typeface="Trebuchet MS"/>
                <a:ea typeface="B Zar"/>
              </a:rPr>
              <a:t>7500</a:t>
            </a:r>
            <a:r>
              <a:rPr b="1" lang="fa-IR" sz="2200" spc="-1" strike="noStrike">
                <a:solidFill>
                  <a:srgbClr val="404040"/>
                </a:solidFill>
                <a:latin typeface="Trebuchet MS"/>
                <a:ea typeface="B Zar"/>
              </a:rPr>
              <a:t> ریال هزینه حمل و بیمه برای آن پرداخت می کند . در راه </a:t>
            </a:r>
            <a:r>
              <a:rPr b="1" lang="fa-IR" sz="2200" spc="-1" strike="noStrike">
                <a:solidFill>
                  <a:srgbClr val="404040"/>
                </a:solidFill>
                <a:latin typeface="Trebuchet MS"/>
                <a:ea typeface="B Zar"/>
              </a:rPr>
              <a:t>50</a:t>
            </a:r>
            <a:r>
              <a:rPr b="1" lang="fa-IR" sz="2200" spc="-1" strike="noStrike">
                <a:solidFill>
                  <a:srgbClr val="404040"/>
                </a:solidFill>
                <a:latin typeface="Trebuchet MS"/>
                <a:ea typeface="B Zar"/>
              </a:rPr>
              <a:t> عروسک مفقود شد و آقای ب </a:t>
            </a:r>
            <a:r>
              <a:rPr b="1" lang="fa-IR" sz="2200" spc="-1" strike="noStrike">
                <a:solidFill>
                  <a:srgbClr val="404040"/>
                </a:solidFill>
                <a:latin typeface="Trebuchet MS"/>
                <a:ea typeface="B Zar"/>
              </a:rPr>
              <a:t>90</a:t>
            </a:r>
            <a:r>
              <a:rPr b="1" lang="fa-IR" sz="2200" spc="-1" strike="noStrike">
                <a:solidFill>
                  <a:srgbClr val="404040"/>
                </a:solidFill>
                <a:latin typeface="Trebuchet MS"/>
                <a:ea typeface="B Zar"/>
              </a:rPr>
              <a:t>% بهای تمام شده عروسکها را از شرکت بیمه خسارت دریافت کرد. آقای ب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عروسک را با قیمت سیاهه فروخت و </a:t>
            </a:r>
            <a:r>
              <a:rPr b="1" lang="fa-IR" sz="2200" spc="-1" strike="noStrike">
                <a:solidFill>
                  <a:srgbClr val="404040"/>
                </a:solidFill>
                <a:latin typeface="Trebuchet MS"/>
                <a:ea typeface="B Zar"/>
              </a:rPr>
              <a:t>3000</a:t>
            </a:r>
            <a:r>
              <a:rPr b="1" lang="fa-IR" sz="2200" spc="-1" strike="noStrike">
                <a:solidFill>
                  <a:srgbClr val="404040"/>
                </a:solidFill>
                <a:latin typeface="Trebuchet MS"/>
                <a:ea typeface="B Zar"/>
              </a:rPr>
              <a:t> ریال هزینه های فروش آنرا پرداخت نمود او پس از کسر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حق العمل روی فروش بقیه صورتحساب را پرداخت نمود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تهیه حساب کالای امانی ، حساب موجودی کالای امانی پایان دوره ، حساب کالای خسارت دیده در دفاتر آمر به روش ستون انتظامی.</a:t>
            </a:r>
            <a:endParaRPr b="0" lang="en-US" sz="2200" spc="-1" strike="noStrike">
              <a:solidFill>
                <a:srgbClr val="404040"/>
              </a:solidFill>
              <a:latin typeface="Trebuchet MS"/>
            </a:endParaRPr>
          </a:p>
        </p:txBody>
      </p:sp>
    </p:spTree>
  </p:cSld>
  <p:transition spd="slow">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609120" y="2160360"/>
            <a:ext cx="6348600" cy="3881160"/>
          </a:xfrm>
          <a:prstGeom prst="rect">
            <a:avLst/>
          </a:prstGeom>
          <a:noFill/>
          <a:ln w="0">
            <a:noFill/>
          </a:ln>
        </p:spPr>
        <p:txBody>
          <a:bodyPr anchor="t">
            <a:normAutofit/>
          </a:bodyPr>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u="sng">
                <a:solidFill>
                  <a:srgbClr val="404040"/>
                </a:solidFill>
                <a:uFillTx/>
                <a:latin typeface="Trebuchet MS"/>
                <a:cs typeface="B Zar"/>
              </a:rPr>
              <a:t>ارزش موجودی کالای  پایان دوره ی و زیان حاصله از کالای خسارت دیده </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قیمت سیاهه</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بهای تمام شده</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400</a:t>
            </a:r>
            <a:r>
              <a:rPr b="1" lang="fa-IR" sz="1300" spc="-1" strike="noStrike">
                <a:solidFill>
                  <a:srgbClr val="404040"/>
                </a:solidFill>
                <a:latin typeface="Trebuchet MS"/>
                <a:ea typeface="B Zar"/>
              </a:rPr>
              <a:t> ریال                                                                </a:t>
            </a:r>
            <a:r>
              <a:rPr b="1" lang="fa-IR" sz="1300" spc="-1" strike="noStrike">
                <a:solidFill>
                  <a:srgbClr val="404040"/>
                </a:solidFill>
                <a:latin typeface="Trebuchet MS"/>
                <a:ea typeface="B Zar"/>
              </a:rPr>
              <a:t>000/20</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350</a:t>
            </a:r>
            <a:r>
              <a:rPr b="1" lang="fa-IR" sz="1300" spc="-1" strike="noStrike">
                <a:solidFill>
                  <a:srgbClr val="404040"/>
                </a:solidFill>
                <a:latin typeface="Trebuchet MS"/>
                <a:ea typeface="B Zar"/>
              </a:rPr>
              <a:t> ریال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000/175</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اضافه می شود: هزینه های غیر تکراری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2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کالا ( عروسکهای خسارت دیده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ــــــــ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کالای خسارت دید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  ـــــــــــ    </a:t>
            </a:r>
            <a:r>
              <a:rPr b="1" lang="fa-IR" sz="1300" spc="-1" strike="noStrike">
                <a:solidFill>
                  <a:srgbClr val="404040"/>
                </a:solidFill>
                <a:latin typeface="Trebuchet MS"/>
                <a:ea typeface="B Zar"/>
              </a:rPr>
              <a:t>500/182</a:t>
            </a:r>
            <a:r>
              <a:rPr b="1" lang="fa-IR" sz="1300" spc="-1" strike="noStrike">
                <a:solidFill>
                  <a:srgbClr val="404040"/>
                </a:solidFill>
                <a:latin typeface="Trebuchet MS"/>
                <a:ea typeface="B Zar"/>
              </a:rPr>
              <a:t>                  موجودی کالای پایان دور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400</a:t>
            </a:r>
            <a:r>
              <a:rPr b="1" lang="en-US" sz="1300" spc="-1" strike="noStrike">
                <a:solidFill>
                  <a:srgbClr val="404040"/>
                </a:solidFill>
                <a:latin typeface="Trebuchet MS"/>
                <a:ea typeface="B Zar"/>
              </a:rPr>
              <a:t>(</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 تعداد موجودی کالای فروش نرفته</a:t>
            </a:r>
            <a:r>
              <a:rPr b="0" lang="en-US" sz="1300" spc="-1" strike="noStrike">
                <a:solidFill>
                  <a:srgbClr val="404040"/>
                </a:solidFill>
                <a:latin typeface="Trebuchet MS"/>
                <a:ea typeface="B Zar"/>
              </a:rPr>
              <a:t> </a:t>
            </a:r>
            <a:endParaRPr b="0" lang="en-US" sz="1300" spc="-1" strike="noStrike">
              <a:solidFill>
                <a:srgbClr val="404040"/>
              </a:solidFill>
              <a:latin typeface="Trebuchet MS"/>
            </a:endParaRPr>
          </a:p>
        </p:txBody>
      </p:sp>
    </p:spTree>
  </p:cSld>
  <p:transition spd="slow">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برگشت کالا از حق العمل کار به آمر</a:t>
            </a:r>
            <a:br>
              <a:rPr sz="2900"/>
            </a:br>
            <a:endParaRPr b="0" lang="en-US" sz="2900" spc="-1" strike="noStrike">
              <a:solidFill>
                <a:srgbClr val="90c226"/>
              </a:solidFill>
              <a:latin typeface="Trebuchet MS"/>
            </a:endParaRPr>
          </a:p>
        </p:txBody>
      </p:sp>
      <p:sp>
        <p:nvSpPr>
          <p:cNvPr id="1516" name=""/>
          <p:cNvSpPr txBox="1"/>
          <p:nvPr/>
        </p:nvSpPr>
        <p:spPr>
          <a:xfrm>
            <a:off x="609120" y="2160360"/>
            <a:ext cx="6348600" cy="3881160"/>
          </a:xfrm>
          <a:prstGeom prst="rect">
            <a:avLst/>
          </a:prstGeom>
          <a:noFill/>
          <a:ln w="0">
            <a:noFill/>
          </a:ln>
        </p:spPr>
        <p:txBody>
          <a:bodyPr anchor="t">
            <a:normAutofit fontScale="95000"/>
          </a:bodyPr>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و یا قسمتی از کالاهای ارسالی به حق العمل کار به آمر عودت و برگشت داده  شود ، باید به حساب بهای تمام شده در دفاتر آمر ثبت گردد و تمام هزینه های انجام شده از قبیل هزینه حمل و بیمه ، تخلیه و بارگیری و بسته بندی باید به عنوان هزینه های از دست رفته تلقی گردد.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صورت در دفاتر آمر چنین سندی صادر می گردد.</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رسالی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مانی                        ***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برگشت به بهای تمام شده ( کالای ارسالی )</a:t>
            </a:r>
            <a:endParaRPr b="0" lang="en-US" sz="2000" spc="-1" strike="noStrike">
              <a:solidFill>
                <a:srgbClr val="404040"/>
              </a:solidFill>
              <a:latin typeface="Trebuchet MS"/>
            </a:endParaRPr>
          </a:p>
        </p:txBody>
      </p:sp>
    </p:spTree>
  </p:cSld>
  <p:transition spd="slow">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داری کالای امانی به صورت سیستم دایمی</a:t>
            </a:r>
            <a:endParaRPr b="0" lang="en-US" sz="2900" spc="-1" strike="noStrike">
              <a:solidFill>
                <a:srgbClr val="90c226"/>
              </a:solidFill>
              <a:latin typeface="Trebuchet MS"/>
            </a:endParaRPr>
          </a:p>
        </p:txBody>
      </p:sp>
      <p:sp>
        <p:nvSpPr>
          <p:cNvPr id="1518"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روش هنگام ارسال کالا برای حق العمل کار سندهای زیر صادر می گردد:</a:t>
            </a:r>
            <a:endParaRPr b="0" lang="en-US" sz="2000" spc="-1" strike="noStrike">
              <a:solidFill>
                <a:srgbClr val="404040"/>
              </a:solidFill>
              <a:latin typeface="Trebuchet MS"/>
            </a:endParaRPr>
          </a:p>
        </p:txBody>
      </p:sp>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ضرورت و الزام حق العمل کاری</a:t>
            </a:r>
            <a:endParaRPr b="0" lang="en-US" sz="2900" spc="-1" strike="noStrike">
              <a:solidFill>
                <a:srgbClr val="ffffff"/>
              </a:solidFill>
              <a:latin typeface="Arial"/>
            </a:endParaRPr>
          </a:p>
        </p:txBody>
      </p:sp>
      <p:sp>
        <p:nvSpPr>
          <p:cNvPr id="14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گنندگان کالا چون شرایط بازار را نمی دانند و شناختی از اوضاع و احوال منطقه ندارند ، نمایندگانی را بر اساس پرداخت حق العمل در اقصا نقاط مختلف برای فروش محصولات منصوب می نمایند. چون این اشخاص بومی و محلی می باشند. بنابراین محصولات بیشتری را می توانند به فروش برسانند.  </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Zar"/>
              </a:rPr>
              <a:t> نمایندگان فروش می توانند محصولات جدید را در بازار با شرایط بهتر به فروش برسانند و تمایل بیشتر دارند تا با انگیزه بیشتر این کار را انجام ده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با هزینه هنگفتی می توانند محصولات خود را مستقیماً در بازار به فروش برسانند ، پس اقتصادی تر آن است که کالا را برای حق العمل کار ارسال نمای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می توانند برای نمایندگان خود در کشورهای خارجی کالا ارسال نمایند تا آنرا به فروش برساند. این روش برایشان مقرون به صرفه است</a:t>
            </a:r>
            <a:r>
              <a:rPr b="1" lang="en-US" sz="2000" spc="-1" strike="noStrike">
                <a:solidFill>
                  <a:srgbClr val="000000"/>
                </a:solidFill>
                <a:latin typeface="Arial"/>
                <a:ea typeface="B Zar"/>
              </a:rPr>
              <a:t>.</a:t>
            </a:r>
            <a:r>
              <a:rPr b="0" lang="en-US"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ثال) آقای محسنی </a:t>
            </a:r>
            <a:r>
              <a:rPr b="1" lang="fa-IR" sz="1900" spc="-1" strike="noStrike">
                <a:solidFill>
                  <a:srgbClr val="404040"/>
                </a:solidFill>
                <a:latin typeface="Trebuchet MS"/>
                <a:ea typeface="B Zar"/>
              </a:rPr>
              <a:t>100</a:t>
            </a:r>
            <a:r>
              <a:rPr b="1" lang="fa-IR" sz="1900" spc="-1" strike="noStrike">
                <a:solidFill>
                  <a:srgbClr val="404040"/>
                </a:solidFill>
                <a:latin typeface="Trebuchet MS"/>
                <a:ea typeface="B Zar"/>
              </a:rPr>
              <a:t> دستگاه نجاری به ارزش </a:t>
            </a:r>
            <a:r>
              <a:rPr b="1" lang="fa-IR" sz="1900" spc="-1" strike="noStrike">
                <a:solidFill>
                  <a:srgbClr val="404040"/>
                </a:solidFill>
                <a:latin typeface="Trebuchet MS"/>
                <a:ea typeface="B Zar"/>
              </a:rPr>
              <a:t>000/500</a:t>
            </a:r>
            <a:r>
              <a:rPr b="1" lang="fa-IR" sz="1900" spc="-1" strike="noStrike">
                <a:solidFill>
                  <a:srgbClr val="404040"/>
                </a:solidFill>
                <a:latin typeface="Trebuchet MS"/>
                <a:ea typeface="B Zar"/>
              </a:rPr>
              <a:t> ریال برای حق العمل کار خود آقای افشار به بهای تمام شده به اضافه </a:t>
            </a: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سیاهه نمود آمر </a:t>
            </a:r>
            <a:r>
              <a:rPr b="1" lang="fa-IR" sz="1900" spc="-1" strike="noStrike">
                <a:solidFill>
                  <a:srgbClr val="404040"/>
                </a:solidFill>
                <a:latin typeface="Trebuchet MS"/>
                <a:ea typeface="B Zar"/>
              </a:rPr>
              <a:t>000/50</a:t>
            </a:r>
            <a:r>
              <a:rPr b="1" lang="fa-IR" sz="1900" spc="-1" strike="noStrike">
                <a:solidFill>
                  <a:srgbClr val="404040"/>
                </a:solidFill>
                <a:latin typeface="Trebuchet MS"/>
                <a:ea typeface="B Zar"/>
              </a:rPr>
              <a:t> ریال هزینه حمل پرداخت نمود آقای افشار هزینه هایی به مبلغ </a:t>
            </a:r>
            <a:r>
              <a:rPr b="1" lang="fa-IR" sz="1900" spc="-1" strike="noStrike">
                <a:solidFill>
                  <a:srgbClr val="404040"/>
                </a:solidFill>
                <a:latin typeface="Trebuchet MS"/>
                <a:ea typeface="B Zar"/>
              </a:rPr>
              <a:t>5000</a:t>
            </a:r>
            <a:r>
              <a:rPr b="1" lang="fa-IR" sz="1900" spc="-1" strike="noStrike">
                <a:solidFill>
                  <a:srgbClr val="404040"/>
                </a:solidFill>
                <a:latin typeface="Trebuchet MS"/>
                <a:ea typeface="B Zar"/>
              </a:rPr>
              <a:t> ریال هزینه های راه آهن ، </a:t>
            </a:r>
            <a:r>
              <a:rPr b="1" lang="fa-IR" sz="1900" spc="-1" strike="noStrike">
                <a:solidFill>
                  <a:srgbClr val="404040"/>
                </a:solidFill>
                <a:latin typeface="Trebuchet MS"/>
                <a:ea typeface="B Zar"/>
              </a:rPr>
              <a:t>500</a:t>
            </a:r>
            <a:r>
              <a:rPr b="1" lang="fa-IR" sz="1900" spc="-1" strike="noStrike">
                <a:solidFill>
                  <a:srgbClr val="404040"/>
                </a:solidFill>
                <a:latin typeface="Trebuchet MS"/>
                <a:ea typeface="B Zar"/>
              </a:rPr>
              <a:t> ریال هزینه باربری تا انبار خود را پرداخت و کالاهای ارسالی را دریافت نمود. او یک صورتحساب فروش برای آمر فرستاد که در آن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دستگاه بخاری را به مبلغ  </a:t>
            </a:r>
            <a:r>
              <a:rPr b="1" lang="fa-IR" sz="1900" spc="-1" strike="noStrike">
                <a:solidFill>
                  <a:srgbClr val="404040"/>
                </a:solidFill>
                <a:latin typeface="Trebuchet MS"/>
                <a:ea typeface="B Zar"/>
              </a:rPr>
              <a:t>000/120</a:t>
            </a:r>
            <a:r>
              <a:rPr b="1" lang="fa-IR" sz="1900" spc="-1" strike="noStrike">
                <a:solidFill>
                  <a:srgbClr val="404040"/>
                </a:solidFill>
                <a:latin typeface="Trebuchet MS"/>
                <a:ea typeface="B Zar"/>
              </a:rPr>
              <a:t> ریال نقد فروخ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50</a:t>
            </a:r>
            <a:r>
              <a:rPr b="1" lang="fa-IR" sz="1900" spc="-1" strike="noStrike">
                <a:solidFill>
                  <a:srgbClr val="404040"/>
                </a:solidFill>
                <a:latin typeface="Trebuchet MS"/>
                <a:ea typeface="B Zar"/>
              </a:rPr>
              <a:t> دستگاه بخاری را هرکدام </a:t>
            </a:r>
            <a:r>
              <a:rPr b="1" lang="fa-IR" sz="1900" spc="-1" strike="noStrike">
                <a:solidFill>
                  <a:srgbClr val="404040"/>
                </a:solidFill>
                <a:latin typeface="Trebuchet MS"/>
                <a:ea typeface="B Zar"/>
              </a:rPr>
              <a:t>6500</a:t>
            </a:r>
            <a:r>
              <a:rPr b="1" lang="fa-IR" sz="1900" spc="-1" strike="noStrike">
                <a:solidFill>
                  <a:srgbClr val="404040"/>
                </a:solidFill>
                <a:latin typeface="Trebuchet MS"/>
                <a:ea typeface="B Zar"/>
              </a:rPr>
              <a:t> ریال بطور نسیه فروخته اس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10</a:t>
            </a:r>
            <a:r>
              <a:rPr b="1" lang="fa-IR" sz="1900" spc="-1" strike="noStrike">
                <a:solidFill>
                  <a:srgbClr val="404040"/>
                </a:solidFill>
                <a:latin typeface="Trebuchet MS"/>
                <a:ea typeface="B Zar"/>
              </a:rPr>
              <a:t> دستگاه بخاری برای خودش به ارزش هرکدام </a:t>
            </a:r>
            <a:r>
              <a:rPr b="1" lang="fa-IR" sz="1900" spc="-1" strike="noStrike">
                <a:solidFill>
                  <a:srgbClr val="404040"/>
                </a:solidFill>
                <a:latin typeface="Trebuchet MS"/>
                <a:ea typeface="B Zar"/>
              </a:rPr>
              <a:t>6100</a:t>
            </a:r>
            <a:r>
              <a:rPr b="1" lang="fa-IR" sz="1900" spc="-1" strike="noStrike">
                <a:solidFill>
                  <a:srgbClr val="404040"/>
                </a:solidFill>
                <a:latin typeface="Trebuchet MS"/>
                <a:ea typeface="B Zar"/>
              </a:rPr>
              <a:t> ریال منظور نمود.</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حق العمل کار پس از کسر </a:t>
            </a:r>
            <a:r>
              <a:rPr b="1" lang="fa-IR" sz="1900" spc="-1" strike="noStrike">
                <a:solidFill>
                  <a:srgbClr val="404040"/>
                </a:solidFill>
                <a:latin typeface="Trebuchet MS"/>
                <a:ea typeface="B Zar"/>
              </a:rPr>
              <a:t>5</a:t>
            </a:r>
            <a:r>
              <a:rPr b="1" lang="fa-IR" sz="1900" spc="-1" strike="noStrike">
                <a:solidFill>
                  <a:srgbClr val="404040"/>
                </a:solidFill>
                <a:latin typeface="Trebuchet MS"/>
                <a:ea typeface="B Zar"/>
              </a:rPr>
              <a:t>% حق العمل روی صورتحساب فروش و </a:t>
            </a:r>
            <a:r>
              <a:rPr b="1" lang="fa-IR" sz="1900" spc="-1" strike="noStrike">
                <a:solidFill>
                  <a:srgbClr val="404040"/>
                </a:solidFill>
                <a:latin typeface="Trebuchet MS"/>
                <a:ea typeface="B Zar"/>
              </a:rPr>
              <a:t>15</a:t>
            </a:r>
            <a:r>
              <a:rPr b="1" lang="fa-IR" sz="1900" spc="-1" strike="noStrike">
                <a:solidFill>
                  <a:srgbClr val="404040"/>
                </a:solidFill>
                <a:latin typeface="Trebuchet MS"/>
                <a:ea typeface="B Zar"/>
              </a:rPr>
              <a:t>% برای مازاد فروش بیش از قیمت سیاهه ، حق العمل دریافت خواهد کرد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طلوب است ثبت عملیات در دفاتر آمر</a:t>
            </a:r>
            <a:r>
              <a:rPr b="1" lang="en-US" sz="1900" spc="-1" strike="noStrike">
                <a:solidFill>
                  <a:srgbClr val="404040"/>
                </a:solidFill>
                <a:latin typeface="Trebuchet MS"/>
                <a:ea typeface="B Zar"/>
              </a:rPr>
              <a:t>.</a:t>
            </a:r>
            <a:r>
              <a:rPr b="0" lang="en-US" sz="1900" spc="-1" strike="noStrike">
                <a:solidFill>
                  <a:srgbClr val="404040"/>
                </a:solidFill>
                <a:latin typeface="Trebuchet MS"/>
                <a:ea typeface="B Zar"/>
              </a:rPr>
              <a:t> </a:t>
            </a:r>
            <a:endParaRPr b="0" lang="en-US" sz="1900" spc="-1" strike="noStrike">
              <a:solidFill>
                <a:srgbClr val="404040"/>
              </a:solidFill>
              <a:latin typeface="Trebuchet MS"/>
            </a:endParaRPr>
          </a:p>
        </p:txBody>
      </p:sp>
      <p:sp>
        <p:nvSpPr>
          <p:cNvPr id="1520"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ارزش موجودی کالای امانی پایان دوره</a:t>
            </a:r>
            <a:endParaRPr b="0" lang="en-US" sz="2900" spc="-1" strike="noStrike">
              <a:solidFill>
                <a:srgbClr val="90c226"/>
              </a:solidFill>
              <a:latin typeface="Trebuchet MS"/>
            </a:endParaRPr>
          </a:p>
        </p:txBody>
      </p:sp>
      <p:sp>
        <p:nvSpPr>
          <p:cNvPr id="1522"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a:t>
            </a:r>
            <a:r>
              <a:rPr b="1" lang="fa-IR" sz="1200" spc="-1" strike="noStrike">
                <a:solidFill>
                  <a:srgbClr val="404040"/>
                </a:solidFill>
                <a:latin typeface="Trebuchet MS"/>
                <a:ea typeface="B Zar"/>
              </a:rPr>
              <a:t>20</a:t>
            </a:r>
            <a:r>
              <a:rPr b="1" lang="fa-IR" sz="1200" spc="-1" strike="noStrike">
                <a:solidFill>
                  <a:srgbClr val="404040"/>
                </a:solidFill>
                <a:latin typeface="Trebuchet MS"/>
                <a:ea typeface="B Zar"/>
              </a:rPr>
              <a:t> دستگاه به ارزش هر یک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 تناسبی از هزینه ها</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آمر                               </a:t>
            </a:r>
            <a:r>
              <a:rPr b="1" lang="fa-IR" sz="1200" spc="-1" strike="noStrike">
                <a:solidFill>
                  <a:srgbClr val="404040"/>
                </a:solidFill>
                <a:latin typeface="Trebuchet MS"/>
                <a:ea typeface="B Zar"/>
              </a:rPr>
              <a:t>500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حق العمل کار           </a:t>
            </a:r>
            <a:r>
              <a:rPr b="1" lang="fa-IR" sz="1200" spc="-1" strike="noStrike">
                <a:solidFill>
                  <a:srgbClr val="404040"/>
                </a:solidFill>
                <a:latin typeface="Trebuchet MS"/>
                <a:ea typeface="B Zar"/>
              </a:rPr>
              <a:t>000/5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00/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ارزش موجودی کالای امانی پایان دوره                                                </a:t>
            </a:r>
            <a:r>
              <a:rPr b="1" lang="fa-IR" sz="1200" spc="-1" strike="noStrike">
                <a:solidFill>
                  <a:srgbClr val="404040"/>
                </a:solidFill>
                <a:latin typeface="Trebuchet MS"/>
                <a:ea typeface="B Zar"/>
              </a:rPr>
              <a:t>100/13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محاسبه حق العمل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بخاری</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قدی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سیه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5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325</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1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1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6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فروش                                                                         </a:t>
            </a:r>
            <a:r>
              <a:rPr b="1" lang="fa-IR" sz="1200" spc="-1" strike="noStrike">
                <a:solidFill>
                  <a:srgbClr val="404040"/>
                </a:solidFill>
                <a:latin typeface="Trebuchet MS"/>
                <a:ea typeface="B Zar"/>
              </a:rPr>
              <a:t>000/50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صورتحساب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هر کدام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48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ریال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26</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27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480</a:t>
            </a:r>
            <a:r>
              <a:rPr b="0" lang="en-US" sz="1200" spc="-1" strike="noStrike">
                <a:solidFill>
                  <a:srgbClr val="404040"/>
                </a:solidFill>
                <a:latin typeface="Trebuchet MS"/>
                <a:ea typeface="B Zar"/>
              </a:rPr>
              <a:t> </a:t>
            </a:r>
            <a:endParaRPr b="0" lang="en-US" sz="1200" spc="-1" strike="noStrike">
              <a:solidFill>
                <a:srgbClr val="404040"/>
              </a:solidFill>
              <a:latin typeface="Trebuchet MS"/>
            </a:endParaRPr>
          </a:p>
        </p:txBody>
      </p:sp>
      <p:sp>
        <p:nvSpPr>
          <p:cNvPr id="1523"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Zar"/>
              </a:rPr>
              <a:t>تعریف</a:t>
            </a:r>
            <a:endParaRPr b="0" lang="en-US" sz="2900" spc="-1" strike="noStrike">
              <a:solidFill>
                <a:srgbClr val="ffffff"/>
              </a:solidFill>
              <a:latin typeface="Arial"/>
            </a:endParaRPr>
          </a:p>
        </p:txBody>
      </p:sp>
      <p:sp>
        <p:nvSpPr>
          <p:cNvPr id="14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00"/>
                </a:solidFill>
                <a:uFillTx/>
                <a:latin typeface="Arial"/>
                <a:ea typeface="B Zar"/>
              </a:rPr>
              <a:t> </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ی یعنی توزیع یا ارسال کالا برای نمایندگان جهت انبار کردن و فروش . شخص ارسال کننده کالا را « آمر» و اشخاص حقیقی یا حقوقی که کالاها را دریافت می کند « حق العمل کار»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 کالاها را طبق قرارداد می فروشد و از بابت فروش درصدی را دریافت می کند که به آن               «حق العمل »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کالاهای ارسالی نزد حق العمل کار تا مادامی که به فروش نرسد در اختیار و مالکیت آمر باقی می ما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اصطلاحات و واژه های مهم</a:t>
            </a:r>
            <a:r>
              <a:rPr b="1" lang="fa-IR" sz="3800" spc="-1" strike="noStrike" u="sng">
                <a:solidFill>
                  <a:srgbClr val="ffffff"/>
                </a:solidFill>
                <a:uFillTx/>
                <a:latin typeface="Arial"/>
                <a:ea typeface="B Titr"/>
              </a:rPr>
              <a:t> </a:t>
            </a:r>
            <a:br>
              <a:rPr sz="3800"/>
            </a:br>
            <a:endParaRPr b="0" lang="en-US" sz="3800" spc="-1" strike="noStrike">
              <a:solidFill>
                <a:srgbClr val="ffffff"/>
              </a:solidFill>
              <a:latin typeface="Arial"/>
            </a:endParaRPr>
          </a:p>
        </p:txBody>
      </p:sp>
      <p:sp>
        <p:nvSpPr>
          <p:cNvPr id="14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پیش فاکتور: موقعی که آمر کالاها را برای حق العمل کار ارسال می نماید همراه ارسال این کالاها یک صورتحساب برایش ارسال می نماید که در آن مشخصات  کالا مانند کیفیت ، کمیت ، قیمت ، بسته بندی و غیره را نشان می دهد. که به آن پیش فاکتور یا سیاهه مقدماتی گوی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u="sng">
                <a:solidFill>
                  <a:srgbClr val="ffffff"/>
                </a:solidFill>
                <a:uFillTx/>
                <a:latin typeface="Arial"/>
                <a:cs typeface="B Titr"/>
              </a:rPr>
              <a:t>پیش پرداخت </a:t>
            </a:r>
            <a:br>
              <a:rPr sz="3800"/>
            </a:br>
            <a:endParaRPr b="0" lang="en-US" sz="3800" spc="-1" strike="noStrike">
              <a:solidFill>
                <a:srgbClr val="ffffff"/>
              </a:solidFill>
              <a:latin typeface="Arial"/>
            </a:endParaRPr>
          </a:p>
        </p:txBody>
      </p:sp>
      <p:sp>
        <p:nvSpPr>
          <p:cNvPr id="14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گاهی آمر از حق العمل کار درخواست می کند که قبل از فروش کالا مبلغی را به عنوان پیش پرداخت برای او بفرستد . حق العمل کار ممکن است یک چک یا سفته در قالب پیش پرداخت برای آمر ارسال نمای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آمر می تواند سفته یا چک را نزد بانک یا اشخاص حقیقی یا حقوقی دیگر فروش دین نماید و وجوه آنرا دریافت کن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رقم کارمزد مکسوره را می توان به حساب کالای امانی و یاحساب هزینه بدهکار نمود. پیش پرداخت مذکور از حساب فروشهای کالا کسر می گردد.</a:t>
            </a:r>
            <a:endParaRPr b="0" lang="en-US" sz="2000" spc="-1" strike="noStrike">
              <a:solidFill>
                <a:srgbClr val="000000"/>
              </a:solidFill>
              <a:latin typeface="Arial"/>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 فروش</a:t>
            </a:r>
            <a:endParaRPr b="0" lang="en-US" sz="2900" spc="-1" strike="noStrike">
              <a:solidFill>
                <a:srgbClr val="90c226"/>
              </a:solidFill>
              <a:latin typeface="Trebuchet MS"/>
            </a:endParaRPr>
          </a:p>
        </p:txBody>
      </p:sp>
      <p:sp>
        <p:nvSpPr>
          <p:cNvPr id="1480"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05280" indent="-305280" algn="r" rtl="1">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ea typeface="B Zar"/>
              </a:rPr>
              <a:t>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در فواصل معین یا موقعی که کالاهای امانی بوسیله حق العمل کار فروخته شد، حق العمل کار یک صورتحساب برای آمر ارسال می کندکه به آن صورتحساب فروش گویند دراین صورتحساب ، مبالغ دریافتی حاصل ازفروش ،      هزینه های انجام شده توسط حق العمل کار،کمیسیون فروش ، پیش پرداختها و مانده حسابی که آمر باید در سررسید دریافت کند و میزان موجودی کالای فروش نرفته ، نشان داده خواهد شد. آمر ازروی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مر ازروی این صورتحساب فروش ، سندهای روزنامه در ارتباط باکالای امانی صادر و ثبت و نگهداری می کند. اوهمچنین می تواند سود و زیان ناشی از معملات را معین نماید</a:t>
            </a:r>
            <a:r>
              <a:rPr b="1" lang="en-US" sz="2200" spc="-1" strike="noStrike">
                <a:solidFill>
                  <a:srgbClr val="404040"/>
                </a:solidFill>
                <a:latin typeface="Trebuchet MS"/>
                <a:ea typeface="B Zar"/>
              </a:rPr>
              <a:t>.</a:t>
            </a:r>
            <a:r>
              <a:rPr b="0" lang="en-US" sz="2200" spc="-1" strike="noStrike">
                <a:solidFill>
                  <a:srgbClr val="404040"/>
                </a:solidFill>
                <a:latin typeface="Trebuchet MS"/>
                <a:ea typeface="B Zar"/>
              </a:rPr>
              <a:t> </a:t>
            </a:r>
            <a:endParaRPr b="0" lang="en-US" sz="2200" spc="-1" strike="noStrike">
              <a:solidFill>
                <a:srgbClr val="404040"/>
              </a:solidFill>
              <a:latin typeface="Trebuchet MS"/>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کمیسیون </a:t>
            </a:r>
            <a:br>
              <a:rPr sz="3800"/>
            </a:br>
            <a:endParaRPr b="0" lang="en-US" sz="2900" spc="-1" strike="noStrike">
              <a:solidFill>
                <a:srgbClr val="90c226"/>
              </a:solidFill>
              <a:latin typeface="Trebuchet MS"/>
            </a:endParaRPr>
          </a:p>
        </p:txBody>
      </p:sp>
      <p:sp>
        <p:nvSpPr>
          <p:cNvPr id="1482" name=""/>
          <p:cNvSpPr txBox="1"/>
          <p:nvPr/>
        </p:nvSpPr>
        <p:spPr>
          <a:xfrm>
            <a:off x="609120" y="2160360"/>
            <a:ext cx="6348600" cy="3881160"/>
          </a:xfrm>
          <a:prstGeom prst="rect">
            <a:avLst/>
          </a:prstGeom>
          <a:noFill/>
          <a:ln w="0">
            <a:noFill/>
          </a:ln>
        </p:spPr>
        <p:txBody>
          <a:bodyPr anchor="t">
            <a:normAutofit fontScale="96000"/>
          </a:bodyPr>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حق العمل فرد حق العمل کار را نسبت به فروش پرداخت می کند حق العمل را نسبت به درصد ثابتی از فروش طبق شرایط و قرارداد منعقده پرداخت می کند. این حق العملها ممکن است ساده یا عادی ، خاص یا پوششی و یا اعتباری باشد .</a:t>
            </a:r>
            <a:endParaRPr b="0" lang="en-US" sz="2000" spc="-1" strike="noStrike">
              <a:solidFill>
                <a:srgbClr val="404040"/>
              </a:solidFill>
              <a:latin typeface="Trebuchet MS"/>
            </a:endParaRPr>
          </a:p>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ق العملهای عادی یا ساده در هر مرحله از انجام فروش بوسیله آمر پرداخت می گردد و معمولاً نسبت به فروش انجام می گیرد ، انگیزه بیشتری را برای افزایش فروش در بردارد . حق العمل خاص یا پوششی موقعی پرداخت  می گردد که رقم قابل ملاحظه ای فروش صورت گرفته باشد.</a:t>
            </a:r>
            <a:endParaRPr b="0" lang="en-US" sz="2000" spc="-1" strike="noStrike">
              <a:solidFill>
                <a:srgbClr val="404040"/>
              </a:solidFill>
              <a:latin typeface="Trebuchet MS"/>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عتباری یا نسیه</a:t>
            </a:r>
            <a:endParaRPr b="0" lang="en-US" sz="2900" spc="-1" strike="noStrike">
              <a:solidFill>
                <a:srgbClr val="90c226"/>
              </a:solidFill>
              <a:latin typeface="Trebuchet MS"/>
            </a:endParaRPr>
          </a:p>
        </p:txBody>
      </p:sp>
      <p:sp>
        <p:nvSpPr>
          <p:cNvPr id="148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حق العمل کار انتظار ندارد که کالاها را بصورت اعتباری یا نسیه به فروش برساند ، اگر آمر اجازه فروش نسیه را داده باشد ، هرگونه زیان و ضرری که ناشی از مطالبات سوخت شده یا مشکوک الوصول حاصل شود ، هزینه ها باید از سوی آمر جبران شود. برای اجتناب از چنین هزینه هایی حق کمیسیون فوق العاده ای به حق العمل کار به نام حق تضمین پرداخت خواهد شد که او مسئولیت جبران چنین هزینه هایی را بنماید. در چنین مواردی آمر فروش ناخالص را دریافت می کند که ممکن است پوششی یا غیر پوششی باشد. این حق العمل روی کل فروش محاسبه</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می گرد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5T01:24:19Z</dcterms:created>
  <dc:creator/>
  <dc:description/>
  <dc:language>en-US</dc:language>
  <cp:lastModifiedBy>admin</cp:lastModifiedBy>
  <dcterms:modified xsi:type="dcterms:W3CDTF">2020-03-14T19:47:29Z</dcterms:modified>
  <cp:revision>63</cp:revision>
  <dc:subject/>
  <dc:title>Slide 1</dc:title>
</cp:coreProperties>
</file>