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106443-0DE9-4E60-811A-E93707923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A5E67-F7BD-40B9-BE73-D2C5FAA25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DB44D83-AE57-4D24-8D8F-F8BC367BDE4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1BAC0EF-FE56-4384-A75A-328AFFB420A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3844CA1-458C-43C9-930C-D891F5F8F9A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0C203FA-6017-4038-801B-FC9A85D4605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88DFBDF-47BB-4CD9-BA8C-3C777F91517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73D6246-284C-455B-8216-0837745BD28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EA33CCD-0C54-465F-9820-C9253A5CEE4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C75B7F5D-EE69-4A10-919A-6D3F9DC539A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626CAD99-419C-4833-A66E-63F9E687A9FB}"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32C1DE55-C622-4364-A3CA-23493E2E07C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C95E6C-9C7E-441F-9EEC-2D1467731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F06A52F-ABB0-4EA2-BD2A-9ACAAC0CC7B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93A806C-245F-42AB-9505-E047EEB4CB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F42DE93-491D-4315-94D9-9762B10737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2A4416D-FE8D-48C3-9429-6060C6FF58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0533CBC-4586-49B1-9F21-564FF11FFF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FF4374C-2C2F-4110-8C34-FACCA0A747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15AA006-24C9-4CDA-8F3B-F9F8E6CACE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CAE6995-3CA5-4C48-8B4C-A92D5EF13B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9F833AC-EA16-4F8E-A98C-7349B2AF70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A53545F5-E265-4C9C-8011-127220A3A9D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1E5FAE-07C7-42FC-BD89-9B5224871B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33927955-F1CC-48AF-B1C3-3CAA70396A9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D7C67ACC-1236-48B6-BA09-7BED0861AC2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D36682A5-6B5C-4EE9-8E10-1B6918FD54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8FB4C486-DBDA-438D-A5E2-BAEB01913E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48B9686E-82E8-47C2-A3D7-5D3CC53E0C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1EA2A1D1-DC95-4C7A-AC56-E79E9D94D5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309D344A-FA9B-4A72-AF11-5691DB4804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0C3B4495-8264-4D0A-A429-467FFB2A32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88C5462E-4298-4CF4-8264-EFA9274DFE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2EDEE27D-7051-41BD-B1EF-DB92B497D1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2E43E0-B94E-4CB8-B776-512EE6AE59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BD4D68F5-46EF-4AE0-A6C0-C54D44F24A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F696BCED-245A-44B2-B22C-C31A308254F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6B4E48C1-F3CE-4A10-9C06-745BB82616F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DDBE366C-5252-4D00-A701-B0E9D0319AF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3C1EA8F-C85C-4397-AC92-845BB2F2C3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18864C0-F775-4202-AB0D-AC4AE691AC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9570EDA-3F19-4D9B-BE18-9FCDB0A905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8EEF59C-501D-47D6-B6D7-E56EEC127E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4A09C00-65B9-4CEB-8AE8-DB7206FBAF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AF1BAFD-FE8A-4966-8856-1C8A3A26A3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F7EBA0-A6E9-4FC7-A4FD-D5C485DA1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DD0A32C-6E60-413B-A92A-F7BAB9DD72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7D658BB-DF91-4248-B374-E3EA299E51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A5F01FB-0453-43EC-B2B1-3950965DA2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FF514199-9C33-4707-A058-42C31A1F209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3686C080-9AA9-4BFB-AE93-664AB2036A8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125B81-AC74-4D16-952F-9610999AF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B48034-7E3E-42EA-B138-62190DE87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E3495A-4A78-49A0-9758-5DAE903C55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C5DD94-92D2-4312-A4CF-3197B8540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BE0BF-32CC-447D-8395-37F01410B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AFA32-1A2A-4AC2-A6DE-D48905CCC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3B591-D9CF-4295-A767-ED9432902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6A266-6A2C-4A3D-A679-86B6A1B24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F6EB32-6C48-4A07-9C0F-6B7DAA312E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20DEF2-3F0B-4564-A3F1-211E0E18A1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8B2602-533D-4CEA-A494-F835538543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74D491-E035-4FC4-950B-B40EFE8CA6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77BEA1-2294-4820-8109-6985C063EF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B4B8F8-5597-4528-BE8D-EF134AEC25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833554-DD1E-46D7-A801-3D25245785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EE08E7-6378-4317-8FDE-8744991D5C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3D390-4D84-4E1F-8031-5A31F9ECA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67D485-BEB0-4D79-8314-466790556D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DCA39D-FDD7-4374-988B-0510660209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110B09-39FA-4356-AF7C-0F21312FC3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BDF05D-3876-474D-84EF-654E20A0F4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B38334-631F-4DC9-8B58-8F1409C988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60AC59-C2EC-4C11-A09B-3E9E71B868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1C05FA-D629-4B3E-A4C9-FE368C9B6A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FE7E44F2-6E48-4F9E-AFC6-651C59F733E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28B59A9A-3339-4494-8796-7759E0C3CE7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86DE48C4-F10F-4052-B8CB-8E6183540CE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BA849-7AFD-40EF-9446-E859926E2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CFDE09DA-6319-4F2C-859F-AF605C11DE3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719A59A7-473E-4B15-B32D-22D1B16C401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0FC8530F-2830-4BC8-BBF3-95411D642EC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8B6165E1-F2A6-40F3-8674-8D8A2325184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2E22C2D1-4E69-4479-A798-B99A9DCB8AF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EE53328B-0B0F-4050-9D49-6FDA8C88300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58F23D1F-637F-4F54-A10A-59B56B850CF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3F9F05F0-572B-4474-B09A-84B239B2DA11}"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9369D853-D915-4B66-97CC-5A41A1FC532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F5C66B15-E21A-4CCE-B92E-D0EF6FFA46A6}"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33FEE-047C-4004-9242-967E662E8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7A664E47-4A1A-405B-B382-2CCD214FDDE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BE137F34-7B4C-48AE-8F7F-3B250327E4B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F12C791E-25A8-42AB-822E-82E4D8DFA6D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4849CA53-91F9-4AA3-BDC9-F2B74F00DD0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C20193B4-3AC2-47B9-92A7-B2FE446B959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B0BADD97-A69F-4F84-9DF8-9F0C7CA0EA3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328EACBE-ABC3-4D82-A4B5-490F8D33F4C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11355BCA-4B90-4AFE-8A6C-A9C5029BD7C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0FEE7E7F-152B-451F-87F1-F6CBB9D01C8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83F9941A-5169-4752-8464-22B1BA82F6EC}"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3D7AE-D4AF-40BD-8FD3-A658A0A0C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5155A8D5-47CB-498E-9DF5-8CB7AF0FCDAD}"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5EF37C86-2DA4-4234-A28C-BB45ACE0251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0AECCE87-8E2E-4F8D-9702-0F4879620C6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650D3C7D-2DE6-4FF0-9F7C-BD90E839F5F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DDC1F5B5-D011-4B79-8F27-F80176A86C0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C4085F46-EE97-4944-82C0-08D3046E2AC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E1790D90-3179-4170-8C77-5311EF90038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463E3484-B2C0-4ABF-9E73-0B2436738FE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533C382D-5D96-406C-B1FD-4B9BF733E36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4F9BA3E9-5300-49B2-B17E-BD1EAABE275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92C9C-BE09-4A46-B208-15C568F11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CB2F534D-C3B1-4CD1-8892-65195991FF9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35BB7EEA-0386-4101-92FF-3B38737A197D}"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4538A20E-A9D2-4976-9869-2655470FEF51}"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ED1A5443-2668-4DAF-B6A9-D6B76D800768}"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CA9A3D51-BA40-438E-86F4-B09A0655A39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B548A234-0B4B-438D-AD6A-3A44566CF26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A8B5B72F-5AB1-4CB6-9831-ACA9DBA8233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061F0DAB-88C9-48C6-B7A2-EC6B18B2BB9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CFB16F5D-8AB9-4209-AF74-2B93BC13794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67F9E9CF-F6C9-4FF0-8FD0-A97F69E4C00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9288C-5B18-4B78-BDA3-9156F24BE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276BFF75-AFC6-42F4-8334-075A6F4DFFF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9634CDEC-38F7-464D-B4D3-46E42154556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8A376351-5243-4B74-82E5-6FF75B0A87E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E413BED6-5E9D-412A-A89E-2F917D3BFC1C}"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A18AA78A-BD0D-4430-834E-ACFCDAB3A81F}"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2A0E4920-D142-4294-B5DA-FEDABD33490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FB49B363-1B0F-4CD5-823E-09D3CF9A362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8A80044C-F4D2-4933-9AE1-F6843A16487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7A22C320-A653-4750-83C1-C1788E511AB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78AADD1B-5745-442A-814A-CC14D7BAE65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C8353-E328-4DEB-A4D0-5BE9D6C2B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29A77E75-A81D-4ED1-9B60-3C49EF7A5D8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6DD668BD-91C4-464B-8D31-7F8C7AF58BA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4769C96B-BC21-472C-8603-9816CDC4B23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F5029496-EA8E-4A09-BD94-6E5A75B1723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12022119-4554-4FE1-BA24-07C86876934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31357C97-4DC4-4678-BEB2-6A755219D81D}"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4193FE21-7BB6-49BD-B052-082ECD9F22EE}"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B0FF619E-4648-4AC5-9D8C-2B325017936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E24FBBC-B16A-43FC-84E8-B9AEDCE0629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9FC92E2-3880-437B-80EE-859CBEA2B1D0}"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BCACD-FF90-471E-A94E-28A91A90A79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65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9CC25-EAF2-45C2-98CE-DD41D132A04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00" name="PlaceHolder 4"/>
          <p:cNvSpPr>
            <a:spLocks noGrp="1"/>
          </p:cNvSpPr>
          <p:nvPr>
            <p:ph type="dt" idx="29"/>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01" name="PlaceHolder 5"/>
          <p:cNvSpPr>
            <a:spLocks noGrp="1"/>
          </p:cNvSpPr>
          <p:nvPr>
            <p:ph type="ftr" idx="30"/>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73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9"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3962F-5236-44D7-8EAC-6D5BBE1969A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80" name="PlaceHolder 4"/>
          <p:cNvSpPr>
            <a:spLocks noGrp="1"/>
          </p:cNvSpPr>
          <p:nvPr>
            <p:ph type="dt" idx="32"/>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81" name="PlaceHolder 5"/>
          <p:cNvSpPr>
            <a:spLocks noGrp="1"/>
          </p:cNvSpPr>
          <p:nvPr>
            <p:ph type="ftr" idx="33"/>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1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1" name="PlaceHolder 3"/>
          <p:cNvSpPr>
            <a:spLocks noGrp="1"/>
          </p:cNvSpPr>
          <p:nvPr>
            <p:ph type="sldNum" idx="34"/>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90BB7-843D-428D-BA04-8904C0951CB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862" name="PlaceHolder 4"/>
          <p:cNvSpPr>
            <a:spLocks noGrp="1"/>
          </p:cNvSpPr>
          <p:nvPr>
            <p:ph type="dt" idx="35"/>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63" name="PlaceHolder 5"/>
          <p:cNvSpPr>
            <a:spLocks noGrp="1"/>
          </p:cNvSpPr>
          <p:nvPr>
            <p:ph type="ftr" idx="36"/>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3" name="Rectangle 7"/>
          <p:cNvSpPr/>
          <p:nvPr/>
        </p:nvSpPr>
        <p:spPr>
          <a:xfrm>
            <a:off x="0" y="0"/>
            <a:ext cx="9144000" cy="601992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6172200"/>
            <a:ext cx="65530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6705720" y="6172200"/>
            <a:ext cx="243828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D9D88-1A10-4DCF-9C6E-5970B2B7331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9"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8339040" y="1447920"/>
            <a:ext cx="82728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2" name="PlaceHolder 4"/>
          <p:cNvSpPr>
            <a:spLocks noGrp="1"/>
          </p:cNvSpPr>
          <p:nvPr>
            <p:ph type="ftr" idx="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09AD0-072B-4C24-B063-83D0D480FD7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171"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92AEF-3136-4692-A7A5-DCFC98C573D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14" name="PlaceHolder 4"/>
          <p:cNvSpPr>
            <a:spLocks noGrp="1"/>
          </p:cNvSpPr>
          <p:nvPr>
            <p:ph type="dt" idx="11"/>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5" name="PlaceHolder 5"/>
          <p:cNvSpPr>
            <a:spLocks noGrp="1"/>
          </p:cNvSpPr>
          <p:nvPr>
            <p:ph type="ftr" idx="12"/>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253"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2D870-5B2B-40FE-919C-EEAEFD33527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96" name="PlaceHolder 4"/>
          <p:cNvSpPr>
            <a:spLocks noGrp="1"/>
          </p:cNvSpPr>
          <p:nvPr>
            <p:ph type="dt" idx="14"/>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5"/>
          <p:cNvSpPr>
            <a:spLocks noGrp="1"/>
          </p:cNvSpPr>
          <p:nvPr>
            <p:ph type="ftr" idx="15"/>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335"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7" name="PlaceHolder 3"/>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FA448-0235-4AAF-BB31-2CCBF26CD9D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378" name="PlaceHolder 4"/>
          <p:cNvSpPr>
            <a:spLocks noGrp="1"/>
          </p:cNvSpPr>
          <p:nvPr>
            <p:ph type="dt" idx="1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9" name="PlaceHolder 5"/>
          <p:cNvSpPr>
            <a:spLocks noGrp="1"/>
          </p:cNvSpPr>
          <p:nvPr>
            <p:ph type="ftr" idx="1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1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7" name="PlaceHolder 3"/>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97E19-6CF4-446F-B927-C782DBCB221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58" name="PlaceHolder 4"/>
          <p:cNvSpPr>
            <a:spLocks noGrp="1"/>
          </p:cNvSpPr>
          <p:nvPr>
            <p:ph type="dt" idx="20"/>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9" name="PlaceHolder 5"/>
          <p:cNvSpPr>
            <a:spLocks noGrp="1"/>
          </p:cNvSpPr>
          <p:nvPr>
            <p:ph type="ftr" idx="21"/>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9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62EDF-8849-4CE6-A0CC-9FE9B253F65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38" name="PlaceHolder 4"/>
          <p:cNvSpPr>
            <a:spLocks noGrp="1"/>
          </p:cNvSpPr>
          <p:nvPr>
            <p:ph type="dt" idx="23"/>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9" name="PlaceHolder 5"/>
          <p:cNvSpPr>
            <a:spLocks noGrp="1"/>
          </p:cNvSpPr>
          <p:nvPr>
            <p:ph type="ftr" idx="24"/>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57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9CCC3-7F54-4119-B34E-C1BD02D4F0C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18" name="PlaceHolder 4"/>
          <p:cNvSpPr>
            <a:spLocks noGrp="1"/>
          </p:cNvSpPr>
          <p:nvPr>
            <p:ph type="dt" idx="26"/>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19" name="PlaceHolder 5"/>
          <p:cNvSpPr>
            <a:spLocks noGrp="1"/>
          </p:cNvSpPr>
          <p:nvPr>
            <p:ph type="ftr" idx="27"/>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0" name="12" descr=""/>
          <p:cNvPicPr/>
          <p:nvPr/>
        </p:nvPicPr>
        <p:blipFill>
          <a:blip r:embed="rId1"/>
          <a:stretch/>
        </p:blipFill>
        <p:spPr>
          <a:xfrm>
            <a:off x="0" y="0"/>
            <a:ext cx="9144000" cy="6858000"/>
          </a:xfrm>
          <a:prstGeom prst="rect">
            <a:avLst/>
          </a:prstGeom>
          <a:ln w="0">
            <a:noFill/>
          </a:ln>
        </p:spPr>
      </p:pic>
    </p:spTree>
  </p:cSld>
  <p:transition>
    <p:fade/>
  </p:transition>
  <p:timing>
    <p:tnLst>
      <p:par>
        <p:cTn id="1" dur="indefinite" restart="never" nodeType="tmRoot">
          <p:childTnLst>
            <p:seq>
              <p:cTn id="2" restart="whenNotActive" nodeType="interactiveSeq" fill="hold">
                <p:stCondLst>
                  <p:cond evt="onClick">
                    <p:tgtEl>
                      <p:spTgt spid="900"/>
                    </p:tgtEl>
                  </p:cond>
                </p:stCondLst>
                <p:childTnLst>
                  <p:par>
                    <p:cTn id="3" fill="hold">
                      <p:stCondLst>
                        <p:cond evt="onClick">
                          <p:tgtEl>
                            <p:spTgt spid="90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6" name=""/>
          <p:cNvSpPr txBox="1"/>
          <p:nvPr/>
        </p:nvSpPr>
        <p:spPr>
          <a:xfrm>
            <a:off x="152280" y="228600"/>
            <a:ext cx="8839440" cy="6324480"/>
          </a:xfrm>
          <a:prstGeom prst="rect">
            <a:avLst/>
          </a:prstGeom>
          <a:noFill/>
          <a:ln w="0">
            <a:noFill/>
          </a:ln>
        </p:spPr>
        <p:txBody>
          <a:bodyPr anchor="t">
            <a:normAutofit fontScale="93000"/>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۲</a:t>
            </a:r>
            <a:r>
              <a:rPr b="1" lang="fa-IR" sz="3200" spc="-1" strike="noStrike">
                <a:solidFill>
                  <a:srgbClr val="000000"/>
                </a:solidFill>
                <a:latin typeface="Times New Roman"/>
                <a:ea typeface="B Nazanin"/>
              </a:rPr>
              <a:t>:به حداقل رساندن زمان فرایند از طریق فرایند زیر:</a:t>
            </a:r>
            <a:endParaRPr b="0" lang="en-US" sz="32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لف)طراحی خطوط تولیدی مناسب برای گردش سریع مواد و کالاها</a:t>
            </a:r>
            <a:endParaRPr b="0" lang="en-US" sz="32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ب)وسایل مناسب برای حمل و نقل سریع موا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۳</a:t>
            </a:r>
            <a:r>
              <a:rPr b="1" lang="fa-IR" sz="3200" spc="-1" strike="noStrike">
                <a:solidFill>
                  <a:srgbClr val="000000"/>
                </a:solidFill>
                <a:latin typeface="Times New Roman"/>
                <a:ea typeface="B Nazanin"/>
              </a:rPr>
              <a:t>:استفاده بهینه از فضای موجو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۴</a:t>
            </a:r>
            <a:r>
              <a:rPr b="1" lang="fa-IR" sz="3200" spc="-1" strike="noStrike">
                <a:solidFill>
                  <a:srgbClr val="000000"/>
                </a:solidFill>
                <a:latin typeface="Times New Roman"/>
                <a:ea typeface="B Nazanin"/>
              </a:rPr>
              <a:t>: استفاده بهینه از نیروی انسانی با فراهم کردن محیط کار مناسب و ایمنی</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7" name=""/>
          <p:cNvSpPr txBox="1"/>
          <p:nvPr/>
        </p:nvSpPr>
        <p:spPr>
          <a:xfrm>
            <a:off x="152280" y="228600"/>
            <a:ext cx="8839440" cy="6477120"/>
          </a:xfrm>
          <a:prstGeom prst="rect">
            <a:avLst/>
          </a:prstGeom>
          <a:noFill/>
          <a:ln w="0">
            <a:noFill/>
          </a:ln>
        </p:spPr>
        <p:txBody>
          <a:bodyPr anchor="t">
            <a:normAutofit fontScale="89000"/>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70c0"/>
                </a:solidFill>
                <a:latin typeface="Times New Roman"/>
                <a:cs typeface="B Nazanin"/>
              </a:rPr>
              <a:t>اصل موازنه</a:t>
            </a:r>
            <a:endParaRPr b="0" lang="en-US" sz="36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منظور از اصل موازنه  یا توازن در مدیریت تولید  این است که هر ایستگاه کار در خط تولید باید دارای چنان ظرفیتی باشد که بتواند تمام کار مرحله قبلی دریافت کند</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توازون تولید باعث کاهش موجودی انبارها و کاهش زمان بیکاری و زیان ناشی از تاخیر تولید محصولات می شود</a:t>
            </a:r>
            <a:endParaRPr b="0" lang="en-US" sz="3200" spc="-1" strike="noStrike">
              <a:solidFill>
                <a:srgbClr val="000000"/>
              </a:solidFill>
              <a:latin typeface="Calibri"/>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ظرفیت هر یک از  ایستگاه های کار باید طوری باشد که به راحتی تمام کار ماشین یا ایستگاه کار قبلی را دریافت کند و خود نیز به اندازه ظرفیت ماشین یا ایستگاه کار بعدی کار  ایجاد نمای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8" name=""/>
          <p:cNvSpPr txBox="1"/>
          <p:nvPr/>
        </p:nvSpPr>
        <p:spPr>
          <a:xfrm>
            <a:off x="152280" y="228600"/>
            <a:ext cx="8839440" cy="6477120"/>
          </a:xfrm>
          <a:prstGeom prst="rect">
            <a:avLst/>
          </a:prstGeom>
          <a:noFill/>
          <a:ln w="0">
            <a:noFill/>
          </a:ln>
        </p:spPr>
        <p:txBody>
          <a:bodyPr anchor="t">
            <a:normAutofit fontScale="89000"/>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215968"/>
                </a:solidFill>
                <a:latin typeface="Times New Roman"/>
                <a:cs typeface="B Nazanin"/>
              </a:rPr>
              <a:t>شیوه استقرار ماشین آلات و تجهیزات در کارخانه:</a:t>
            </a:r>
            <a:endParaRPr b="0" lang="en-US" sz="32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لف)استقرار بر مبنای محصول یا خط تولید یا خط مستقیم</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ب) استقرار بر مبنای مراحل و نوع عملیات یا طریقه تولی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پ) استقرار تلفیق شده یا ترکیبی(ترکیبی از </a:t>
            </a:r>
            <a:r>
              <a:rPr b="1" lang="fa-IR" sz="3200" spc="-1" strike="noStrike">
                <a:solidFill>
                  <a:srgbClr val="000000"/>
                </a:solidFill>
                <a:latin typeface="Times New Roman"/>
                <a:cs typeface="B Nazanin"/>
              </a:rPr>
              <a:t>۲</a:t>
            </a:r>
            <a:r>
              <a:rPr b="1" lang="fa-IR" sz="3200" spc="-1" strike="noStrike">
                <a:solidFill>
                  <a:srgbClr val="000000"/>
                </a:solidFill>
                <a:latin typeface="Times New Roman"/>
                <a:cs typeface="B Nazanin"/>
              </a:rPr>
              <a:t>موا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ت) استقرار محل ثابت</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9" name=""/>
          <p:cNvSpPr txBox="1"/>
          <p:nvPr/>
        </p:nvSpPr>
        <p:spPr>
          <a:xfrm>
            <a:off x="152280" y="228600"/>
            <a:ext cx="8839440" cy="6477120"/>
          </a:xfrm>
          <a:prstGeom prst="rect">
            <a:avLst/>
          </a:prstGeom>
          <a:noFill/>
          <a:ln w="0">
            <a:noFill/>
          </a:ln>
        </p:spPr>
        <p:txBody>
          <a:bodyPr anchor="t">
            <a:normAutofit fontScale="89000"/>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215968"/>
                </a:solidFill>
                <a:latin typeface="Times New Roman"/>
                <a:cs typeface="B Nazanin"/>
              </a:rPr>
              <a:t>شیوه استقرار ماشین آلات و تجهیزات در کارخانه:</a:t>
            </a:r>
            <a:endParaRPr b="0" lang="en-US" sz="32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لف)استقرار بر مبنای محصول یا خط تولید یا خط مستقیم</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ب) استقرار بر مبنای مراحل و نوع عملیات یا طریقه تولی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پ) استقرار تلفیق شده یا ترکیبی(ترکیبی از </a:t>
            </a:r>
            <a:r>
              <a:rPr b="1" lang="fa-IR" sz="3200" spc="-1" strike="noStrike">
                <a:solidFill>
                  <a:srgbClr val="000000"/>
                </a:solidFill>
                <a:latin typeface="Times New Roman"/>
                <a:cs typeface="B Nazanin"/>
              </a:rPr>
              <a:t>۲</a:t>
            </a:r>
            <a:r>
              <a:rPr b="1" lang="fa-IR" sz="3200" spc="-1" strike="noStrike">
                <a:solidFill>
                  <a:srgbClr val="000000"/>
                </a:solidFill>
                <a:latin typeface="Times New Roman"/>
                <a:cs typeface="B Nazanin"/>
              </a:rPr>
              <a:t>موا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ت) استقرار محل ثابت</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0" name=""/>
          <p:cNvSpPr txBox="1"/>
          <p:nvPr/>
        </p:nvSpPr>
        <p:spPr>
          <a:xfrm>
            <a:off x="151920" y="304920"/>
            <a:ext cx="8915400" cy="6324480"/>
          </a:xfrm>
          <a:prstGeom prst="rect">
            <a:avLst/>
          </a:prstGeom>
          <a:noFill/>
          <a:ln w="0">
            <a:noFill/>
          </a:ln>
        </p:spPr>
        <p:txBody>
          <a:bodyPr anchor="t">
            <a:normAutofit fontScale="89000"/>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215968"/>
                </a:solidFill>
                <a:latin typeface="Times New Roman"/>
                <a:cs typeface="B Nazanin"/>
              </a:rPr>
              <a:t>سطوح عمودي كارخانه :</a:t>
            </a:r>
            <a:endParaRPr b="0" lang="en-US" sz="36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بطور كلي شش سطح در يك كارخانه وجود دارد كه عبارتند از:</a:t>
            </a:r>
            <a:endParaRPr b="0" lang="en-US" sz="32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زيرزميني: در اين سطح معمولاً وسائل گرمايش، فاضلاب و ضايعات قرار مي‌گيرند</a:t>
            </a:r>
            <a:endParaRPr b="0" lang="en-US" sz="32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همكف: در اين سطح تجهيزات، انبارها و ابزار قرار مي گيرند.</a:t>
            </a:r>
            <a:endParaRPr b="0" lang="en-US" sz="32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حركت محصولات: سطحي است فرضي حدود يك متر بالاتر از سطح زمين قرار دارد مواد در اين سطح بين ماشين‌آلات انتقال مي‌يابن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1" name=""/>
          <p:cNvSpPr txBox="1"/>
          <p:nvPr/>
        </p:nvSpPr>
        <p:spPr>
          <a:xfrm>
            <a:off x="152280" y="228600"/>
            <a:ext cx="8839440" cy="6477120"/>
          </a:xfrm>
          <a:prstGeom prst="rect">
            <a:avLst/>
          </a:prstGeom>
          <a:noFill/>
          <a:ln w="0">
            <a:noFill/>
          </a:ln>
        </p:spPr>
        <p:txBody>
          <a:bodyPr anchor="t">
            <a:norm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آزاد: از بالاي بالاترين ماشين تا پايين خرپاي نگهدارندة سقف را شامل مي‌گردد معمولاً از اين سطح براي نقاله‌هاي بالابر و ياجابجا كننده استفاده مي‌شو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اسكلت فلزي: از پايين‌ترين قسمت اسكلت فلزي تا زير سقف را شامل مي‌شود و از اين سطح براي وسائل تهويه، سرمايشي، سيم‌كشي‌ها و لوله‌هاي آب پاشي استفاده مي گرد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پشت بام: براي وسائل تهويه و تانكرهاي آب مورد استفاده قرار مي‌گير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1" name="TextBox 4"/>
          <p:cNvSpPr/>
          <p:nvPr/>
        </p:nvSpPr>
        <p:spPr>
          <a:xfrm>
            <a:off x="1066680" y="1981080"/>
            <a:ext cx="6705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002060"/>
                </a:solidFill>
                <a:latin typeface="IranNastaliq"/>
                <a:cs typeface="IranNastaliq"/>
              </a:rPr>
              <a:t>بسم الله الرحمن الرحیم</a:t>
            </a:r>
            <a:endParaRPr b="0" lang="en-US" sz="9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2" name="Picture 3" descr=""/>
          <p:cNvPicPr/>
          <p:nvPr/>
        </p:nvPicPr>
        <p:blipFill>
          <a:blip r:embed="rId1"/>
          <a:stretch/>
        </p:blipFill>
        <p:spPr>
          <a:xfrm>
            <a:off x="0" y="1676520"/>
            <a:ext cx="9144000" cy="5181480"/>
          </a:xfrm>
          <a:prstGeom prst="rect">
            <a:avLst/>
          </a:prstGeom>
          <a:ln w="0">
            <a:noFill/>
          </a:ln>
        </p:spPr>
      </p:pic>
      <p:sp>
        <p:nvSpPr>
          <p:cNvPr id="903" name="TextBox 5"/>
          <p:cNvSpPr/>
          <p:nvPr/>
        </p:nvSpPr>
        <p:spPr>
          <a:xfrm>
            <a:off x="1066680" y="20016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وزارت علوم تحقیقات و فناوری</a:t>
            </a:r>
            <a:endParaRPr b="0" lang="en-US" sz="8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4" name="TextBox 3"/>
          <p:cNvSpPr/>
          <p:nvPr/>
        </p:nvSpPr>
        <p:spPr>
          <a:xfrm>
            <a:off x="1066680" y="198108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آموزشکده فنی و حرفه ای دختران ارومیه</a:t>
            </a:r>
            <a:endParaRPr b="0" lang="en-US" sz="8000" spc="-1" strike="noStrike">
              <a:solidFill>
                <a:srgbClr val="000000"/>
              </a:solidFill>
              <a:latin typeface="Arial"/>
            </a:endParaRPr>
          </a:p>
        </p:txBody>
      </p:sp>
      <p:sp>
        <p:nvSpPr>
          <p:cNvPr id="905" name="TextBox 5"/>
          <p:cNvSpPr/>
          <p:nvPr/>
        </p:nvSpPr>
        <p:spPr>
          <a:xfrm>
            <a:off x="1044720" y="30492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انشگاه فنی و حرفه ای</a:t>
            </a:r>
            <a:endParaRPr b="0" lang="en-US" sz="8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6" name="TextBox 4"/>
          <p:cNvSpPr/>
          <p:nvPr/>
        </p:nvSpPr>
        <p:spPr>
          <a:xfrm>
            <a:off x="1103400" y="3084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رس : مدیریت تولید</a:t>
            </a:r>
            <a:endParaRPr b="0" lang="en-US" sz="8000" spc="-1" strike="noStrike">
              <a:solidFill>
                <a:srgbClr val="000000"/>
              </a:solidFill>
              <a:latin typeface="Arial"/>
            </a:endParaRPr>
          </a:p>
        </p:txBody>
      </p:sp>
      <p:sp>
        <p:nvSpPr>
          <p:cNvPr id="907" name="TextBox 3"/>
          <p:cNvSpPr/>
          <p:nvPr/>
        </p:nvSpPr>
        <p:spPr>
          <a:xfrm>
            <a:off x="1103400" y="5181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استاد مربوطه : خانم جهتی</a:t>
            </a:r>
            <a:endParaRPr b="0" lang="en-US" sz="8000" spc="-1" strike="noStrike">
              <a:solidFill>
                <a:srgbClr val="000000"/>
              </a:solidFill>
              <a:latin typeface="Arial"/>
            </a:endParaRPr>
          </a:p>
        </p:txBody>
      </p:sp>
      <p:sp>
        <p:nvSpPr>
          <p:cNvPr id="908" name="TextBox 5"/>
          <p:cNvSpPr/>
          <p:nvPr/>
        </p:nvSpPr>
        <p:spPr>
          <a:xfrm>
            <a:off x="1103400" y="609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مقطع تحصیلی کارشناسی</a:t>
            </a:r>
            <a:endParaRPr b="0" lang="en-US" sz="8000" spc="-1" strike="noStrike">
              <a:solidFill>
                <a:srgbClr val="000000"/>
              </a:solidFill>
              <a:latin typeface="Arial"/>
            </a:endParaRPr>
          </a:p>
        </p:txBody>
      </p:sp>
      <p:sp>
        <p:nvSpPr>
          <p:cNvPr id="909" name="TextBox 6"/>
          <p:cNvSpPr/>
          <p:nvPr/>
        </p:nvSpPr>
        <p:spPr>
          <a:xfrm>
            <a:off x="1103400" y="17812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رشته حسابداری</a:t>
            </a:r>
            <a:endParaRPr b="0" lang="en-US" sz="8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419040" y="28191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فصل چهارم</a:t>
            </a:r>
            <a:endParaRPr b="0" lang="en-US" sz="6000" spc="-1" strike="noStrike">
              <a:solidFill>
                <a:srgbClr val="000000"/>
              </a:solidFill>
              <a:latin typeface="Calibri"/>
            </a:endParaRPr>
          </a:p>
        </p:txBody>
      </p:sp>
      <p:sp>
        <p:nvSpPr>
          <p:cNvPr id="911" name=""/>
          <p:cNvSpPr txBox="1"/>
          <p:nvPr/>
        </p:nvSpPr>
        <p:spPr>
          <a:xfrm>
            <a:off x="152280" y="4952520"/>
            <a:ext cx="8763120" cy="1219320"/>
          </a:xfrm>
          <a:prstGeom prst="rect">
            <a:avLst/>
          </a:prstGeom>
          <a:noFill/>
          <a:ln w="0">
            <a:noFill/>
          </a:ln>
        </p:spPr>
        <p:txBody>
          <a:bodyPr anchor="t">
            <a:normAutofit fontScale="82000"/>
          </a:bodyPr>
          <a:p>
            <a:pPr algn="ctr" rtl="1">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000000"/>
                </a:solidFill>
                <a:latin typeface="Times New Roman"/>
                <a:cs typeface="B Nazanin"/>
              </a:rPr>
              <a:t>نحوه استقرار ماشین آلات</a:t>
            </a:r>
            <a:endParaRPr b="0" lang="en-US" sz="5400" spc="-1" strike="noStrike">
              <a:solidFill>
                <a:srgbClr val="000000"/>
              </a:solidFill>
              <a:latin typeface="Calibri"/>
            </a:endParaRPr>
          </a:p>
        </p:txBody>
      </p:sp>
      <p:sp>
        <p:nvSpPr>
          <p:cNvPr id="912" name="Title 1"/>
          <p:cNvSpPr/>
          <p:nvPr/>
        </p:nvSpPr>
        <p:spPr>
          <a:xfrm>
            <a:off x="419040" y="930240"/>
            <a:ext cx="8229600" cy="11430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ffffff"/>
                </a:solidFill>
                <a:latin typeface="IranNastaliq"/>
                <a:cs typeface="IranNastaliq"/>
              </a:rPr>
              <a:t>جلسه چهارم</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3" name=""/>
          <p:cNvSpPr txBox="1"/>
          <p:nvPr/>
        </p:nvSpPr>
        <p:spPr>
          <a:xfrm>
            <a:off x="152280" y="533160"/>
            <a:ext cx="8839440" cy="5638680"/>
          </a:xfrm>
          <a:prstGeom prst="rect">
            <a:avLst/>
          </a:prstGeom>
          <a:noFill/>
          <a:ln w="0">
            <a:noFill/>
          </a:ln>
        </p:spPr>
        <p:txBody>
          <a:bodyPr anchor="t">
            <a:norm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Times New Roman"/>
                <a:cs typeface="B Nazanin"/>
              </a:rPr>
              <a:t>مقدمه :</a:t>
            </a:r>
            <a:endParaRPr b="0" lang="en-US" sz="32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cc"/>
                </a:solidFill>
                <a:latin typeface="Times New Roman"/>
                <a:ea typeface="B Nazanin"/>
              </a:rPr>
              <a:t> </a:t>
            </a:r>
            <a:r>
              <a:rPr b="1" lang="fa-IR" sz="2800" spc="-1" strike="noStrike">
                <a:solidFill>
                  <a:srgbClr val="000000"/>
                </a:solidFill>
                <a:latin typeface="Times New Roman"/>
                <a:cs typeface="B Nazanin"/>
              </a:rPr>
              <a:t>ماشین آلات بگونه ای استقرار می یابد که تولید ، اقتصادی و مقرون به صرفه باشد. این محل احتیاج به تحلیل هدف ، مراحل کار ، گردش عملیات ، تسهیلات و . . . دارد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Times New Roman"/>
                <a:cs typeface="B Nazanin"/>
              </a:rPr>
              <a:t>خط و مشی های مدیریت:</a:t>
            </a:r>
            <a:endParaRPr b="0" lang="en-US" sz="32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نظور ، سیاستهای مشخص کننده نوع ، کیفیت محصول ، اندازه کارخانه ، نحوه انعطاف پذیری در کارخانه ، برنامه های توسعه ، میزان موجودی و نوع تسهیلات برای کارکنان است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4" name=""/>
          <p:cNvSpPr txBox="1"/>
          <p:nvPr/>
        </p:nvSpPr>
        <p:spPr>
          <a:xfrm>
            <a:off x="152280" y="456840"/>
            <a:ext cx="8839440" cy="6095880"/>
          </a:xfrm>
          <a:prstGeom prst="rect">
            <a:avLst/>
          </a:prstGeom>
          <a:noFill/>
          <a:ln w="0">
            <a:noFill/>
          </a:ln>
        </p:spPr>
        <p:txBody>
          <a:bodyPr anchor="t">
            <a:normAutofit fontScale="91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Times New Roman"/>
                <a:cs typeface="B Nazanin"/>
              </a:rPr>
              <a:t>محل و موقعیت : </a:t>
            </a:r>
            <a:r>
              <a:rPr b="1" lang="fa-IR" sz="3200" spc="-1" strike="noStrike">
                <a:solidFill>
                  <a:srgbClr val="000000"/>
                </a:solidFill>
                <a:latin typeface="Times New Roman"/>
                <a:cs typeface="B Nazanin"/>
              </a:rPr>
              <a:t>ترکیب عوامل تولید در یک منطقه با منطقه دیگر بکلی متفاوت است. محل کارخانه از نظر وسعت و اندازه و شکل و موقعیت جغرافیایی و نوع ساختمان و ترتیب کلی استقرار و مکان آن به منظور دریافت حمل و نقل مواد و بارگیری صحیح و به منظور جریان صحیح تولید  در داخل و خارج کارخانه موثر است.</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Times New Roman"/>
                <a:cs typeface="B Nazanin"/>
              </a:rPr>
              <a:t>فرایند های ساخت: </a:t>
            </a:r>
            <a:r>
              <a:rPr b="1" lang="fa-IR" sz="3200" spc="-1" strike="noStrike">
                <a:solidFill>
                  <a:srgbClr val="000000"/>
                </a:solidFill>
                <a:latin typeface="Times New Roman"/>
                <a:cs typeface="B Nazanin"/>
              </a:rPr>
              <a:t>نوع فرایند ساخت مورد استفاده در کارخانه یا عملیاتی که برای تولید انجام می شود در نوع جا و مکان مورد نظر در کارخانه موثر است.</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5" name=""/>
          <p:cNvSpPr txBox="1"/>
          <p:nvPr/>
        </p:nvSpPr>
        <p:spPr>
          <a:xfrm>
            <a:off x="152280" y="228600"/>
            <a:ext cx="8839440" cy="6324480"/>
          </a:xfrm>
          <a:prstGeom prst="rect">
            <a:avLst/>
          </a:prstGeom>
          <a:noFill/>
          <a:ln w="0">
            <a:noFill/>
          </a:ln>
        </p:spPr>
        <p:txBody>
          <a:bodyPr anchor="t">
            <a:normAutofit fontScale="96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Times New Roman"/>
                <a:cs typeface="B Nazanin"/>
              </a:rPr>
              <a:t>اهداف و مزایای استفاده از محل و طرز استقرار داخلی:</a:t>
            </a:r>
            <a:endParaRPr b="0" lang="en-US" sz="3200" spc="-1" strike="noStrike">
              <a:solidFill>
                <a:srgbClr val="000000"/>
              </a:solidFill>
              <a:latin typeface="Calibri"/>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1</a:t>
            </a:r>
            <a:r>
              <a:rPr b="1" lang="fa-IR" sz="3200" spc="-1" strike="noStrike">
                <a:solidFill>
                  <a:srgbClr val="000000"/>
                </a:solidFill>
                <a:latin typeface="Times New Roman"/>
                <a:ea typeface="B Nazanin"/>
              </a:rPr>
              <a:t>:تسهیل فرایند تولید از طریق تدابیر زیر:</a:t>
            </a:r>
            <a:endParaRPr b="0" lang="en-US" sz="3200" spc="-1" strike="noStrike">
              <a:solidFill>
                <a:srgbClr val="000000"/>
              </a:solidFill>
              <a:latin typeface="Calibri"/>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لف)استقرار تجهیزات در محلی که حداکثر استفاده از آن به عمل آید.</a:t>
            </a:r>
            <a:endParaRPr b="0" lang="en-US" sz="3200" spc="-1" strike="noStrike">
              <a:solidFill>
                <a:srgbClr val="000000"/>
              </a:solidFill>
              <a:latin typeface="Calibri"/>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ب)کاهش تجمع و تراکم بیهوده مواد و نیروی انسانی از طریق تعیین صحیح ایستگاه های تولید</a:t>
            </a:r>
            <a:endParaRPr b="0" lang="en-US" sz="3200" spc="-1" strike="noStrike">
              <a:solidFill>
                <a:srgbClr val="000000"/>
              </a:solidFill>
              <a:latin typeface="Calibri"/>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ج)دسترسی سریعتر به وسایل و خدمات تعمیرات و نگهداری</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skarifar</dc:creator>
  <dc:description/>
  <dc:language>en-US</dc:language>
  <cp:lastModifiedBy>Toka</cp:lastModifiedBy>
  <dcterms:modified xsi:type="dcterms:W3CDTF">2020-04-12T19:49:01Z</dcterms:modified>
  <cp:revision>1411</cp:revision>
  <dc:subject/>
  <dc:title>Slide 1</dc:title>
</cp:coreProperties>
</file>