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5351D-748F-40EB-A7E1-F12F0AEB6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F7744-CE36-4AD9-B943-58F638287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52028C3-95C1-4F61-807C-9CFF8715AA1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47146CD-2C59-4901-879B-35139872499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31AF525-3AE1-4841-8614-29A0B89CB77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3B1BD49-718E-407A-89DF-1A77F2C5B0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547FDCE-B293-4271-A4DE-B6A5B26BFC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537CF23-3089-4C0E-A7BD-1D1277802B6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B0394B4-4FD0-4F1F-B298-9FC9BB69B34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8ED87D9-77DE-41E8-A4A6-5891BEC11C8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6672B3A-415D-424B-A173-DAAC6CA6D20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78B2BEC-82FB-4B47-B380-C34BB151AC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138A7-F148-4F2C-9BAB-76933F33D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3BEEAA6-6074-451B-993B-738173FD5D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52D52CA-5A79-438C-841A-C806D173AA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EF1A0A5-17A9-4354-B5FC-BC0974A2F4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A2DA745-AFBF-419D-BE2F-DF6B3C7A27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1B5FBED-593B-439C-8620-33AF4ABC26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86791C5-9941-4301-8323-555E342CA1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0AB765D-0FA0-4443-B96C-66F5FB5C7B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D08DAA6-549C-4A5C-9561-B8E6FE8DAF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3D8F1AA-2DFC-482A-88CF-C09725A9A2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41058F3-1ED2-46E5-9358-C38DD4566E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27ADF-6B59-4D00-9D11-C6DADD84C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A02719E-67B6-4F8E-B1AA-5AC0C41287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1F8EE20A-4E46-4AF4-A638-76D0DFCC53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4615574E-704F-4AD9-A457-CA1B9328FC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9C780590-A4A2-497D-83C3-989C2FD074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1865639-E3C7-44E8-9C43-6BE4F779AA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FD4D60C9-EAD2-4B03-934F-B5BAC7F72F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6BC389F-FD34-4E6F-BDB7-1C5C6FFB93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2CE0DE8-2394-4331-8ED7-5949336E75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88510E2-29F1-412E-8028-8933B02EFB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FB363DEA-CDE2-4372-8EE1-B254B612E8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C423A-EB9D-41F4-B49B-64C60641A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756DD214-D43D-43A3-8FFD-6E137DF2A0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E3D3CC0D-18AF-4ED6-AB76-A3AB544F3B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874959C0-64F5-41A6-B0B5-0A8DC8CB2E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FE353D1-CBCD-4EAD-A11B-9FFCFAAB72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6F6567C-D9E3-4370-99BC-286DA41B09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E0D4CB1-1C12-4BF6-A71E-617AC10907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F3453EC-6F9E-436C-954B-814E7E381D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E75DBAD-BF3D-4BEE-9CDB-0FE69DA535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5A668DD-418E-4962-A1DC-DC2BE820EE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04AED8B-93A8-4E44-BFA2-A7D5801420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C57BE-E4AA-4521-BB8D-D38AD4ABB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791D237-7645-4630-9FF2-6CDBD00EC5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B1AA7CF-695A-44E0-92E7-1DC4D0A484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4EEF753-067A-4B63-A056-6EFD33298E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C2D5FCD-587D-4D0D-9EBB-D3AC220715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B2A36CA-6AEF-4AF9-8A4A-123112C13A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4FB33-2138-43E6-8C5C-395EC9BB5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C7C1C-0409-4114-AB9D-C29104BDB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9E661-C27A-4EC0-8822-CDD702266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C90F6-660E-4E8A-98A1-5762B24F2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8B53E-2F13-44D7-963C-473308F30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F57EE-CF9A-4455-8D8C-9CA165486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E1729-0DE6-4E21-B39E-245D010FC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B22CF-7E9D-489C-8E2B-C0708210E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AB0AB-8683-4855-A48E-C91FF2572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8FE2C-EBDC-48BB-B725-27E764346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45BDB-E0B1-4E21-BD1C-A3F13E1F8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BA376A-BBFA-4EA8-81B6-1A8B6E7105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671891-13E4-4997-A269-2249775D7A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E2CFB0-5F7F-47F2-96BC-E4393D7D7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20F93-11F8-4520-AC87-A56E47086B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52836A-21D7-4035-85E8-D86EAD3EF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A0965-FF9C-484D-A921-7BF0DF55E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0009CE-D238-4884-A82C-401A21256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6E359-52D2-413C-A500-A236D79A3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598CF2-4146-4548-94AD-298F66B94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D9F7F7-2F0A-4911-B43D-CB7BC4B12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9C8C74-AE3F-43D6-BA6F-61271EDBF4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461604-953C-4C0D-9E7B-978C7BAF00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C1870E-5681-4398-842F-53A3440B3B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A776E4DD-30D2-49E7-BDF5-2BFA1E2FD96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ABDCF2ED-8EF5-42E0-908F-4A6F1844E4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294B3A43-14B8-4440-94C5-B5FBD8364F4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F62B6-4399-421B-AA9A-456D39D41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760036CB-F95A-419B-A5BB-606851954AB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FF78F94-A781-440D-9F97-C68D8A1646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34F467A3-A02F-4DC6-83CF-D27DDC53EA1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529CDDE2-260F-4591-A58D-4E95BE96EF1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C6EEEEB1-D2A0-4359-9E2E-FA631C9B9D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1F2B5963-1040-4A16-8C73-7530E2D25D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5409972D-90C9-464D-A2EF-FC5302143CD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09E8168A-BEE1-4FDF-9D2E-B081774D2D5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C43888B1-4C3C-4C6C-AC82-725A43CA669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516F7A9D-E970-4809-9258-F1D51729E3F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13D69-0345-46B5-A3BF-E514F83D2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CFC7025-00C9-472B-BD68-738E000F567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E587313-74B0-437F-9052-974FA5B2AE4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B819FBC0-C25B-4B7B-89AC-87569D28B18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93ACAF94-B541-4B6E-B923-686126B2477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FBB2CAF-0B19-43F8-A0D8-FD3C21C7290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EB3BE3CE-9032-4C4E-9259-1A027B1F15F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FD984BD-B0A9-4F23-8167-40BBACF3824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6BF76A8-D47F-4ADB-9766-A88C7F19610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2D986B6-5D6C-4AC6-A029-57B2D42F725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581C37B4-EA62-4B3E-8B71-11E97B89862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C709D-72D3-47CA-BD7B-4989D1A76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12CC609B-14FE-49E5-9633-8A78618AF4F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7EA22411-B317-4525-A9C7-BE311044CA7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D25C4B59-726E-4AFF-BFDA-A25FD733D5F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DB68740C-0870-4B9C-8D0C-8DC656858A1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E2420140-C76A-42B5-8054-DCEABD39757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662EDFDA-2906-4AB6-BB4C-D3F617698E6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3E14ECE2-1C53-4300-ACA9-17BEC533677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3395BD8F-91C7-4264-B1CC-84806064486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216CB66-5BEC-495D-8F68-DA3113C621A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B737BED-399F-443B-8BA6-BFCE486CECA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48FCB-55A4-418F-B92E-7EADF6C85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9DA87FEE-2B99-4E99-9E9A-BE34C0A5A06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9D02AC3E-BE21-435D-960F-44873CF52E7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3944731C-2A53-4423-9352-AE06F526C0C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CBC5BF3A-6434-4C9D-BA4C-9DEAA94E97F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495148E9-C3D6-4902-A158-2FD2CB01BC4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95E0E0CB-59D6-450D-88C2-8D6AA53A8F3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9329E81-D586-4F22-9602-8E846BF5BA6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54F1D6BD-0FCD-410B-B724-14779C3104F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8D1857C0-5C40-4155-A3EF-9FE09D4769B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43A96E3-D111-4C28-AEC4-2BF130C8A54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55E4-6C24-40F1-8650-89A3DF7C6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BF340C5-0011-4D3F-9843-A3099BEDDA5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79A5523C-45F6-467D-8F68-E3E89A6B146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90D11B9C-1776-4359-8442-4AE4868A8E7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84429D3F-0B34-4819-8E3C-F4C01D44098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284DD7E1-7039-4EFA-BDED-5F0798CF783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4FCD0EAC-2B4F-4627-86AD-97E239E1C4C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D1B4879C-E9C5-4950-BDED-F39C9059C70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AC2476A3-6CFB-4A79-ACB7-EC2DFD4955A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809DF3AE-BA04-4C4F-AD38-BE3A7793013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D382A8DC-6C31-491F-B5DB-F6042DF4FCB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08A36-5F8B-43A8-B9AC-E95DBB479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DA9497C3-1EAF-4142-B9EC-DCAF6832ED2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81F1004-91CB-454A-A491-D063471950D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04FDB938-F0DD-4BCA-9AAA-B82B84E961E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DCABE8DE-E80A-4EE7-BB7B-E8F376DEFDF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410F3376-B9DC-40AE-B378-B5FBC200541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967263EB-74F2-46DB-BA58-AEF6F7FC69B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F7819C0A-C4F3-4475-B06F-58860DE250D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6D24A27-85D7-4487-BA13-CA23B007FBB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3C4632D-85AA-4AD3-953E-2FC82C83574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0A2D084-28AE-4F55-800D-4844D1263BA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F4C6-40DF-4932-B7AD-9F4D01E875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FB76-C0D6-4011-A4BC-80635CB4A4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80F8-564A-4A65-B5EF-0046CC2437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414C-6732-4512-9EB6-A53FFAB75C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C26E-92AF-4D15-A786-AEBA77C582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1D23-650A-475A-BF32-13B89DAADB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8C12-893D-43D0-85ED-E488F1F459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8DC8-C1AC-4560-A69E-34F9F63BD1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E481-1D23-4EB3-8ACE-9818DDC5F39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5676-71A5-4A34-8726-BFB5513CEE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4882-E77D-4279-9B25-D199C5BCC4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872F-AAEB-4C22-BA40-86C944AF4B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6" name=""/>
          <p:cNvSpPr txBox="1"/>
          <p:nvPr/>
        </p:nvSpPr>
        <p:spPr>
          <a:xfrm>
            <a:off x="152280" y="228600"/>
            <a:ext cx="8839440" cy="6324480"/>
          </a:xfrm>
          <a:prstGeom prst="rect">
            <a:avLst/>
          </a:prstGeom>
          <a:noFill/>
          <a:ln w="0">
            <a:noFill/>
          </a:ln>
        </p:spPr>
        <p:txBody>
          <a:bodyPr anchor="t">
            <a:normAutofit fontScale="93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۲</a:t>
            </a:r>
            <a:r>
              <a:rPr b="1" lang="fa-IR" sz="3200" spc="-1" strike="noStrike">
                <a:solidFill>
                  <a:srgbClr val="000000"/>
                </a:solidFill>
                <a:latin typeface="Times New Roman"/>
                <a:ea typeface="B Nazanin"/>
              </a:rPr>
              <a:t>:به حداقل رساندن زمان فرایند از طریق فرایند زیر:</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طراحی خطوط تولیدی مناسب برای گردش سریع مواد و کالاها</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وسایل مناسب برای حمل و نقل سریع موا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۳</a:t>
            </a:r>
            <a:r>
              <a:rPr b="1" lang="fa-IR" sz="3200" spc="-1" strike="noStrike">
                <a:solidFill>
                  <a:srgbClr val="000000"/>
                </a:solidFill>
                <a:latin typeface="Times New Roman"/>
                <a:ea typeface="B Nazanin"/>
              </a:rPr>
              <a:t>:استفاده بهینه از فضای موج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۴</a:t>
            </a:r>
            <a:r>
              <a:rPr b="1" lang="fa-IR" sz="3200" spc="-1" strike="noStrike">
                <a:solidFill>
                  <a:srgbClr val="000000"/>
                </a:solidFill>
                <a:latin typeface="Times New Roman"/>
                <a:ea typeface="B Nazanin"/>
              </a:rPr>
              <a:t>: استفاده بهینه از نیروی انسانی با فراهم کردن محیط کار مناسب و ایمن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70c0"/>
                </a:solidFill>
                <a:latin typeface="Times New Roman"/>
                <a:cs typeface="B Nazanin"/>
              </a:rPr>
              <a:t>اصل موازنه</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نظور از اصل موازنه  یا توازن در مدیریت تولید  این است که هر ایستگاه کار در خط تولید باید دارای چنان ظرفیتی باشد که بتواند تمام کار مرحله قبلی دریافت ک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وازون تولید باعث کاهش موجودی انبارها و کاهش زمان بیکاری و زیان ناشی از تاخیر تولید محصولات می شود</a:t>
            </a:r>
            <a:endParaRPr b="0" lang="en-US" sz="3200" spc="-1" strike="noStrike">
              <a:solidFill>
                <a:srgbClr val="000000"/>
              </a:solidFill>
              <a:latin typeface="Calibri"/>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ظرفیت هر یک از  ایستگاه های کار باید طوری باشد که به راحتی تمام کار ماشین یا ایستگاه کار قبلی را دریافت کند و خود نیز به اندازه ظرفیت ماشین یا ایستگاه کار بعدی کار  ایجاد نمای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1920" y="304920"/>
            <a:ext cx="8915400" cy="6324480"/>
          </a:xfrm>
          <a:prstGeom prst="rect">
            <a:avLst/>
          </a:prstGeom>
          <a:noFill/>
          <a:ln w="0">
            <a:noFill/>
          </a:ln>
        </p:spPr>
        <p:txBody>
          <a:bodyPr anchor="t">
            <a:normAutofit fontScale="89000"/>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215968"/>
                </a:solidFill>
                <a:latin typeface="Times New Roman"/>
                <a:cs typeface="B Nazanin"/>
              </a:rPr>
              <a:t>سطوح عمودي كارخانه :</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بطور كلي شش سطح در يك كارخانه وجود دارد كه عبارتند از:</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زيرزميني: در اين سطح معمولاً وسائل گرمايش، فاضلاب و ضايعات قرار مي‌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همكف: در اين سطح تجهيزات، انبارها و ابزار قرار مي 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حركت محصولات: سطحي است فرضي حدود يك متر بالاتر از سطح زمين قرار دارد مواد در اين سطح بين ماشين‌آلات انتقال مي‌يابن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600"/>
            <a:ext cx="8839440" cy="64771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آزاد: از بالاي بالاترين ماشين تا پايين خرپاي نگهدارندة سقف را شامل مي‌گردد معمولاً از اين سطح براي نقاله‌هاي بالابر و ياجابجا كننده استفاده مي‌ش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اسكلت فلزي: از پايين‌ترين قسمت اسكلت فلزي تا زير سقف را شامل مي‌شود و از اين سطح براي وسائل تهويه، سرمايشي، سيم‌كشي‌ها و لوله‌هاي آب پاشي استفاده مي گرد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پشت بام: براي وسائل تهويه و تانكرهاي آب مورد استفاده قرار مي‌گي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1904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چهارم</a:t>
            </a:r>
            <a:endParaRPr b="0" lang="en-US" sz="6000" spc="-1" strike="noStrike">
              <a:solidFill>
                <a:srgbClr val="000000"/>
              </a:solidFill>
              <a:latin typeface="Calibri"/>
            </a:endParaRPr>
          </a:p>
        </p:txBody>
      </p:sp>
      <p:sp>
        <p:nvSpPr>
          <p:cNvPr id="911" name=""/>
          <p:cNvSpPr txBox="1"/>
          <p:nvPr/>
        </p:nvSpPr>
        <p:spPr>
          <a:xfrm>
            <a:off x="152280" y="4952520"/>
            <a:ext cx="8763120" cy="12193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نحوه استقرار ماشین آلات</a:t>
            </a:r>
            <a:endParaRPr b="0" lang="en-US" sz="5400" spc="-1" strike="noStrike">
              <a:solidFill>
                <a:srgbClr val="000000"/>
              </a:solidFill>
              <a:latin typeface="Calibri"/>
            </a:endParaRPr>
          </a:p>
        </p:txBody>
      </p:sp>
      <p:sp>
        <p:nvSpPr>
          <p:cNvPr id="912" name="Title 1"/>
          <p:cNvSpPr/>
          <p:nvPr/>
        </p:nvSpPr>
        <p:spPr>
          <a:xfrm>
            <a:off x="419040" y="9302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ff"/>
                </a:solidFill>
                <a:latin typeface="IranNastaliq"/>
                <a:cs typeface="IranNastaliq"/>
              </a:rPr>
              <a:t>جلسه چهار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
          <p:cNvSpPr txBox="1"/>
          <p:nvPr/>
        </p:nvSpPr>
        <p:spPr>
          <a:xfrm>
            <a:off x="152280" y="533160"/>
            <a:ext cx="8839440" cy="56386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قدمه :</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Nazanin"/>
              </a:rPr>
              <a:t> </a:t>
            </a:r>
            <a:r>
              <a:rPr b="1" lang="fa-IR" sz="2800" spc="-1" strike="noStrike">
                <a:solidFill>
                  <a:srgbClr val="000000"/>
                </a:solidFill>
                <a:latin typeface="Times New Roman"/>
                <a:cs typeface="B Nazanin"/>
              </a:rPr>
              <a:t>ماشین آلات بگونه ای استقرار می یابد که تولید ، اقتصادی و مقرون به صرفه باشد. این محل احتیاج به تحلیل هدف ، مراحل کار ، گردش عملیات ، تسهیلات و . . . دار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خط و مشی های مدیریت:</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نظور ، سیاستهای مشخص کننده نوع ، کیفیت محصول ، اندازه کارخانه ، نحوه انعطاف پذیری در کارخانه ، برنامه های توسعه ، میزان موجودی و نوع تسهیلات برای کارکنان است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4" name=""/>
          <p:cNvSpPr txBox="1"/>
          <p:nvPr/>
        </p:nvSpPr>
        <p:spPr>
          <a:xfrm>
            <a:off x="152280" y="456840"/>
            <a:ext cx="8839440" cy="6095880"/>
          </a:xfrm>
          <a:prstGeom prst="rect">
            <a:avLst/>
          </a:prstGeom>
          <a:noFill/>
          <a:ln w="0">
            <a:noFill/>
          </a:ln>
        </p:spPr>
        <p:txBody>
          <a:bodyPr anchor="t">
            <a:normAutofit fontScale="9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حل و موقعیت : </a:t>
            </a:r>
            <a:r>
              <a:rPr b="1" lang="fa-IR" sz="3200" spc="-1" strike="noStrike">
                <a:solidFill>
                  <a:srgbClr val="000000"/>
                </a:solidFill>
                <a:latin typeface="Times New Roman"/>
                <a:cs typeface="B Nazanin"/>
              </a:rPr>
              <a:t>ترکیب عوامل تولید در یک منطقه با منطقه دیگر بکلی متفاوت است. محل کارخانه از نظر وسعت و اندازه و شکل و موقعیت جغرافیایی و نوع ساختمان و ترتیب کلی استقرار و مکان آن به منظور دریافت حمل و نقل مواد و بارگیری صحیح و به منظور جریان صحیح تولید  در داخل و خارج کارخانه موث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فرایند های ساخت: </a:t>
            </a:r>
            <a:r>
              <a:rPr b="1" lang="fa-IR" sz="3200" spc="-1" strike="noStrike">
                <a:solidFill>
                  <a:srgbClr val="000000"/>
                </a:solidFill>
                <a:latin typeface="Times New Roman"/>
                <a:cs typeface="B Nazanin"/>
              </a:rPr>
              <a:t>نوع فرایند ساخت مورد استفاده در کارخانه یا عملیاتی که برای تولید انجام می شود در نوع جا و مکان مورد نظر در کارخانه موثر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
          <p:cNvSpPr txBox="1"/>
          <p:nvPr/>
        </p:nvSpPr>
        <p:spPr>
          <a:xfrm>
            <a:off x="152280" y="228600"/>
            <a:ext cx="8839440" cy="6324480"/>
          </a:xfrm>
          <a:prstGeom prst="rect">
            <a:avLst/>
          </a:prstGeom>
          <a:noFill/>
          <a:ln w="0">
            <a:noFill/>
          </a:ln>
        </p:spPr>
        <p:txBody>
          <a:bodyPr anchor="t">
            <a:normAutofit fontScale="9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اهداف و مزایای استفاده از محل و طرز استقرار داخلی:</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تسهیل فرایند تولید از طریق تدابیر زیر:</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تجهیزات در محلی که حداکثر استفاده از آن به عمل آ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کاهش تجمع و تراکم بیهوده مواد و نیروی انسانی از طریق تعیین صحیح ایستگاه های تول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دسترسی سریعتر به وسایل و خدمات تعمیرات و نگهدار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9:01Z</dcterms:modified>
  <cp:revision>1411</cp:revision>
  <dc:subject/>
  <dc:title>Slide 1</dc:title>
</cp:coreProperties>
</file>