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A56595-0BD7-4A8B-A80A-9A0E359D49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2C476-B083-4D9E-938F-92CE3BEA5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53FEE57-EE77-4ABF-9F11-7C3B867E34C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88B0CC0-D653-4758-BCF1-0137C288AEC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2EDCFDC-AD8D-4AC5-A106-A1F940E6C85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A11722A-964C-4D3D-92D9-FD29004819D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B6DEEC4-5F82-4391-9475-48DC062E48D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6ACD1A7-90D8-45C3-99BC-BE42E1B3762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764A0310-6AF2-4760-B80F-AF8B989C080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C8CCB970-AD1F-46BD-BEF7-24B278B5E378}"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7EB27E60-0739-45EA-9218-733A3DAC64AF}"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A7C1E1EA-2620-4C3B-88B7-53CFC40C723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C2F275-DD63-4052-B80C-CAAE3979AF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2DD1098-B612-4A56-B167-16FE301BB0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BB62127-71A8-405C-A282-96C67591F6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4C66F62-5DDB-4DA2-AD17-622445B481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538AD8E-F75A-41BE-983F-95DDBCDC2AF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268E82B-E3D2-4F5B-BE18-83A7118E1BA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292A1D8-237C-445B-A321-F499F874B6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10E9108-12E6-40A3-BC32-265EAF3E6C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EAF6C63-0201-4E26-9D47-9FE2B88DD6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52D797E-D1C8-4F82-A392-8E8D779001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2918A87A-67D7-4555-98E5-2537F3C80ED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1222CD-11D2-48DF-8E47-D505DBC3DF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7CAEF5DE-A81A-4137-BA17-AAFDED6DB9D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1FCA75CE-4C7E-4773-9799-E9FF9F36FE6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6941A57D-71BB-46F6-896A-B0C6D89FCAE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93D796A2-DBEB-49B5-82B8-722CA0FCDBA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11963EC5-DA92-4A58-B8D7-949A1003092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77C8C593-096F-4D77-B23F-5FEC0CD0EC3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8892EF6E-E388-409F-8151-04F4E6638D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1DF607E1-B8F0-429C-866A-BCEA69773C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66003E1F-E7A5-4755-AAD5-78EC628A66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1D3FD07E-A647-4403-9BC2-A01F77D609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92FBC4-FFD2-4FF7-B1BC-7B41A10513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E13D792A-B6F4-4F03-BE36-1CEBCF09D6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C1D2D099-9F91-4824-813B-356EFEEF9AB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D9DB9B04-8C33-4623-847D-9AA15FD99BF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FD9400DA-7E5B-4A92-AB10-6FAC4B10FE9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DF13395-20DD-4A81-BB13-FA269A9F993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A459797-CC14-4E1C-B0CA-BD2A4FD03E7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C951E5C-115C-422F-B823-999C9C2440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5AA6EE6-98FF-48AB-8FA8-7C9798A3B6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0FED6D8-0D13-493B-9BCE-3C9D4DB8FD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8DAF62C-D841-4223-9D31-B2361C8B28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6CF23C-645A-4A96-ACA3-FAE5810EC2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E9497CD-CC74-497A-9409-EB5215D9C9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CCF6C11-11E5-433A-BE7C-9FB9851484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312E40A-1578-4E51-AB01-DC3F8A76AE8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CC0F434C-C7E2-4823-A46A-6FA39991086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C354EBEA-E6B4-48B0-B1F4-4195CEE4296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9598FD-9567-4EAF-B3A1-8DA69E4CDE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3BBC50-CF0D-4809-9630-0D76CD26AB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D71BA8-ED2C-40B8-AEA8-0979283754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F414E6-8753-4017-B6AA-FC1F872644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150B0-7F48-4FA7-8543-C5DBCE538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04C85-CB81-4FD6-BC57-96294B6C2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1749C-B7DB-4AF2-A055-FF752A189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53EFF-3262-45C1-AA1C-B0E8C783DC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5A0BD-1CF2-4FDA-A633-4AC60D5FF1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ED4E1F-C52E-407B-A537-A3598029A1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AB161B-B5EF-4CE0-A88E-A2CF026165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3CD183-8505-4491-BD1E-7F84DDAAB1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4E4EF6-834D-45A2-BC7C-48F8B7A3B3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BDBACA-F913-4DD7-9F7D-A276EFACF5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882FE6-3398-4F4A-A83D-FDA2F05E36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4A3B39-8CB8-429E-9CF3-966DCC3A4B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AED2F-9817-43D3-9C94-7D1463F99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8B3EB9-4ACC-43A2-A361-E352282751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6B6DBF-5911-4158-9C31-94DECF4BAD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7A7953-9B0E-4515-B540-784FA38D5B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62579C-AF4E-4252-9B01-404D64A14A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FE0070-75CC-40C8-AF8F-E27E2D422E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19019B-D3E0-463B-96EB-EE10C612B2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3FA67C-26CA-4118-BFFD-B0DE08258B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12E3DA7E-248F-4A02-89C5-6ED7B2843EF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9089C20E-04B9-4146-BE79-D936ACE4F4D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B510FAD3-688F-48B9-A469-12FA77D8CEF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75145-AEE8-4FC8-B14B-8D4EF4CBB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F2D95BBB-7D78-4958-A1CE-0B090C59B65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143F40A5-AC9F-4014-BB53-A9819F2EB43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1C1E9FD9-CDA1-4984-9E98-0A3E821B57E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A8A915DC-AFF0-4CBC-B7B0-97EB0FB42D7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AE3DEAB9-D599-4CF6-B112-CFABC5AC901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12F8E416-A37F-4CFB-9AAB-8DE9FC7ED9B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6F32608D-018E-49FB-AC87-59A223A13FA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8C2E99F1-D7DD-4CE1-8C35-8499E6B823A0}"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AECF56C9-3B52-4227-9058-803223DFD407}"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21434C45-C94C-4623-A886-FEAFDBF79521}"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45FA1-0795-4621-AA8A-2C8937F86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B72F9B63-7383-4D0B-97B9-7A6FE51AC0F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7BF32495-FFD5-4065-AB5B-1E544D9F120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FD4C213A-39B7-46C5-968C-1BC48E149014}"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C21FFF14-57F4-4D0C-BAE3-BC2900980AD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77406188-AB49-468D-A94A-87D05322512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4CCA2E88-AA19-4EAC-BD06-72F70D4FC40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C589DD98-F97C-4C05-A242-1FEE4010F60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D35CD01A-E9F0-495B-BE3A-40D814F2ACC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D60EC3D1-672F-48C8-9C57-C83CAC6F567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EBCDEC02-7F87-4196-A1C9-94D15DF75EDC}"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AB5A5-403B-4E20-A350-A17573237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338D122A-E127-4586-93E8-4E5EE336DEAF}"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DAC1899F-B020-444B-8315-1B650F06EB4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567F0650-C912-4183-9029-344FC42F386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AFF9B6B5-CABE-4959-BF24-88FA65D8BCA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2F2F9128-5E6F-4DF4-9DD4-D964A2FCA81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6A4D1167-8388-45AB-8EB1-1317EF330B9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CCF0576C-52C4-473E-AAE2-78C0380312D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2CFBC22C-C530-49C5-9B97-F39FEA0F2E5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9A7B492B-0372-41E1-9876-ED999264E56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567BA239-EC53-4F8E-81ED-CF93CE9D82F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9E876-5FFF-4D95-B184-93EA7E12A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023F2C1E-0C99-4D25-BEB5-55B19957D7E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23FB9857-552F-4395-A886-1E785527FD0B}"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7F64E4D5-43BB-41A6-8254-C8EC48AAEFB5}"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19"/>
          </p:nvPr>
        </p:nvSpPr>
        <p:spPr/>
        <p:txBody>
          <a:bodyPr/>
          <a:p>
            <a:fld id="{355A9D53-69D6-4D8F-B3E5-42CBFC96756A}"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8B5A2584-7507-4E56-9B16-C3838E199B9D}"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66F557BB-DEA2-4368-97DF-1666143AA57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13425ED4-8C2D-461C-87DA-58DEDDD3292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6D14977D-2C84-4F35-9AB0-758416B92E0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25ED4507-B4F2-4BB8-B787-09A9ACF89F6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1C6C351C-54D0-48E4-838D-1DDDA9384D5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16A9E-9200-42EF-8712-074DE30ED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75793982-772A-4707-8EA0-B27C4C04D59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35FFD649-5E60-47EE-8E42-5690A67A4C5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EF678BF5-2320-4595-9BAD-18672020FD5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19"/>
          </p:nvPr>
        </p:nvSpPr>
        <p:spPr/>
        <p:txBody>
          <a:bodyPr/>
          <a:p>
            <a:fld id="{06245438-2E7A-4BBD-AB8B-DE2E4B085D26}"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19"/>
          </p:nvPr>
        </p:nvSpPr>
        <p:spPr/>
        <p:txBody>
          <a:bodyPr/>
          <a:p>
            <a:fld id="{B953EFD8-F8F1-4A00-ACBA-914C453EDF08}"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4F443D4A-74C9-4CA0-9D28-9A7DD87E947D}"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E110C812-C6FB-41F0-AB33-62263C278FCE}"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A4B6B2CE-FF96-4550-8FFC-19F934BF83FC}"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4859DE73-EDD8-4184-B8B0-5F15FF49964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AE50DBA8-7681-4EA9-8BA0-C49351CDB5E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9CB1A-D2E0-40FD-8C1D-DF7E1DAAE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7761D4C6-EFD3-40FD-AAED-3E63A3265F3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481B2DF9-A071-43FF-8EC4-75961470F6F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9D136E1D-9595-4B21-8145-CA078DD6479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CF1D4C9B-D6CA-40D8-B716-0BE9DF9F836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DA8B0CFB-3F0A-48B2-9E1E-90B65A55BCE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C91078DD-D5E0-4807-A525-9BE64C290BF9}"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0EBE8733-C2CD-4E8A-914F-4381CABA01C3}"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26BE7E3C-8447-408B-B649-F26EDDA05CC6}"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9D95B6E-044C-45AD-AC15-D2A20C6502A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31BEC2A-14D2-4407-AFF7-802FF0CF2D6F}"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D95A8-19E9-44EA-89CF-320D0F0E2AA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65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BF580-5082-4DA2-BA31-586AB49EBAF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00" name="PlaceHolder 4"/>
          <p:cNvSpPr>
            <a:spLocks noGrp="1"/>
          </p:cNvSpPr>
          <p:nvPr>
            <p:ph type="dt" idx="29"/>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01" name="PlaceHolder 5"/>
          <p:cNvSpPr>
            <a:spLocks noGrp="1"/>
          </p:cNvSpPr>
          <p:nvPr>
            <p:ph type="ftr" idx="30"/>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73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9" name="PlaceHolder 3"/>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065E9-06BF-44D1-A906-6189D4F3625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80" name="PlaceHolder 4"/>
          <p:cNvSpPr>
            <a:spLocks noGrp="1"/>
          </p:cNvSpPr>
          <p:nvPr>
            <p:ph type="dt" idx="32"/>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81" name="PlaceHolder 5"/>
          <p:cNvSpPr>
            <a:spLocks noGrp="1"/>
          </p:cNvSpPr>
          <p:nvPr>
            <p:ph type="ftr" idx="33"/>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1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1" name="PlaceHolder 3"/>
          <p:cNvSpPr>
            <a:spLocks noGrp="1"/>
          </p:cNvSpPr>
          <p:nvPr>
            <p:ph type="sldNum" idx="34"/>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B31F4-6345-4E14-9CA1-5BCCC68CDE2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862" name="PlaceHolder 4"/>
          <p:cNvSpPr>
            <a:spLocks noGrp="1"/>
          </p:cNvSpPr>
          <p:nvPr>
            <p:ph type="dt" idx="35"/>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63" name="PlaceHolder 5"/>
          <p:cNvSpPr>
            <a:spLocks noGrp="1"/>
          </p:cNvSpPr>
          <p:nvPr>
            <p:ph type="ftr" idx="36"/>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3" name="Rectangle 7"/>
          <p:cNvSpPr/>
          <p:nvPr/>
        </p:nvSpPr>
        <p:spPr>
          <a:xfrm>
            <a:off x="0" y="0"/>
            <a:ext cx="9144000" cy="601992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8"/>
          <p:cNvSpPr/>
          <p:nvPr/>
        </p:nvSpPr>
        <p:spPr>
          <a:xfrm>
            <a:off x="0" y="6172200"/>
            <a:ext cx="65530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6705720" y="6172200"/>
            <a:ext cx="243828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64599-BE92-43AA-924C-63E1D541B38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9"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8339040" y="1447920"/>
            <a:ext cx="82728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2" name="PlaceHolder 4"/>
          <p:cNvSpPr>
            <a:spLocks noGrp="1"/>
          </p:cNvSpPr>
          <p:nvPr>
            <p:ph type="ftr" idx="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F9FF1-50F2-497B-A536-A825DC5967D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171"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3" name="PlaceHolder 3"/>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4AD67-FC96-4AE1-946D-D1584E082C8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14" name="PlaceHolder 4"/>
          <p:cNvSpPr>
            <a:spLocks noGrp="1"/>
          </p:cNvSpPr>
          <p:nvPr>
            <p:ph type="dt" idx="11"/>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5" name="PlaceHolder 5"/>
          <p:cNvSpPr>
            <a:spLocks noGrp="1"/>
          </p:cNvSpPr>
          <p:nvPr>
            <p:ph type="ftr" idx="12"/>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253"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BF081-C4D8-4642-B401-981CC2B5880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96" name="PlaceHolder 4"/>
          <p:cNvSpPr>
            <a:spLocks noGrp="1"/>
          </p:cNvSpPr>
          <p:nvPr>
            <p:ph type="dt" idx="14"/>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5"/>
          <p:cNvSpPr>
            <a:spLocks noGrp="1"/>
          </p:cNvSpPr>
          <p:nvPr>
            <p:ph type="ftr" idx="15"/>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335"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7" name="PlaceHolder 3"/>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A9008-CBC5-4B5A-A987-FBADC15050E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378" name="PlaceHolder 4"/>
          <p:cNvSpPr>
            <a:spLocks noGrp="1"/>
          </p:cNvSpPr>
          <p:nvPr>
            <p:ph type="dt" idx="1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9" name="PlaceHolder 5"/>
          <p:cNvSpPr>
            <a:spLocks noGrp="1"/>
          </p:cNvSpPr>
          <p:nvPr>
            <p:ph type="ftr" idx="1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1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7" name="PlaceHolder 3"/>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0CCF9-78CA-4A42-B934-7680C49A344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58" name="PlaceHolder 4"/>
          <p:cNvSpPr>
            <a:spLocks noGrp="1"/>
          </p:cNvSpPr>
          <p:nvPr>
            <p:ph type="dt" idx="20"/>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9" name="PlaceHolder 5"/>
          <p:cNvSpPr>
            <a:spLocks noGrp="1"/>
          </p:cNvSpPr>
          <p:nvPr>
            <p:ph type="ftr" idx="21"/>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9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7" name="PlaceHolder 3"/>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5A89D-680B-4F7E-91D4-C6D264DF4FB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38" name="PlaceHolder 4"/>
          <p:cNvSpPr>
            <a:spLocks noGrp="1"/>
          </p:cNvSpPr>
          <p:nvPr>
            <p:ph type="dt" idx="23"/>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9" name="PlaceHolder 5"/>
          <p:cNvSpPr>
            <a:spLocks noGrp="1"/>
          </p:cNvSpPr>
          <p:nvPr>
            <p:ph type="ftr" idx="24"/>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57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6BF66-00BF-40F2-B582-4A9464B9B01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18" name="PlaceHolder 4"/>
          <p:cNvSpPr>
            <a:spLocks noGrp="1"/>
          </p:cNvSpPr>
          <p:nvPr>
            <p:ph type="dt" idx="26"/>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19" name="PlaceHolder 5"/>
          <p:cNvSpPr>
            <a:spLocks noGrp="1"/>
          </p:cNvSpPr>
          <p:nvPr>
            <p:ph type="ftr" idx="27"/>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0" name="12" descr=""/>
          <p:cNvPicPr/>
          <p:nvPr/>
        </p:nvPicPr>
        <p:blipFill>
          <a:blip r:embed="rId1"/>
          <a:stretch/>
        </p:blipFill>
        <p:spPr>
          <a:xfrm>
            <a:off x="0" y="0"/>
            <a:ext cx="9144000" cy="6858000"/>
          </a:xfrm>
          <a:prstGeom prst="rect">
            <a:avLst/>
          </a:prstGeom>
          <a:ln w="0">
            <a:noFill/>
          </a:ln>
        </p:spPr>
      </p:pic>
    </p:spTree>
  </p:cSld>
  <p:transition>
    <p:fade/>
  </p:transition>
  <p:timing>
    <p:tnLst>
      <p:par>
        <p:cTn id="1" dur="indefinite" restart="never" nodeType="tmRoot">
          <p:childTnLst>
            <p:seq>
              <p:cTn id="2" restart="whenNotActive" nodeType="interactiveSeq" fill="hold">
                <p:stCondLst>
                  <p:cond evt="onClick">
                    <p:tgtEl>
                      <p:spTgt spid="900"/>
                    </p:tgtEl>
                  </p:cond>
                </p:stCondLst>
                <p:childTnLst>
                  <p:par>
                    <p:cTn id="3" fill="hold">
                      <p:stCondLst>
                        <p:cond evt="onClick">
                          <p:tgtEl>
                            <p:spTgt spid="90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9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18" name="Content Placeholder 3" descr=""/>
          <p:cNvPicPr/>
          <p:nvPr/>
        </p:nvPicPr>
        <p:blipFill>
          <a:blip r:embed="rId1"/>
          <a:stretch/>
        </p:blipFill>
        <p:spPr>
          <a:xfrm>
            <a:off x="304920" y="380880"/>
            <a:ext cx="8505720" cy="624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cs typeface="B Titr"/>
              </a:rPr>
              <a:t>انواع شيوه های پيش بينی</a:t>
            </a:r>
            <a:endParaRPr b="0" lang="en-US" sz="4800" spc="-1" strike="noStrike">
              <a:solidFill>
                <a:srgbClr val="000000"/>
              </a:solidFill>
              <a:latin typeface="Calibri"/>
            </a:endParaRPr>
          </a:p>
        </p:txBody>
      </p:sp>
      <p:sp>
        <p:nvSpPr>
          <p:cNvPr id="920" name=""/>
          <p:cNvSpPr txBox="1"/>
          <p:nvPr/>
        </p:nvSpPr>
        <p:spPr>
          <a:xfrm>
            <a:off x="152280" y="1523880"/>
            <a:ext cx="8839440" cy="5181840"/>
          </a:xfrm>
          <a:prstGeom prst="rect">
            <a:avLst/>
          </a:prstGeom>
          <a:noFill/>
          <a:ln w="0">
            <a:noFill/>
          </a:ln>
        </p:spPr>
        <p:txBody>
          <a:bodyPr anchor="t">
            <a:normAutofit fontScale="75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روش های کیفی: از تجربه و قضاوت افراد خبره استفاده می‌کنند. برخی از این روش ها عبارتند از :</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Nazanin"/>
              </a:rPr>
              <a:t>1</a:t>
            </a:r>
            <a:r>
              <a:rPr b="1" lang="fa-IR" sz="3200" spc="-1" strike="noStrike">
                <a:solidFill>
                  <a:srgbClr val="000000"/>
                </a:solidFill>
                <a:latin typeface="Times New Roman"/>
                <a:ea typeface="B Nazanin"/>
              </a:rPr>
              <a:t>. نظرخواهی از فروشندگان</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Nazanin"/>
              </a:rPr>
              <a:t>2</a:t>
            </a:r>
            <a:r>
              <a:rPr b="1" lang="fa-IR" sz="3200" spc="-1" strike="noStrike">
                <a:solidFill>
                  <a:srgbClr val="000000"/>
                </a:solidFill>
                <a:latin typeface="Times New Roman"/>
                <a:ea typeface="B Nazanin"/>
              </a:rPr>
              <a:t>. روش توافق جمعی</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Nazanin"/>
              </a:rPr>
              <a:t>3</a:t>
            </a:r>
            <a:r>
              <a:rPr b="1" lang="fa-IR" sz="3200" spc="-1" strike="noStrike">
                <a:solidFill>
                  <a:srgbClr val="000000"/>
                </a:solidFill>
                <a:latin typeface="Times New Roman"/>
                <a:ea typeface="B Nazanin"/>
              </a:rPr>
              <a:t>. انتظارات مصرف کنندگان</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Nazanin"/>
              </a:rPr>
              <a:t>4</a:t>
            </a:r>
            <a:r>
              <a:rPr b="1" lang="fa-IR" sz="3200" spc="-1" strike="noStrike">
                <a:solidFill>
                  <a:srgbClr val="000000"/>
                </a:solidFill>
                <a:latin typeface="Times New Roman"/>
                <a:ea typeface="B Nazanin"/>
              </a:rPr>
              <a:t>. روش دلفی</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روش های کمّی: از روش های ریاضی و آمار استفاده می‌کنند. که دسته بندی های زیر را شامل می شوند:</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Nazanin"/>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cs typeface="B Titr"/>
              </a:rPr>
              <a:t>روش های کیفی</a:t>
            </a:r>
            <a:endParaRPr b="0" lang="en-US" sz="4800" spc="-1" strike="noStrike">
              <a:solidFill>
                <a:srgbClr val="000000"/>
              </a:solidFill>
              <a:latin typeface="Calibri"/>
            </a:endParaRPr>
          </a:p>
        </p:txBody>
      </p:sp>
      <p:graphicFrame>
        <p:nvGraphicFramePr>
          <p:cNvPr id="922" name=""/>
          <p:cNvGraphicFramePr/>
          <p:nvPr/>
        </p:nvGraphicFramePr>
        <p:xfrm>
          <a:off x="533520" y="1600200"/>
          <a:ext cx="8458200" cy="4191120"/>
        </p:xfrm>
        <a:graphic>
          <a:graphicData uri="http://schemas.openxmlformats.org/drawingml/2006/table">
            <a:tbl>
              <a:tblPr/>
              <a:tblGrid>
                <a:gridCol w="2003400"/>
                <a:gridCol w="2781360"/>
                <a:gridCol w="2368440"/>
                <a:gridCol w="1305000"/>
              </a:tblGrid>
              <a:tr h="407880">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Nazanin"/>
                        </a:rPr>
                        <a:t>نقاط ضعف</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Nazanin"/>
                        </a:rPr>
                        <a:t>نقاط قوت</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Nazanin"/>
                        </a:rPr>
                        <a:t>ويژگي ها</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Nazanin"/>
                        </a:rPr>
                        <a:t>روش</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260720">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عقيده يک مدير مي‌تواند نتيجه پيش‌بيني را تحت تاثير قراردهد.</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مناسب براي پيش‌بيني‌هاي راهبردي و محصول جديد.</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پيش‌بيني با توجه به نظر گروهي از مديران تعيين مي‌شود.</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گروه مشورتي مديرا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261800">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مشکل بودن طراحي پرسشنامه خوب.</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تعيين کننده مناسب ترجيحات مشتري.</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با استفاده از پيمايش و مصاحبه، ترجيحات مشتري‌شناسايي‌مي‌شود</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تحقيق بازار</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260720">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زمان بر بود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روش عالي براي پيش‌بيني تقاضاي بلند مدت محصول، تحولات تکنولوژيک و پيشرفتهاي علمي.</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به دنبال ايجاد اجماع بين متخصصين است.</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روش دلفي</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1" name="TextBox 4"/>
          <p:cNvSpPr/>
          <p:nvPr/>
        </p:nvSpPr>
        <p:spPr>
          <a:xfrm>
            <a:off x="1066680" y="1981080"/>
            <a:ext cx="6705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002060"/>
                </a:solidFill>
                <a:latin typeface="IranNastaliq"/>
                <a:cs typeface="IranNastaliq"/>
              </a:rPr>
              <a:t>بسم الله الرحمن الرحیم</a:t>
            </a:r>
            <a:endParaRPr b="0" lang="en-US" sz="96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2" name="Picture 3" descr=""/>
          <p:cNvPicPr/>
          <p:nvPr/>
        </p:nvPicPr>
        <p:blipFill>
          <a:blip r:embed="rId1"/>
          <a:stretch/>
        </p:blipFill>
        <p:spPr>
          <a:xfrm>
            <a:off x="0" y="1676520"/>
            <a:ext cx="9144000" cy="5181480"/>
          </a:xfrm>
          <a:prstGeom prst="rect">
            <a:avLst/>
          </a:prstGeom>
          <a:ln w="0">
            <a:noFill/>
          </a:ln>
        </p:spPr>
      </p:pic>
      <p:sp>
        <p:nvSpPr>
          <p:cNvPr id="903" name="TextBox 5"/>
          <p:cNvSpPr/>
          <p:nvPr/>
        </p:nvSpPr>
        <p:spPr>
          <a:xfrm>
            <a:off x="1066680" y="20016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وزارت علوم تحقیقات و فناوری</a:t>
            </a:r>
            <a:endParaRPr b="0" lang="en-US" sz="8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4" name="TextBox 3"/>
          <p:cNvSpPr/>
          <p:nvPr/>
        </p:nvSpPr>
        <p:spPr>
          <a:xfrm>
            <a:off x="1066680" y="198108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آموزشکده فنی و حرفه ای دختران ارومیه</a:t>
            </a:r>
            <a:endParaRPr b="0" lang="en-US" sz="8000" spc="-1" strike="noStrike">
              <a:solidFill>
                <a:srgbClr val="000000"/>
              </a:solidFill>
              <a:latin typeface="Arial"/>
            </a:endParaRPr>
          </a:p>
        </p:txBody>
      </p:sp>
      <p:sp>
        <p:nvSpPr>
          <p:cNvPr id="905" name="TextBox 5"/>
          <p:cNvSpPr/>
          <p:nvPr/>
        </p:nvSpPr>
        <p:spPr>
          <a:xfrm>
            <a:off x="1044720" y="30492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انشگاه فنی و حرفه ای</a:t>
            </a:r>
            <a:endParaRPr b="0" lang="en-US" sz="80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6" name="TextBox 4"/>
          <p:cNvSpPr/>
          <p:nvPr/>
        </p:nvSpPr>
        <p:spPr>
          <a:xfrm>
            <a:off x="1103400" y="3084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رس : مدیریت تولید</a:t>
            </a:r>
            <a:endParaRPr b="0" lang="en-US" sz="8000" spc="-1" strike="noStrike">
              <a:solidFill>
                <a:srgbClr val="000000"/>
              </a:solidFill>
              <a:latin typeface="Arial"/>
            </a:endParaRPr>
          </a:p>
        </p:txBody>
      </p:sp>
      <p:sp>
        <p:nvSpPr>
          <p:cNvPr id="907" name="TextBox 3"/>
          <p:cNvSpPr/>
          <p:nvPr/>
        </p:nvSpPr>
        <p:spPr>
          <a:xfrm>
            <a:off x="1103400" y="5181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استاد مربوطه : خانم جهتی</a:t>
            </a:r>
            <a:endParaRPr b="0" lang="en-US" sz="8000" spc="-1" strike="noStrike">
              <a:solidFill>
                <a:srgbClr val="000000"/>
              </a:solidFill>
              <a:latin typeface="Arial"/>
            </a:endParaRPr>
          </a:p>
        </p:txBody>
      </p:sp>
      <p:sp>
        <p:nvSpPr>
          <p:cNvPr id="908" name="TextBox 5"/>
          <p:cNvSpPr/>
          <p:nvPr/>
        </p:nvSpPr>
        <p:spPr>
          <a:xfrm>
            <a:off x="1103400" y="609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مقطع تحصیلی کارشناسی</a:t>
            </a:r>
            <a:endParaRPr b="0" lang="en-US" sz="8000" spc="-1" strike="noStrike">
              <a:solidFill>
                <a:srgbClr val="000000"/>
              </a:solidFill>
              <a:latin typeface="Arial"/>
            </a:endParaRPr>
          </a:p>
        </p:txBody>
      </p:sp>
      <p:sp>
        <p:nvSpPr>
          <p:cNvPr id="909" name="TextBox 6"/>
          <p:cNvSpPr/>
          <p:nvPr/>
        </p:nvSpPr>
        <p:spPr>
          <a:xfrm>
            <a:off x="1103400" y="17812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رشته حسابداری</a:t>
            </a:r>
            <a:endParaRPr b="0" lang="en-US" sz="80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IranNastaliq"/>
                <a:cs typeface="IranNastaliq"/>
              </a:rPr>
              <a:t>فصل پنجم</a:t>
            </a:r>
            <a:endParaRPr b="0" lang="en-US" sz="6000" spc="-1" strike="noStrike">
              <a:solidFill>
                <a:srgbClr val="000000"/>
              </a:solidFill>
              <a:latin typeface="Calibri"/>
            </a:endParaRPr>
          </a:p>
        </p:txBody>
      </p:sp>
      <p:sp>
        <p:nvSpPr>
          <p:cNvPr id="911" name=""/>
          <p:cNvSpPr txBox="1"/>
          <p:nvPr/>
        </p:nvSpPr>
        <p:spPr>
          <a:xfrm>
            <a:off x="152280" y="5105520"/>
            <a:ext cx="8839440" cy="914400"/>
          </a:xfrm>
          <a:prstGeom prst="rect">
            <a:avLst/>
          </a:prstGeom>
          <a:noFill/>
          <a:ln w="0">
            <a:noFill/>
          </a:ln>
        </p:spPr>
        <p:txBody>
          <a:bodyPr anchor="t">
            <a:normAutofit/>
          </a:bodyPr>
          <a:p>
            <a:pPr algn="ct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000000"/>
                </a:solidFill>
                <a:latin typeface="Times New Roman"/>
                <a:cs typeface="B Nazanin"/>
              </a:rPr>
              <a:t>مدلهای پیش بینی</a:t>
            </a:r>
            <a:endParaRPr b="0" lang="en-US" sz="4800" spc="-1" strike="noStrike">
              <a:solidFill>
                <a:srgbClr val="000000"/>
              </a:solidFill>
              <a:latin typeface="Calibri"/>
            </a:endParaRPr>
          </a:p>
        </p:txBody>
      </p:sp>
      <p:sp>
        <p:nvSpPr>
          <p:cNvPr id="912" name="Title 2"/>
          <p:cNvSpPr/>
          <p:nvPr/>
        </p:nvSpPr>
        <p:spPr>
          <a:xfrm>
            <a:off x="457200" y="647640"/>
            <a:ext cx="8229600" cy="11430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IranNastaliq"/>
                <a:cs typeface="IranNastaliq"/>
              </a:rPr>
              <a:t>جلسه پنجم</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cs typeface="B Titr"/>
              </a:rPr>
              <a:t>پیش بینی</a:t>
            </a:r>
            <a:endParaRPr b="0" lang="en-US" sz="4800" spc="-1" strike="noStrike">
              <a:solidFill>
                <a:srgbClr val="000000"/>
              </a:solidFill>
              <a:latin typeface="Calibri"/>
            </a:endParaRPr>
          </a:p>
        </p:txBody>
      </p:sp>
      <p:sp>
        <p:nvSpPr>
          <p:cNvPr id="914" name=""/>
          <p:cNvSpPr txBox="1"/>
          <p:nvPr/>
        </p:nvSpPr>
        <p:spPr>
          <a:xfrm>
            <a:off x="152280" y="1599840"/>
            <a:ext cx="8839440" cy="4876920"/>
          </a:xfrm>
          <a:prstGeom prst="rect">
            <a:avLst/>
          </a:prstGeom>
          <a:noFill/>
          <a:ln w="0">
            <a:noFill/>
          </a:ln>
        </p:spPr>
        <p:txBody>
          <a:bodyPr anchor="t">
            <a:normAutofit fontScale="92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پیش بینی اولین ابزار برای برنامه ‌ریزی در سازمان است. زمانی برنامه ریزی این معنا را پیدا می کند که از هم اکنون تکلیف میزان و نوع منابع مورد نیاز محدود در اختیار مان را برای آینده مشخص کنیم، در نتیجه اصلی ‌ترین چیزی که باید بدانیم این است که چه مقدار تقاضا داریم یا اینکه چقدر احتمال فروش داریم که بر اساس آن میزان تولید و یا خریدمان را مشخص کنیم.</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به همین دلیل است که گفته می شود: پیش ‌بینی تقاضا اولین قدم در برنامه ‌ریزی است، که در برنامه ‌ریزی تولید معمولا برای افق </a:t>
            </a:r>
            <a:r>
              <a:rPr b="1" lang="fa-IR" sz="2800" spc="-1" strike="noStrike">
                <a:solidFill>
                  <a:srgbClr val="000000"/>
                </a:solidFill>
                <a:latin typeface="Times New Roman"/>
                <a:ea typeface="B Nazanin"/>
              </a:rPr>
              <a:t>1</a:t>
            </a:r>
            <a:r>
              <a:rPr b="1" lang="fa-IR" sz="2800" spc="-1" strike="noStrike">
                <a:solidFill>
                  <a:srgbClr val="000000"/>
                </a:solidFill>
                <a:latin typeface="Times New Roman"/>
                <a:ea typeface="B Nazanin"/>
              </a:rPr>
              <a:t> ساله در نظر گرفته می‌ شود. یعنی تقاضای </a:t>
            </a:r>
            <a:r>
              <a:rPr b="1" lang="fa-IR" sz="2800" spc="-1" strike="noStrike">
                <a:solidFill>
                  <a:srgbClr val="000000"/>
                </a:solidFill>
                <a:latin typeface="Times New Roman"/>
                <a:ea typeface="B Nazanin"/>
              </a:rPr>
              <a:t>1</a:t>
            </a:r>
            <a:r>
              <a:rPr b="1" lang="fa-IR" sz="2800" spc="-1" strike="noStrike">
                <a:solidFill>
                  <a:srgbClr val="000000"/>
                </a:solidFill>
                <a:latin typeface="Times New Roman"/>
                <a:ea typeface="B Nazanin"/>
              </a:rPr>
              <a:t> سال را پیش ‌بینی می ‌کنیم.</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ea typeface="B Titr"/>
              </a:rPr>
              <a:t> مدل های پیش بینی</a:t>
            </a:r>
            <a:endParaRPr b="0" lang="en-US" sz="4800" spc="-1" strike="noStrike">
              <a:solidFill>
                <a:srgbClr val="000000"/>
              </a:solidFill>
              <a:latin typeface="Calibri"/>
            </a:endParaRPr>
          </a:p>
        </p:txBody>
      </p:sp>
      <p:sp>
        <p:nvSpPr>
          <p:cNvPr id="916" name=""/>
          <p:cNvSpPr txBox="1"/>
          <p:nvPr/>
        </p:nvSpPr>
        <p:spPr>
          <a:xfrm>
            <a:off x="152280" y="1599840"/>
            <a:ext cx="8839440" cy="4876920"/>
          </a:xfrm>
          <a:prstGeom prst="rect">
            <a:avLst/>
          </a:prstGeom>
          <a:noFill/>
          <a:ln w="0">
            <a:noFill/>
          </a:ln>
        </p:spPr>
        <p:txBody>
          <a:bodyPr anchor="t">
            <a:normAutofit/>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واردی که بايد در انتخاب مدل مناسب پيش  بينی در نظر گرفته شوند :</a:t>
            </a:r>
            <a:endParaRPr b="0" lang="en-US" sz="2800" spc="-1" strike="noStrike">
              <a:solidFill>
                <a:srgbClr val="000000"/>
              </a:solidFill>
              <a:latin typeface="Calibri"/>
            </a:endParaRPr>
          </a:p>
          <a:p>
            <a:pPr algn="just"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محدوده زمانی </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 آمار و ارقام داده شده </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 ارتباط اطلاعات با متغير مورد نظر </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  هزينه </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 دقت</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 سادگی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17" name="Content Placeholder 2" descr=""/>
          <p:cNvPicPr/>
          <p:nvPr/>
        </p:nvPicPr>
        <p:blipFill>
          <a:blip r:embed="rId1"/>
          <a:stretch/>
        </p:blipFill>
        <p:spPr>
          <a:xfrm>
            <a:off x="228600" y="457200"/>
            <a:ext cx="8721720" cy="6019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skarifar</dc:creator>
  <dc:description/>
  <dc:language>en-US</dc:language>
  <cp:lastModifiedBy>Toka</cp:lastModifiedBy>
  <dcterms:modified xsi:type="dcterms:W3CDTF">2020-04-12T19:50:16Z</dcterms:modified>
  <cp:revision>1413</cp:revision>
  <dc:subject/>
  <dc:title>Slide 1</dc:title>
</cp:coreProperties>
</file>