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50CD-B4D0-4C5D-B110-AF7705017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731F-8A23-4DC8-82D4-E4972C47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3B7D-153B-4590-8232-1944DEFB5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9C20-22B3-4F44-BCA4-6F6694E0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F079-011B-4A5A-8155-285432331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AB6A-0250-4E69-9132-8724B07C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886F-6998-453C-8857-F9A710FE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A39B-85B3-4E0C-A550-08F31768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9A0C-5C24-4852-AD94-87ADF223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D58E-ED9F-4322-B918-BA641F4C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D170-0ABD-4003-B268-1D2D2DCB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501A-C59D-49F7-A5F6-8E6583E9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A58F-1C79-43CA-88AC-7D4760F9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841D-904C-46BF-9087-F861C371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8DFE-CCBD-4355-AB9B-C0F5AAE9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C9C8-0F67-47DB-BDF6-2B7DC588C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0E77-4792-431C-B636-18F89B11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629C-D992-4EBB-B911-827199EB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06D0-C90B-4519-82F1-FF692A39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21DC-7D40-4CC7-9058-C5AC2E46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DA41-C88D-4EE0-B612-9C59B9FC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1055-487E-4084-A38B-1C3D3798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B57E-DB98-4341-9C04-266EC66D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2C5E-4579-4730-8612-EA73AD59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BB68-DB7F-41C9-A90F-2787BDE0D2C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1045-A0FF-4223-A259-CBF9B700568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252720" y="158400"/>
            <a:ext cx="893916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99"/>
                </a:solidFill>
                <a:latin typeface="Arial"/>
              </a:rPr>
              <a:t>برنامه ریزی و توسعه</a:t>
            </a:r>
            <a:br>
              <a:rPr sz="4400"/>
            </a:br>
            <a:r>
              <a:rPr b="0" lang="fa-IR" sz="4400" spc="-1" strike="noStrike">
                <a:solidFill>
                  <a:srgbClr val="ffff99"/>
                </a:solidFill>
                <a:latin typeface="Arial"/>
              </a:rPr>
              <a:t>فصل اول ودوم وسوم وچهارم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17557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تاليف : استاد جلال تجلیا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تهيه كننده : ساراذکیان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"/>
          <p:cNvSpPr/>
          <p:nvPr/>
        </p:nvSpPr>
        <p:spPr>
          <a:xfrm>
            <a:off x="1258920" y="692280"/>
            <a:ext cx="72007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تفاوت های اصلی و اساسی کشورهای درحال توسع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</a:rPr>
              <a:t>1 . ( </a:t>
            </a:r>
            <a:r>
              <a:rPr b="1" lang="ar-SA" sz="2400" spc="-1" strike="noStrike">
                <a:solidFill>
                  <a:srgbClr val="ffffff"/>
                </a:solidFill>
                <a:latin typeface="Verdana"/>
              </a:rPr>
              <a:t>شرایط طبیعی ،جغرافیایی و جمعیت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3357720" y="3244680"/>
            <a:ext cx="50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2 .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شرایط فرهنگی و تاریخی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067280" y="462456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3. (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ساختار اقتصادی</a:t>
            </a: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4356000" y="580536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4.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نحوه توزیع قدرت سیاسی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900000" y="1773360"/>
            <a:ext cx="7417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ar-SA" sz="4000" spc="-1" strike="noStrike">
                <a:solidFill>
                  <a:srgbClr val="ffffff"/>
                </a:solidFill>
                <a:latin typeface="Verdana"/>
              </a:rPr>
              <a:t>فصل سو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پدیده توسعه یافتگی و توسعه نیافتگ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3"/>
          <p:cNvSpPr/>
          <p:nvPr/>
        </p:nvSpPr>
        <p:spPr>
          <a:xfrm>
            <a:off x="826920" y="1052640"/>
            <a:ext cx="7129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Verdana"/>
              </a:rPr>
              <a:t>دیدگاه اول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برخی ازدانشمندان توسعه عقیده دارنداقتصادجهانی مانندمجموعه مرکبی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ست که اقتصاد های ملی عناصراین مجموعه اند هرچند این مجموعه دائما درحال تغییرو تحول می باشن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2411280" y="1052640"/>
            <a:ext cx="583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رحله تراکم اولیه ثرو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ب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رحله صدور کالا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ج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رحله صدور سرمای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1187280" y="1125360"/>
            <a:ext cx="712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دیدگاه دوم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عده ای دیگری ازدانشمندان توسعه مبدا و ریشه اصلی پدیده توسعه یافتگی</a:t>
            </a: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و توسعه نیافتگی را انقلاب صنعتی می دانن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324000" y="907920"/>
            <a:ext cx="756108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Verdana"/>
              </a:rPr>
              <a:t>عوامل به وجود آورنده انقلاب صنعت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4000" spc="-1" strike="noStrike">
                <a:solidFill>
                  <a:srgbClr val="ffffff"/>
                </a:solidFill>
                <a:latin typeface="Verdana"/>
              </a:rPr>
              <a:t>عوامل اقتصاد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عوامل اجتماعی و فرهنگی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عوامل فن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-828720" y="1928880"/>
            <a:ext cx="12604680" cy="193176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"/>
          <p:cNvSpPr/>
          <p:nvPr/>
        </p:nvSpPr>
        <p:spPr>
          <a:xfrm>
            <a:off x="0" y="1844640"/>
            <a:ext cx="860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1" lang="fa-IR" sz="3600" spc="-1" strike="noStrike">
                <a:solidFill>
                  <a:srgbClr val="ffffff"/>
                </a:solidFill>
                <a:latin typeface="Verdana"/>
              </a:rPr>
              <a:t>فصل چهار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اهمیت نرخ رشد و نقش عوامل تولید در رشد اقتصاد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اهمیت نرخ رشداقتصاد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درمیان شاخص های رشداقتصادی نرخ رشد درآمدتولید</a:t>
            </a: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سرانه اهمیت خاصی دار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ین نرخ تعیین کننده نرخ درآمد کشوربه طورسرانه اس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755640" y="1197000"/>
            <a:ext cx="630072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Verdana"/>
              </a:rPr>
              <a:t>زمین و نقش آن در رشد اقتصاد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الف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بالای زمی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نظورازبالای زمین شرایط اقلیمی وآب وهوایی آن است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نقش زمی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)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نقش سطح زمین</a:t>
            </a:r>
            <a:r>
              <a:rPr b="1" lang="fa-IR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ج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زیرزمین ومنابع زیرزمین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1116000" y="1628640"/>
            <a:ext cx="669600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سرمایه و نقش آن در رشد اقتصادی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در اقتصاد معمولا اشکال تجربی سرمایه</a:t>
            </a:r>
            <a:r>
              <a:rPr b="0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ه قسمت می شود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شامل ماشین آلات و تجهیزات ،ساختمان ها و موجودی انبار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50560" y="1483920"/>
            <a:ext cx="8713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Verdana"/>
              </a:rPr>
              <a:t>توسعه اقتصاد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توسعه اقتصادی فرآیندی است که در آن یک رشته تحولات و تغییرات بنیادی در ساختارهای اقتصادی اجتماعی ،فرهنگی و سیاسی جامعه به وقوع می پیوندن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3889080" y="1052640"/>
            <a:ext cx="44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ffff"/>
                </a:solidFill>
                <a:latin typeface="Verdana"/>
              </a:rPr>
              <a:t>منابع تامین سرمای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395280" y="1916280"/>
            <a:ext cx="79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الف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نابع داخل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پس انداز شخصی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انواع حق بیمه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الیات،سود توزیع نشده،ذخیره استهلا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ب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منابع خارجی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صادرات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وام از خارج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سرمایه گذاری خارج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2286000" y="1582560"/>
            <a:ext cx="45720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انواع تکنولوژِ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کاربر یا سرمایه اندوز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سرمایه بر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یا 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کار اندو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خنثی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971640" y="981000"/>
            <a:ext cx="69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Verdana"/>
              </a:rPr>
              <a:t>نقش دولت در توسعه اقتصاد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332000" y="1989000"/>
            <a:ext cx="675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گسترش خدمات اجتماعی و زیرساخت های توسعه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یکی از مهمترین وظایف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دولت گسترش خدمات اجتماعی است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.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ز جمله خدمات اجتماعی می توان به توسعه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آموزش و پرورش ، بهبود بهداشت عمومی و ایجاد امکانات رفاهی برای افراد جامعه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شاره نمود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324000" y="1341360"/>
            <a:ext cx="75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fa-IR" sz="2800" spc="-1" strike="noStrike">
                <a:solidFill>
                  <a:srgbClr val="ffffff"/>
                </a:solidFill>
                <a:latin typeface="Verdana"/>
              </a:rPr>
              <a:t>2(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سیاست پولی و مالی و سیاست کسری بودج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403280" y="2505240"/>
            <a:ext cx="63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الی</a:t>
            </a: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ز ابزارهای سیاست مالی می توان به مخارج دولت و مالیات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شاره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نمو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611280" y="3992400"/>
            <a:ext cx="728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پولی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ز ابزارهای سیاست پولی می توان به سپرده قانونی ،نرخ تنزیل مجدد و خرید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وراق مشارکت اشاره نمود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900000" y="620640"/>
            <a:ext cx="750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  (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بازرگانی بین الملل و سیاست های حمایتی</a:t>
            </a:r>
            <a:r>
              <a:rPr b="0" lang="fa-IR" sz="36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2286000" y="1916280"/>
            <a:ext cx="532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دولت با اتخاذ سیاست های مناسب در جهت کاهش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کسری تراز پرداخت ها یکسری اقدامات به شرح ذیل انجام دهد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250920" y="2997360"/>
            <a:ext cx="7237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کاهش واردات کالاهای لوکس و مصرف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ستفاده از کالاهای ساخت داخل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تخاذ قوانین صحیح که امر صادرات را تسریع نماید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کمک و تشویق صادر کنندگان داخل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تخاذ تعرفه های گمرکی به کالاهای واردات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5840" indent="-28584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کاهش کسری تراز پرداخت ها با توجه به استقراض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 ه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ای به موقع و حساب شده</a:t>
            </a:r>
            <a:r>
              <a:rPr b="1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خارج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900000" y="1413000"/>
            <a:ext cx="777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</a:rPr>
              <a:t>رشد اقتصاد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</a:rPr>
              <a:t>عبارت است از : افزایش پیوسته و مستقر در تولید ناخالص ملی سرانه در یک کشور در بلند مدت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-108000" y="836640"/>
            <a:ext cx="8928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</a:rPr>
              <a:t>معیار های اندازه گیری رشد و توسعه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</a:rPr>
              <a:t>الف: 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از حدود هفتاد سال پیش تا کنون برای رتبه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بندی کشور های جهان از لحاظ رشد و توسعه و نیز 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</a:rPr>
              <a:t>رفاه اقتصادی </a:t>
            </a:r>
            <a:r>
              <a:rPr b="0" lang="fa-IR" sz="2400" spc="-1" strike="noStrike">
                <a:solidFill>
                  <a:srgbClr val="ffffff"/>
                </a:solidFill>
                <a:latin typeface="Verdana"/>
              </a:rPr>
              <a:t>آنها از معیار درآمد ملی واقعی سرانه استفاده می شود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2870280" y="620640"/>
            <a:ext cx="537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موریس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شاخص های کیفیت زندگی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)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1" lang="fa-IR" sz="2800" spc="-1" strike="noStrike">
                <a:solidFill>
                  <a:srgbClr val="ffffff"/>
                </a:solidFill>
                <a:latin typeface="Verdana"/>
              </a:rPr>
              <a:t>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11280" y="177336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وی با استفاده از سه شاخص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امید به زنگی در یک</a:t>
            </a:r>
            <a:r>
              <a:rPr b="1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سالگی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،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مرگ و میر نوزادان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و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نرخ با سوادی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وبا استفاده از روش خاص درمحاسبه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و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رتبه بندی می کن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826920" y="333360"/>
            <a:ext cx="734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ج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1" lang="fa-IR" sz="2800" spc="-1" strike="noStrike">
                <a:solidFill>
                  <a:srgbClr val="ffffff"/>
                </a:solidFill>
                <a:latin typeface="Verdana"/>
              </a:rPr>
              <a:t>سومین رشد شاخص رشد و توسعه </a:t>
            </a:r>
            <a:r>
              <a:rPr b="0" lang="fa-IR" sz="1800" spc="-1" strike="noStrike">
                <a:solidFill>
                  <a:srgbClr val="ffffff"/>
                </a:solidFill>
                <a:latin typeface="Verdana"/>
              </a:rPr>
              <a:t>: تحت عنوان</a:t>
            </a:r>
            <a:r>
              <a:rPr b="0" lang="fa-IR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Verdana"/>
              </a:rPr>
              <a:t>توسعه انسانی مطرح شده است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توان برخورداری از عمر طولانی همراه با سعادت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توان معرفت اندوزی و کسب علم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توان دسترسی به منابع و امکانات لازم برای برخورداری از یک زندگی مناس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57200" y="934920"/>
            <a:ext cx="8229600" cy="4529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2"/>
          <a:stretch/>
        </p:blipFill>
        <p:spPr>
          <a:xfrm>
            <a:off x="609480" y="1087560"/>
            <a:ext cx="8229600" cy="4529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ffffff"/>
                </a:solidFill>
                <a:latin typeface="Verdana"/>
              </a:rPr>
              <a:t>فصل دوم</a:t>
            </a: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684360" y="907920"/>
            <a:ext cx="7775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مشترکات و تفاوت های اصلی کشورهای درحال توسع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الف ( سطح پایین زندگی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2987640" y="3244680"/>
            <a:ext cx="528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Verdana"/>
              </a:rPr>
              <a:t>ب (سطح پایین بهره وری نیروی کار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2444760" y="42530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,Bold"/>
                <a:ea typeface="Calibri"/>
              </a:rPr>
              <a:t>(</a:t>
            </a:r>
            <a:r>
              <a:rPr b="0" lang="fa-IR" sz="2800" spc="-1" strike="noStrike">
                <a:solidFill>
                  <a:srgbClr val="ffffff"/>
                </a:solidFill>
                <a:latin typeface="Arial,Bold"/>
                <a:ea typeface="Calibri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Arial,Bold"/>
                <a:cs typeface="Calibri"/>
              </a:rPr>
              <a:t>ج  (</a:t>
            </a:r>
            <a:r>
              <a:rPr b="0" lang="ar-SA" sz="2800" spc="-1" strike="noStrike">
                <a:solidFill>
                  <a:srgbClr val="ffffff"/>
                </a:solidFill>
                <a:latin typeface="Arial,Bold"/>
                <a:cs typeface="Calibri"/>
              </a:rPr>
              <a:t>نرخ بالای زاد و ول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539640" y="299736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ه  ( وابستگی کشور به صادرات یک محصول خام یا کشاورز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2556000" y="1504800"/>
            <a:ext cx="62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د  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نرخ بالای بیکاری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2556000" y="4653000"/>
            <a:ext cx="59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و   (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دوگانگی اقتصادی واجتماع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7:40:29Z</dcterms:created>
  <dc:creator>Computer 1</dc:creator>
  <dc:description/>
  <dc:language>en-US</dc:language>
  <cp:lastModifiedBy>umet</cp:lastModifiedBy>
  <dcterms:modified xsi:type="dcterms:W3CDTF">2020-03-15T09:44:12Z</dcterms:modified>
  <cp:revision>58</cp:revision>
  <dc:subject/>
  <dc:title>فصل اول تعریف مالیات و انواع آ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