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2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2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415-84AB-4FBF-B9DB-B8990AB2E37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8F71-5E83-4BF9-A32E-0CDDF79F1D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307C-76E7-4D15-A1ED-1842B58FEB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DCD6-E1C7-412E-B1F5-E835A504E6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7029-75AE-4D8C-9A0B-8E602A73C5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2D6D-9225-4641-BE73-CE24CB267AF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1414-70D3-485E-A7E6-2D46F61AC2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FF5A-B1E2-4B0B-BC4F-865554677EE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46F7-DFDA-45E7-A2F7-560551D016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6DE0-5986-4AB3-96B3-970E2D8DB7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B043-ACE3-4FC3-8AC8-61D5E5D684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FAB9-0079-4036-BD66-9C8C291AA7E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CB55-A147-4B39-910E-EA42604CE5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AEBF-EB28-40EE-A857-28BEA7389E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4EAE-1B8B-4EB0-93DB-EB6B1AB8E7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9335-A2F2-404B-8CD4-BC83D35C9C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CC93-01D0-49D6-AA9A-8D4E9AAF8C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DB3-E2F6-46FC-8A9D-9BDCC61D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AC2-34DD-4502-A988-F99CDFB1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0A6BB-A3F6-4FE8-AFC5-5B0D6B9E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234A3-609F-434A-A494-DFA9DB45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7D1E3-DB56-4135-9398-C3B55089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4E003-B9F6-493C-B91F-C8512FF3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E6275-98B1-4D7F-ABD5-D8C2B7C1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C3F35-831D-44D1-A2E7-754D62A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0D6BA-BA30-4E7B-B7D8-8AAC68C1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249CE-0E26-4884-B55A-21030CF5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68F3A-C795-492D-976E-35E606B5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E41-C735-4D39-8FEA-57BCF827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6A2-DDC2-41A9-81FB-AF1A3F1B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9813-9B87-4BF9-91B1-C4BD066B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0D7A-AAFC-4AC5-A7CF-A099F426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9348-990C-426E-9B10-38C41A7D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7CC3-BB3C-4827-87CA-3422823D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110C-9FD8-40C8-8BD9-1B0B57A0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3973-7B35-4436-86F4-E2177C48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53EC-09FF-406D-90F7-B9870076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929-84DC-46F7-9E42-43A99269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EF0F-BE5F-4413-9BAD-C1F99B5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2ECB-B3C0-48DA-ABCC-308B238D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0BEA-8BBF-4EB4-912D-4B2BBB26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5273-197E-4B47-A2E0-EE57DF38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F048-5C6E-4E7D-8A66-E0871ECE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7FF29-8DBE-4F42-86E7-34355698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1823E-C9FD-4173-AEE2-C96BE131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99600-159E-49CF-9E08-F47703A9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1CF53-6A03-43B1-B58D-6EC8E983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C3B35-18F1-4ABB-9C3B-7F427CD6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6A0-9F73-4D56-847D-53DD4A9C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E03BD-24C5-4573-B92A-2246962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E52B8-C7E4-485F-AF3A-19008B61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79D6E-CEFE-4AA8-AD54-74606B94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A9667-7FFF-43A3-9342-BD43B298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25E1D-F4C9-46AC-BEAF-D0C562B0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8B35E-F7E9-4170-840C-144090A2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F2657-3F06-42DC-AF73-F16AFC50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FAB21-050B-4051-86DF-3E7AB160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1638-7DC9-417D-9E37-B861B395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0AF06-691E-4D71-BD94-CD1DEE82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A1F-04D3-4F07-B9B9-181E24C2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4DDBA-E1E9-4139-8F1A-25FEA403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C7A5A-F55E-493A-982B-B435832E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F5AE-2B30-4C96-9A51-F4EB9ECC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5353E-83C0-43F8-99AA-54F07F91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0278F-7174-42E3-A5F0-F2B7FD6D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27239-5C89-4A6E-B7C2-2E54A119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68BA-B04E-4917-809F-F24C35CE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F27D9-221E-462F-9136-92BAB155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03365-EE8C-420F-BF8A-C8931388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F907C-F778-4A94-B574-15B4A5DF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1DA-F527-419A-8B49-1207DFE8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0638F-48C5-4DAD-8997-A76C6649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95B13-0109-4BF9-9FD2-65F8407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C4D0E-B31C-4000-8827-E5F90591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D15D3-1AD4-48D6-B225-E5D19F38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EB244-0F55-4C0E-9A1F-D548F767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2CF89-6740-4645-A082-4206466D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50808-3EAF-44F2-B6B0-9399C4E9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F0BCC-D019-4605-86D9-951A9D12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A8567-3F56-4AD9-80C4-BCF82F56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86CF5-349A-4465-8E1A-F4C47E51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1BE-EA12-49B5-ADDC-11BA700A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F30B3-36C0-49ED-83F6-9B6C9B7E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64F59-94D6-4A99-BAB9-B26CA103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88B42-0308-432F-80C6-3E8684CC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90F6B3-C63F-4F49-A724-D7B9E5D6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44D2D-D596-4A02-BEC5-DC0E97DB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73773-945C-4843-9F70-8DFAA8E3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3196D-39DB-47E7-8123-91BE11C5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D08BF-F3A2-4CCD-8753-B151452D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D75A0-D8C1-432E-8F0A-E37A01B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B2F77-EF75-4ECD-B9F8-F07F2296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8DA-A9A1-4BCA-97B2-A13D6839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C50D8-022C-47C9-BBE6-B67196F1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80842-F823-4610-878E-FDB6897F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91FFF-867D-407E-A4CE-15FD3482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A4920-0877-4289-AA8C-C8B2CA3C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6D8E0-311B-42E3-9FFA-2EC5E7C8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A0709-151B-4788-9065-3FB67005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24FEE5-B5CE-483E-98B8-D8220232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88A532-AD24-408B-9A78-CB890451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2C00F-A1EE-4E4F-B714-1A61A00B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E8438-36EE-41F2-B5A3-CA469AB2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CE7-2401-472F-9F70-631CFDB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2AACB-D507-434E-BB52-9AABE0CA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0FC2B-5EB7-4656-81F0-DAD5E6C7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A301E-6B86-47C8-B795-8A5F156E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D7441-B372-46CC-9305-9B85B92E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E0D2A2-5524-422B-AB9A-B1832D75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E5AB8-DFB2-41FD-9400-33A090AD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D33E2-FF74-4AFA-96E5-5803B8F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6A873-B236-4474-9892-9FF8196B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2CA95-CA40-4066-92AE-93735B3D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7D452-614F-44B9-8538-3B68EE43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439-3033-4ED9-8165-47B46395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129FC-2D9A-4C7D-A5F7-92E42FFF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26D25-22BA-424A-9F1A-2032B76B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C740B-C971-42B7-8680-FE00E864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41C62-3B45-4AE3-BA9D-0C83404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9019-7143-49C6-B180-E346BFF8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58737-800D-4824-A81A-B60F37C3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A4136-2925-4DC2-8428-5C9DCB02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2B40A-CF3F-441E-A06E-B0FE1C2F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8F0E1-DA51-49DE-A0CC-A8ADD285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7EB3F-1D98-447D-90DD-339A7704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6996-D7E2-48A1-BAA9-B8653788F7C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80E4-667B-4E8D-802B-044E6840E35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0F63-6A6E-4F39-AD90-F14FEECA214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E5DE-A347-48BF-85DB-9A51B38D175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BAFF-77F3-4CB3-B17B-9719548F110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4F0C-3842-4F08-A930-078245288E0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CB09-198E-4F44-AE9F-BF7831B63EB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818D-C96E-49D3-9B6F-38F17126CBF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768E-962C-45A9-85D0-FA43FBD6D39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1403280" y="2349360"/>
          <a:ext cx="6553440" cy="3127680"/>
        </p:xfrm>
        <a:graphic>
          <a:graphicData uri="http://schemas.openxmlformats.org/drawingml/2006/table">
            <a:tbl>
              <a:tblPr/>
              <a:tblGrid>
                <a:gridCol w="4105440"/>
                <a:gridCol w="1439640"/>
                <a:gridCol w="100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الری روزانه(سوخت و ساز پای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(سال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 به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*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 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22"/>
          <p:cNvSpPr/>
          <p:nvPr/>
        </p:nvSpPr>
        <p:spPr>
          <a:xfrm>
            <a:off x="622440" y="1428840"/>
            <a:ext cx="73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برآورد میزان سوخت و ساز پایه (از سازمان بهداشت جهان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655560" y="1557360"/>
          <a:ext cx="7559640" cy="4986360"/>
        </p:xfrm>
        <a:graphic>
          <a:graphicData uri="http://schemas.openxmlformats.org/drawingml/2006/table">
            <a:tbl>
              <a:tblPr/>
              <a:tblGrid>
                <a:gridCol w="3229200"/>
                <a:gridCol w="43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کالری مورد نیا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وه سنی و شرایط فیزیولوژیک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گرم وزن بدن 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کیلو گرم وزن بدن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ودک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از تولید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اهگی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هگی تا یک سالگی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س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: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و بیشتر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خت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 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 بیشتر                                                            آبستنی                                                                  شیرده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 Box 15"/>
          <p:cNvSpPr/>
          <p:nvPr/>
        </p:nvSpPr>
        <p:spPr>
          <a:xfrm>
            <a:off x="928800" y="42876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مقدار نیازهای روزانه انرژی به نسبت کالری در سنین و شرایط مختلف فیزیولوژیک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57120" y="642600"/>
            <a:ext cx="8175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ارزش حرارتی مواد غذای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غیر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سوختن غذاها در حضور اکسیژن در بمب حرارت سنج وتعیین کالری بر حسب حرارت تولید شد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رزش حرارتی هر گرم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Line 5"/>
          <p:cNvSpPr/>
          <p:nvPr/>
        </p:nvSpPr>
        <p:spPr>
          <a:xfrm flipH="1" flipV="1">
            <a:off x="3492000" y="1279080"/>
            <a:ext cx="57492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6"/>
          <p:cNvSpPr/>
          <p:nvPr/>
        </p:nvSpPr>
        <p:spPr>
          <a:xfrm flipH="1">
            <a:off x="3492000" y="1638360"/>
            <a:ext cx="57492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900000" y="4000680"/>
          <a:ext cx="4751640" cy="1828800"/>
        </p:xfrm>
        <a:graphic>
          <a:graphicData uri="http://schemas.openxmlformats.org/drawingml/2006/table">
            <a:tbl>
              <a:tblPr/>
              <a:tblGrid>
                <a:gridCol w="1619280"/>
                <a:gridCol w="1922400"/>
                <a:gridCol w="1209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دن انس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مب کالری سنج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قند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چربی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پروتئین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85840" y="2357280"/>
            <a:ext cx="82468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مستقیم: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طاقکی سرپوشیده که اطراف آن را حجم معینی از آب گرفته و فرد یا حیوان داخل اطاقک قرار می گیرد و با اندازه گیری تغییرات درجه حرارت آب میزان حرارت آزاد شده را تعیین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غیرمستقیم: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دلیل مشکلات روش مستقیم اندازه گیری تبادلات گازها مد نظر قرار گرف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357120" y="504360"/>
            <a:ext cx="8072640" cy="183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19e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چون تمام انرژی تولید شده در بدن سرانجام به صورت حرارت آزاد می شود بنابراین اندازه گیری حرارت آزاد شده با یکی از روشهای زیرصورت می‌گیرد</a:t>
            </a: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28400" y="12855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تبادلات گازها (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،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← میزان حرارت دفع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یین میزان دفع اوره (پروتئین ها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نسبت تنفسی غذاها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ها 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→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=1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 ها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→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3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3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→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13840" y="928440"/>
            <a:ext cx="8318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 ها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ه دلیل نوع ساختمان شیمیایی و همچنین اوره دفعی نمی توان نسبت تنفسی مشخصی تعیین کرد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غذای مخلوط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2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 گرم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انرزی به ازای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انرژی تولی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5/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4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/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6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5"/>
          <p:cNvSpPr txBox="1"/>
          <p:nvPr/>
        </p:nvSpPr>
        <p:spPr>
          <a:xfrm>
            <a:off x="1500120" y="1714680"/>
            <a:ext cx="6215040" cy="39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SLIDE1_1"/>
          <p:cNvPicPr/>
          <p:nvPr/>
        </p:nvPicPr>
        <p:blipFill>
          <a:blip r:embed="rId1"/>
          <a:stretch/>
        </p:blipFill>
        <p:spPr>
          <a:xfrm>
            <a:off x="0" y="0"/>
            <a:ext cx="5500800" cy="6929280"/>
          </a:xfrm>
          <a:prstGeom prst="rect">
            <a:avLst/>
          </a:prstGeom>
          <a:ln w="0">
            <a:noFill/>
          </a:ln>
        </p:spPr>
      </p:pic>
      <p:sp>
        <p:nvSpPr>
          <p:cNvPr id="454" name="TextBox 7"/>
          <p:cNvSpPr/>
          <p:nvPr/>
        </p:nvSpPr>
        <p:spPr>
          <a:xfrm>
            <a:off x="6143760" y="90504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بخش اول</a:t>
            </a: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5357880" y="187164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imes New Roman"/>
              </a:rPr>
              <a:t>تاریخچه و شناخت مفاهیم مربوط به تغذی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5023800" y="3741840"/>
            <a:ext cx="46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اول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تاریخچه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دوم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مفاهیم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500040" y="907920"/>
            <a:ext cx="78487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ی از ارتباط بین انسان و موجودات اطراف ← ارتباط تغذیه ای اس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رکیب شیمیایی انسان بالغ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آب  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مواد معدنی 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0%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واد آل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( گلوسید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چربی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7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پروتئین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ea typeface="Arial"/>
              </a:rPr>
              <a:t>	</a:t>
            </a: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cs typeface="Arial"/>
              </a:rPr>
              <a:t>سلول برای زنده ماندن باید مرتباً این مواد را به بدن برسان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142920" y="3834360"/>
            <a:ext cx="8501040" cy="2288520"/>
          </a:xfrm>
          <a:prstGeom prst="rect">
            <a:avLst/>
          </a:prstGeom>
          <a:gradFill rotWithShape="0">
            <a:gsLst>
              <a:gs pos="0">
                <a:srgbClr val="fe8637">
                  <a:alpha val="89019"/>
                </a:srgbClr>
              </a:gs>
              <a:gs pos="50000">
                <a:srgbClr val="ffe8d9">
                  <a:alpha val="92156"/>
                </a:srgbClr>
              </a:gs>
              <a:gs pos="100000">
                <a:srgbClr val="fe8637">
                  <a:alpha val="89019"/>
                </a:srgbClr>
              </a:gs>
            </a:gsLst>
            <a:lin ang="2700000"/>
          </a:gra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وع ماده غذایی ← که همه را بدن سنتز نمی ک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ر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عواملی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یماری            ← نیاز انسان به غذا را افزایش می ده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فعالیت جسمان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حرک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684000" y="1699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همین خاطر تغذیه به صورت علم شناخته شده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لاوازیه پایه گذار علم تغذیه در قر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ریف علم تغذیه ← رساندن مواد غذایی به بدن به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مقدار مناسب</a:t>
            </a:r>
            <a:r>
              <a:rPr b="0" lang="fa-IR" sz="2400" spc="-1" strike="noStrike" u="sng">
                <a:solidFill>
                  <a:srgbClr val="000066"/>
                </a:solidFill>
                <a:uFillTx/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انتخاب غذاها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نحوی که احتیاجات روزانه انسان را برآورده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فعل و انفعالاتی که موجب می شود که سلول موجود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زنده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اشد،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رشد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ند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نگهدار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حرارت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جهت تأمین اعمال حیاتی را علم تغذیه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13840" y="856800"/>
            <a:ext cx="83185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کارهایی که مواد غذایی انجام می دهد به شرح زیر اس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رفع گرسن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انرژ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مواد جهت رشد، نموو ترم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ویتامین ها و مواد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شش نوع ماده غذایی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واد غذایی انرژی زا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02920" y="928800"/>
            <a:ext cx="6048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0" algn="ct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طبقه بندی عوامل مغذی براساس کاربرد آنها در بد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785880" y="2000160"/>
          <a:ext cx="7143840" cy="3429000"/>
        </p:xfrm>
        <a:graphic>
          <a:graphicData uri="http://schemas.openxmlformats.org/drawingml/2006/table">
            <a:tbl>
              <a:tblPr/>
              <a:tblGrid>
                <a:gridCol w="2427120"/>
                <a:gridCol w="2560680"/>
                <a:gridCol w="2156040"/>
              </a:tblGrid>
              <a:tr h="682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اربرد در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شد و ترمیم باف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نظیم اعمال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بع انرژ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 (آنزیمها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ربوهیدرا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چربی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14200" y="1199880"/>
            <a:ext cx="828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نظیم اعمال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و آنزیم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شد و ترمیم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نبع غذایی برای انسا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یوا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گیاه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این غذاها را به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گروه طبقه بندی می کنن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ارای پروتئین (گوشت)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(گیاهی و حیوانی)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غلات و برن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شیر و فراورده های لب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) سبزی ها و میوه 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نوشیدنی 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684000" y="6426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تابولیسم پایه: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حداقل میزان انرژی که برای زنده ماندن لاز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که صرف (قلب، عروق، تنفس ، گوارش، اعصاب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تقریباً برابر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الری برای یک متر مربع در یک ساعت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رایط تعیین متابولیسم پایه عبارت اند ا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حالت استراحت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الت ناشتا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رجه محیط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لری روزان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ردان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2400 – 4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زنان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600 – 3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786120" y="4397760"/>
            <a:ext cx="448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مقدار محاسبه کالری براساس وزن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6/36 + 815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مرد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1/31 + 580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ز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84000" y="5713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آن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متابولیسم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کات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آن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ذرات شیمیایی غذا به هم پیوسته و ملکول های بزرگ و درشت تر ساخته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ی شو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بدیل گلوکز ← گلیکوژن         اسید آمینه ← پروتئی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این واکنش ها ← انرژی گیر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کات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ملکول های درشت به ذرات ریزتر تبدی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گلوکز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واکنش های انرژی ز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آنابولیسم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در دوره نمو اتفاق می افتد ← حجم ماده بالا می رود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تابولیسم ← در هنگام فعالیت اتفاق می افتد. ← حجم ماده کمتر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Line 5"/>
          <p:cNvSpPr/>
          <p:nvPr/>
        </p:nvSpPr>
        <p:spPr>
          <a:xfrm flipH="1" flipV="1">
            <a:off x="6786720" y="782280"/>
            <a:ext cx="57456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H="1">
            <a:off x="6786720" y="1143000"/>
            <a:ext cx="57600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2:48Z</dcterms:modified>
  <cp:revision>84</cp:revision>
  <dc:subject/>
  <dc:title>Slide 1</dc:title>
</cp:coreProperties>
</file>