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B93E-21B0-450B-9D67-EF8791DFD0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835D-48A7-4583-AEF5-405890B21A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E1F5-2D43-481B-99F3-5552F75A13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939B-ABA5-43BF-87EA-2E7B02BFFF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2407-CD62-446C-9D1E-3DAA22F6EC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4027-D10D-42F9-BC27-78E45A8330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70BE-AC2A-4E67-8050-6E418E90FB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FC92-2178-477D-B09D-D2093BE665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E697-7B49-4C85-8DB4-1CE3980014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78F-4A6E-4BF4-9BD6-22585E37A1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3817-7AD7-4B85-9653-70A134B610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A526-3A66-42CE-B61B-700D6FD6F6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B8DD-7105-4BA8-828F-92EB4BAB82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C25B-12FA-40A7-AFD5-E09611F9A8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0042-EBD0-48FE-8551-1A9D8A09D2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8AD8-44EF-42EF-B1EE-B52C0D38CA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E17-6512-4F04-A357-D174B2CC38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16EF-79DC-44DD-8EBB-3C26AB8EC3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003E-B783-4968-A03C-833BF64AE6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1279-10FF-46E1-AFC3-618736BA63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E8FE-462D-4F0B-9397-612406C0B2C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3134-917A-4DEF-B9A8-D93D612F7C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17A-A2D8-4C7F-8AE8-1F6490F735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B91A-C92F-4292-AD55-EFFA4A9811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354-6F28-4424-8E78-8CC09B2F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4E0-5ECB-401B-88B0-6D97834E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ABD-31F8-4F87-86BF-1C07E46B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557-1EB2-48C5-A456-409F9195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13B3-C65B-459F-B8C4-0A8274A1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BFA5-1995-443B-ACD0-1CFEFAB6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85E4-238C-4BC1-8CDF-1692652E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AF08-3987-46EB-87FE-78D046E9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0AE3-E8B0-447E-9BF5-2F16521A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6742-9FC2-4BA9-936C-55B6ADDF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4871-2F33-4968-8104-DAC8329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7B6-02E4-44F6-9172-37233E83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8A9E-8C20-4EA7-A8E2-47C4D2A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09B7-36AA-4551-8ECE-AA53EC6D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9842-4970-4795-8A05-E3CD88A9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95CE-CC2D-4C2E-A587-E783BAD1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EE2D-EE9C-4892-827B-DE6A47AE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F27FE-800C-484D-B400-B2779ECE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1F0AD-DC12-4AF7-986E-B6E0E86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3B66A-5DB0-492C-AD7E-1A030715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3A762-DEB8-44E6-B6C4-59F22664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14323-DA38-4989-88E2-1AB8DD3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D5B-0C29-4219-9AAE-055EBE19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98420-7C42-4722-8D96-BD2EDD7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ADBA8-226E-4DC4-9193-422F8052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DF066-B7DD-4021-9EAA-08286A15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6534E-D431-48D1-9925-D810A10B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F6307-FDC5-4246-84E8-41AE546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426EE-3B72-4B6A-A80B-83E74446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0F8C3-1510-4BAA-9AB4-B7BA6069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2513C-D114-4CAF-ACD7-DD1BF0EF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36A9-6FD1-46BF-83CF-7F0690D2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C617F-0204-4840-AE2A-A016D5A7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FD9-7B39-4691-B066-1D6C5958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2CF8-BD6F-4ED8-9A8F-B8945DAA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98D2-D815-4ABA-BDE4-E4C167DB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3C49-5AFA-44A7-B72D-D590B2B6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A232-9C50-4952-9492-B809CAA6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295F8-6056-4472-9695-B75E022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B3276-06ED-41A0-BF50-C7CD3537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E4AB5-B72A-489B-BDF3-D2164C9C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25C8A-FA14-4DF9-BE12-47D02321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5B0B-A2CE-40DE-9FB2-20F0BF37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F80FC-1A4C-40C8-8657-BD3A30FC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E21-25F4-4293-B6C8-C2FE44E1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993F8-EEB0-47B5-BE4F-9B8F68C2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776B2-2E77-41C9-841B-E39E87F1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2B5D6-0262-42F0-89CF-2CC61573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372C5-153B-4E16-BFBD-72FECF0F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087C4-99D3-45E8-9C60-B0FA9280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8F988-CBB8-4D57-B16F-3AA999F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66053-6809-4791-83F8-7EB83227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0E65A-417C-43A3-A716-8CE84DF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48E93-9718-4257-AC49-00BAC07E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111CE-5851-466C-9A85-75451E21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FDD-3FE1-4098-B7BE-AD7A8705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5DFBF-BE90-45B5-9AC3-ACF08AFF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40EF2-E529-4779-9084-EB3FD62B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444FB-D2CC-4492-BBED-9B684F4A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290E6-0D72-4546-AED3-5EC824F0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42CCA-DAC1-4FE6-BA5E-E4FB1958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7E2C8-FCEA-4FA9-BAEB-DB20629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E8E39-C926-4271-A3A9-B3285DA2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3BBA4-B3B9-41BB-9C7E-B7A19AC0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8A562-C187-4F4F-BAB7-04091CFF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18E5D-29EB-43EE-95A9-36F1DBB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06E-04BD-49E5-8609-77E2863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30B4E-101F-48F3-9103-B5C2BA40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3FC08-15C2-4CD8-9D0D-104922FD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800CF-FA9B-4209-B511-70852055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4D602-F258-4C23-B8E3-F05FE653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8A12D-42F2-4D88-BB91-16402A2D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55C18-19ED-4C9E-B751-A8DCCA93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DBE9E-F000-4114-B312-417F2232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B6776-A641-4E7F-9258-857C0708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F0258-BCB3-41D8-B457-D13B8946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EDA05-6C29-4037-9808-EADCF6E6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5F7-63F8-4395-AC64-C09408D4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A796A-FDCB-47D0-A640-396E5A16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6B889-757F-4ABE-A8C7-E0455217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1A33A-5DA0-48CD-8B5A-93D24C3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7082C-BE59-49FD-B0BD-6998F404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0E9FA-B073-4262-8C43-5797AF3D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DF85D-5D04-488D-A2C0-F4A0B3DC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22EF2-21F6-4B04-8EFD-8EBC6DDE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B396B-FE2E-4FD5-8E56-6009B505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03B32-480E-41D6-8CA1-A4FCBA5B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10540-F601-4F2A-A8DF-BE522DA1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DB5-3FA9-41C5-82C0-3EFDFC6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E74CB-9038-40BD-9F95-781D2B61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E411-C6A6-4F64-9BCF-C1642DF6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44D07-BC8B-4A57-A889-1CCB37A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B5460-92AE-4387-9B5E-3F76378D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C0070-9CC7-4F1C-897C-78468CEE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6BFA-BF20-4F38-9BE4-BB1C40C5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26CE2-7748-4407-9F0C-4394B798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81F0-F888-4563-98A0-9D81FCD96C0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EB0-D81E-4308-A95E-AC42AE1FC63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E1DF-5D79-4A08-BBE3-4C4E63A50E4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0C82-8E81-4387-B707-A7A38B76AB9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EA9C-56E0-4FBF-B494-560695C5B33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DD54-69E9-4E76-97CA-EE322458305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9822-413D-4FD6-B5DB-177095DBD14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104E-DA05-42B5-ACE3-B19EBE5065C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643280" y="1142640"/>
            <a:ext cx="3848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راحل مختلف هضم کربوهیدرات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95280" y="1916280"/>
          <a:ext cx="8136000" cy="425124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62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ذا             دهان           معده              ترشح لوزالمعده در روده باريك         روده باريك</a:t>
                      </a: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ليكوژن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مالتوز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شاسته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كسترين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وز  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گلوكز+گالا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كارز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وكر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گلوكز +فرو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Line 13"/>
          <p:cNvSpPr/>
          <p:nvPr/>
        </p:nvSpPr>
        <p:spPr>
          <a:xfrm flipH="1">
            <a:off x="630072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H="1">
            <a:off x="3708000" y="3284640"/>
            <a:ext cx="158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 flipH="1">
            <a:off x="161928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6"/>
          <p:cNvSpPr/>
          <p:nvPr/>
        </p:nvSpPr>
        <p:spPr>
          <a:xfrm flipH="1">
            <a:off x="630072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 flipH="1">
            <a:off x="3635280" y="393372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154764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2124000" y="5734080"/>
            <a:ext cx="56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 flipH="1">
            <a:off x="1476360" y="4508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1"/>
          <p:cNvSpPr/>
          <p:nvPr/>
        </p:nvSpPr>
        <p:spPr>
          <a:xfrm flipH="1">
            <a:off x="3634920" y="4508640"/>
            <a:ext cx="403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2123640" y="5157720"/>
            <a:ext cx="561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4000" y="4647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جذب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جذب ← بعد از هضم قندها ← به صورت منوساکارید جذب می شو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+ گالاکتوز ← مکانیزم انتقال فع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فروکتوز                                 انتشار ساده                                                 منوساکاریدها از طریق سیاهرگ باب ← کب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کبد فروکتوز گالاکتوز ← گلوک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916000" y="3143160"/>
            <a:ext cx="64764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H="1" flipV="1">
            <a:off x="2916000" y="3576240"/>
            <a:ext cx="64764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0" y="3290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ارد خون می 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H="1">
            <a:off x="5148000" y="3930480"/>
            <a:ext cx="2376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11280" y="60768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3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سوخت و ساز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در هنگام ورود به خون سه سرنوشت دارد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عنوان منبع انرژی اکسید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گلیکوژن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چربی تبدیل شده و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غلظت گلوکز خو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8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گرم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لیتر خون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ت قند خون از میزان طبیعی ← هیپو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ین غلظت برای مغز مه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زایش قند خون از میزان طبیعی ←هایپر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5072040" y="4346640"/>
            <a:ext cx="287280" cy="14396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11280" y="99972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رگاه مقدار زیادی گلوکز از راه لوله گوارش وارد خون شود اضافی آن در کبد و عضلات به صورت گلیکوژن ذخیره می شود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بدیل گلوکز     به      گلیکوژن توسط آزاد شدن هورمون انسولین از لوزالمعده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عضلانی ← منشأ گرما و انرژی در هنگام فعالیت عضلانی است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کبدی ← برای حفظ میزان گلوکز خون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نگامی که مقدار کربوهیدرات مصرفی بیش از مقداری باشد که بدن بتواند آن را در کبد عضلات به صورت گلیکوژن ذخیره کند مازاد آن به چربی تبدیل می شو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6659640" y="3071880"/>
            <a:ext cx="792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213840"/>
            <a:ext cx="8246880" cy="42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رود و خروج گلوکز به خون توسط هورمون ها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↓ انسولین ،   ↑ گلوکاکن  ،     آدرنالن ↑   ،    رشد ↑  ،   کورتیزول ↑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هنگام فشار عصبی و هیجانات ← کورتیکو تروپین ← قشر فوق کلیوی ← کورتیزول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لید انرژی از گلیکوژن توسط دستگاه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گلوکز ← اسید پیرویک ← اسید لاکتی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 → 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→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1217160" y="4551480"/>
            <a:ext cx="6599880" cy="221508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دستگاه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گلیکوژن ← گلوکز ← اسید پیرودیک ← چرخه کرب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-7128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س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نقش كربوهيدراتها در بدن و رابطه آنها با ورز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13840" y="642600"/>
            <a:ext cx="842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نقش کربوهیدرات در بد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منبع انرژ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صرفه جویی در مصرف پروتئین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تأمین ویتامین (گرو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B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نقش کربوهیدرات در کبد: شامل خنثی کردن مواد سمی و تنظیم سوخت و ساز چربی و پروتئین ها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یگانه منبع سوخت دستگاه عصبی مرکز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2"/>
          <p:cNvSpPr/>
          <p:nvPr/>
        </p:nvSpPr>
        <p:spPr>
          <a:xfrm>
            <a:off x="2995560" y="4292640"/>
            <a:ext cx="1944720" cy="730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"/>
          <p:cNvSpPr/>
          <p:nvPr/>
        </p:nvSpPr>
        <p:spPr>
          <a:xfrm rot="714000">
            <a:off x="2995200" y="4436640"/>
            <a:ext cx="1657440" cy="1008000"/>
          </a:xfrm>
          <a:prstGeom prst="rightArrow">
            <a:avLst>
              <a:gd name="adj1" fmla="val 50000"/>
              <a:gd name="adj2" fmla="val 411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7120" y="856800"/>
            <a:ext cx="8175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رابطه کربوهیدرات ها با فعالیت های ورزش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زمان استراحت ←       انرژی مورد نیاز بدن توسط چربی ها و       توسط قندها و عمده سیستم تولید انرژی سیستم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5759280" y="1857240"/>
                <a:ext cx="312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1"/>
              <p:cNvSpPr txBox="1"/>
              <p:nvPr/>
            </p:nvSpPr>
            <p:spPr>
              <a:xfrm>
                <a:off x="1285920" y="1785960"/>
                <a:ext cx="353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Rectangle 12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13"/>
          <p:cNvSpPr/>
          <p:nvPr/>
        </p:nvSpPr>
        <p:spPr>
          <a:xfrm>
            <a:off x="1933560" y="4149720"/>
            <a:ext cx="1366920" cy="1368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2058840" y="4365720"/>
            <a:ext cx="576360" cy="50328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2635200" y="4869000"/>
            <a:ext cx="64944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6"/>
          <p:cNvSpPr/>
          <p:nvPr/>
        </p:nvSpPr>
        <p:spPr>
          <a:xfrm>
            <a:off x="1916280" y="4005360"/>
            <a:ext cx="13683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7"/>
          <p:cNvSpPr/>
          <p:nvPr/>
        </p:nvSpPr>
        <p:spPr>
          <a:xfrm>
            <a:off x="2076480" y="4005360"/>
            <a:ext cx="0" cy="287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142884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پروتیین(ناچی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2293920" y="43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گلوکز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2094840" y="4941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چربی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5011560" y="4221000"/>
            <a:ext cx="721080" cy="360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5104080" y="42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5877000" y="41497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6235560" y="4221000"/>
            <a:ext cx="914400" cy="360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6143760" y="42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6"/>
          <p:cNvSpPr/>
          <p:nvPr/>
        </p:nvSpPr>
        <p:spPr>
          <a:xfrm>
            <a:off x="4813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7"/>
          <p:cNvSpPr/>
          <p:nvPr/>
        </p:nvSpPr>
        <p:spPr>
          <a:xfrm>
            <a:off x="68850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5821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9"/>
          <p:cNvSpPr/>
          <p:nvPr/>
        </p:nvSpPr>
        <p:spPr>
          <a:xfrm>
            <a:off x="68634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0"/>
          <p:cNvSpPr/>
          <p:nvPr/>
        </p:nvSpPr>
        <p:spPr>
          <a:xfrm>
            <a:off x="544500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1"/>
          <p:cNvSpPr/>
          <p:nvPr/>
        </p:nvSpPr>
        <p:spPr>
          <a:xfrm>
            <a:off x="650520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3490920" y="3716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82520" y="1071360"/>
            <a:ext cx="8461440" cy="3786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های کوتاه ← کمتر از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دقیقه ← عمده سیستم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کربوهیدرات ها به عنوان منبع انرژی اصل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مع اسید لاکتیک مؤید این مورد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فزایش اسید لاکتیک خون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زمان استراحت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قدار طبیع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m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سی سی خو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411280" y="1743120"/>
            <a:ext cx="1800360" cy="863640"/>
          </a:xfrm>
          <a:prstGeom prst="rightArrow">
            <a:avLst>
              <a:gd name="adj1" fmla="val 50000"/>
              <a:gd name="adj2" fmla="val 5211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411280" y="2679840"/>
            <a:ext cx="2305080" cy="863640"/>
          </a:xfrm>
          <a:prstGeom prst="rightArrow">
            <a:avLst>
              <a:gd name="adj1" fmla="val 50000"/>
              <a:gd name="adj2" fmla="val 6672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1332000" y="1814400"/>
            <a:ext cx="1655640" cy="16560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2195640" y="2606760"/>
            <a:ext cx="576000" cy="647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2195640" y="2606760"/>
            <a:ext cx="72072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476360" y="217476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39d"/>
                </a:solidFill>
                <a:latin typeface="Times New Roman"/>
              </a:rPr>
              <a:t>کربو 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788000" y="1887480"/>
            <a:ext cx="86364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6156360" y="1887480"/>
            <a:ext cx="115236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60720" y="18874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6054840" y="195912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776560" y="190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507672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6012000" y="2895480"/>
            <a:ext cx="57456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694836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0050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565272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9446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658944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6881040" y="29671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3148920" y="33987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1707840" y="36147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1714680" y="6429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 ارتباط کربوهیدراتها با فعالیت های کوتاه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25"/>
          <p:cNvSpPr/>
          <p:nvPr/>
        </p:nvSpPr>
        <p:spPr>
          <a:xfrm>
            <a:off x="719280" y="4429080"/>
            <a:ext cx="6924600" cy="26539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7858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بخش سوم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cs typeface="Arial"/>
              </a:rPr>
              <a:t>كربوهيدراتها و نقش آنها در تغذيه 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ea typeface="Arial"/>
              </a:rPr>
              <a:t> ارتباط كربوهيدراتهاي با فعالیت های ورزشي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5" descr="LOAF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4005360"/>
            <a:ext cx="54007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42920" y="428400"/>
            <a:ext cx="8532720" cy="214308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درازمدت و نسبتاً سنگین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← بین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ـ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ساعت  فوتبال: دوها (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3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کیلومتر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شدت فعالیت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درجه اول تأمین انرژی به عمده هیدراتها کربن و سپس چربی ه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14200" y="2992320"/>
            <a:ext cx="8358480" cy="18493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57120" y="2198520"/>
            <a:ext cx="8175600" cy="19447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صیه ها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سه روز قبل خوردن هیدرات کربن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قند در حین مسابق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محلو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گلوکز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شکر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لیتر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2" name="Picture 5" descr="2-cf-supplements-gain"/>
          <p:cNvPicPr/>
          <p:nvPr/>
        </p:nvPicPr>
        <p:blipFill>
          <a:blip r:embed="rId1"/>
          <a:stretch/>
        </p:blipFill>
        <p:spPr>
          <a:xfrm>
            <a:off x="2571840" y="4357800"/>
            <a:ext cx="4000320" cy="24494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sp>
        <p:nvSpPr>
          <p:cNvPr id="503" name="Rectangle 2"/>
          <p:cNvSpPr/>
          <p:nvPr/>
        </p:nvSpPr>
        <p:spPr>
          <a:xfrm>
            <a:off x="142920" y="571680"/>
            <a:ext cx="8572320" cy="1500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Century Schoolbook"/>
              </a:rPr>
              <a:t>فعالیت درازمدت و سبک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←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ساعت مثل دوی ماراتن، کوهنورد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ابتدای فعالیت هیدرات کربن، انتها چربی (سیستم هواز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2"/>
          <p:cNvSpPr/>
          <p:nvPr/>
        </p:nvSpPr>
        <p:spPr>
          <a:xfrm>
            <a:off x="2367000" y="2421000"/>
            <a:ext cx="2808360" cy="64764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 rot="1930800">
            <a:off x="2343240" y="3068640"/>
            <a:ext cx="2160360" cy="24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1071720" y="2492280"/>
            <a:ext cx="2087280" cy="2160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2079720" y="3500280"/>
            <a:ext cx="718920" cy="865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2079720" y="3500280"/>
            <a:ext cx="1079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5464080" y="2924280"/>
            <a:ext cx="79236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6688080" y="2924280"/>
            <a:ext cx="115092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474336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704844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89608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1398960" y="29005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کربو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393280" y="3645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465520" y="2924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6569280" y="29289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47448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59004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7103160" y="4792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3492720" y="20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755640" y="6429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 ارتباط کربوهیدراتها با فعالیت های دراز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5"/>
          <p:cNvSpPr txBox="1"/>
          <p:nvPr/>
        </p:nvSpPr>
        <p:spPr>
          <a:xfrm>
            <a:off x="1357200" y="857160"/>
            <a:ext cx="6088320" cy="47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او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ساختار، انواع و منابع غذایی كربوهي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4000" y="4284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. کربوهیدراتها و ساختمان آن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قندها مهمترین و ارزانترین منبع انرژی ا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9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فق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غ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الری مورد نیاز روزانه ازخوردن مواد قندی تامین می گرد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مواد قندی ← روزانه در رژیم غذایی متعادل موجود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ساختمان ← اتمهای کربن، هیدروژن، اکسیژ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نسبت اتم هیدروژن به اکسیژ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Line 5"/>
          <p:cNvSpPr/>
          <p:nvPr/>
        </p:nvSpPr>
        <p:spPr>
          <a:xfrm flipH="1">
            <a:off x="4642920" y="2565360"/>
            <a:ext cx="50508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6"/>
          <p:cNvSpPr/>
          <p:nvPr/>
        </p:nvSpPr>
        <p:spPr>
          <a:xfrm flipH="1" flipV="1">
            <a:off x="4643280" y="2925360"/>
            <a:ext cx="43344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95280" y="2637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از خوردن مواد قندی تامین می شو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6760" y="35712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طبقه بندی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نو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تم کربن </a:t>
            </a:r>
            <a:r>
              <a:rPr b="0" lang="fa-IR" sz="1800" spc="-1" strike="noStrike">
                <a:solidFill>
                  <a:srgbClr val="ff0000"/>
                </a:solidFill>
                <a:latin typeface="Century Schoolbook"/>
                <a:ea typeface="Arial"/>
              </a:rPr>
              <a:t>(گلوکز، فروکتوز، گالاکتو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د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 ساکارید که یک ملکول آب از دست داده است. [ساکارز (گلوکز+فروکتوز)، لاکتوز (گلوکز+گالاکتوز)، مالتوز (گلوکز+گلوکز)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اهی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ساکارید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642960" y="557280"/>
            <a:ext cx="75722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انواع پلی ساکاریدها :</a:t>
            </a:r>
            <a:r>
              <a:rPr b="0" lang="fa-I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پلی ساکاریدهای گیاه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، نشاسته،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شاسته 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فراوانترین پلی ساکارید گیاهی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 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نگام هضم ← ابتدا به مالتوز ←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 ← سازنده دیواره ساختمان گیاهان ← در برابر آنزیم های گوارشی مقاوم ← در بدن جذب نمی شود ← به دفع مواد زاید کمک می ک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 حیوا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در آب محلول است ← حدو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35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لیکوژن در بدن ذخیره است 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10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کبد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24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عضل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ورزشکاران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هم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مواقع نیاز گلیکوژن تجزیه شده ← گلوکز ← روند تبدیل گلیکوژن کبدی به گلوکز را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یکوژنولیز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زیه مواد غذایی مثل پروتئین و تبدیل آن به گلوکز ←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وکونئوژن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د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هضم، جذب و سوخت و ساز کربوهی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000" y="428760"/>
            <a:ext cx="7848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هضم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ولین مرحله هضم در دهان ← مخلوط با بزاق ← آنزیم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پتیالین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(آلفا ـ آمیلا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تیالن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مالتوز     فقط برای مدت کوتاهی، به علت اینک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زاق خنثی است با ورود غذا به معده آمیلاز بزاقی غیرفعا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ضم نشاسته در معده به عل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توقف 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وارش مجدد در دوازدهه ← شیره لوزالمعده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مالتو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روده باریک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آنزیم لاکتاز و سوکراز، مالتازبه ترتیب بر روی لاکتوز ساکارزو مالتوز اثر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Line 5"/>
          <p:cNvSpPr/>
          <p:nvPr/>
        </p:nvSpPr>
        <p:spPr>
          <a:xfrm flipH="1">
            <a:off x="6300360" y="2130480"/>
            <a:ext cx="1079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6"/>
          <p:cNvSpPr/>
          <p:nvPr/>
        </p:nvSpPr>
        <p:spPr>
          <a:xfrm flipH="1">
            <a:off x="2050920" y="3643200"/>
            <a:ext cx="1368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142920" y="5086440"/>
            <a:ext cx="85723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قتی کربوهیدراتها مجددا به مونوساکاریدها تجزیه می‌شوند،آنزیمهای خاصی یونهای هیدروژن و هیدروکسیل را به پلی‌ساکاریدها باز می‌گردانند و به این وسیله مونوساکاریدها را از یکدیگر جدا می‌کنند. این روند، هیدرولیز نامیده می‌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7:35Z</dcterms:modified>
  <cp:revision>97</cp:revision>
  <dc:subject/>
  <dc:title>Slide 1</dc:title>
</cp:coreProperties>
</file>