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1EEA-F5FF-4683-92DB-DEECF8538C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E9C2-9F5F-4563-BE06-BE39CDBDA3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8A79-18F5-4A70-B000-A8D30EE5687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2B6B-B0C8-40C2-8E57-F8F8C45D0B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BFB6-25DC-41F1-A1E7-FE6BDA89D3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8EBB-BB2F-4138-A5C0-4661DE6F30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02CA-F55A-4275-B7B4-95217B0907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2AFC-6DD1-4DF7-AE59-4D62325BCD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BF25-EC4A-4153-B74C-A28DBA1324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487A-71CB-4C06-A3CC-CAF9BDD74E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035D-AD9F-441D-9181-FA1B69EEDE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0767-D0E8-4FF4-BE78-E45B037553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2360-52D7-4CF6-9451-CA4E353010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227E-F6DA-4770-97AB-8AD6FCE73E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B811-3F3A-4E3D-A479-9F94AE3316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97FC-916B-4F3A-9A74-B212E1582B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9551-F582-4B33-88C5-4330B38612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80F3-6EB7-46EA-91CE-5B3DED55A6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B2B1-296E-41F4-B043-52641722A7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C4CA-840D-4417-BDE4-BB186F56A1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AB61-CE88-470F-AC28-86B071BD4D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095D-7FC2-4EA4-8867-9151681CDD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24C1-AEEF-4908-A660-ED4B2FA00D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37BA-1BF9-4648-9A74-AF4D83B763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D91-7A4A-4ACF-964C-DA054DFE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13E-A08C-4822-AF67-C114942F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A8C-D6D9-4759-A52B-418E1999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A2B-084D-4956-A753-7AA03F21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C499-F2C6-40F3-A481-0D0F3377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5CE3-DD9F-4BE6-8848-89730889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F997-3DB4-4CB0-8AC2-B39AEAE4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B91E-33CA-4CA1-BD9E-370DADDD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B139-C5FA-463A-97BF-EE98AE70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6204-BC33-4132-A979-C20E4ED2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C04F-8AFD-46BD-85B6-4CE77A83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30D-1CB5-41E3-A546-019F2E2E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B71D-C8A7-450E-B1E0-91EB6D9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A12C-82B0-4F09-9F37-FB329470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4EF6-5257-455B-A380-54C428EF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1E2A-1BA2-43E6-AE61-27C7CD5E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560D-EAA8-48D8-A634-06EFDC02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F8BF1-E07E-4C30-B13A-EC02248E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CD0D7-863E-4CD5-98C2-CA5E8CBE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B817F-7CC4-4D09-BEAB-F4DC6B5E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15D70-2DE9-4E8D-A9D4-766A4C72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5CE8C-DF99-4CD4-96C8-55926416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DBB-551F-4168-BE72-825DAAE1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1FFC2-CCD6-4916-8E5C-4A3D24DF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FDA8A-0E9F-463C-A012-204F6EDD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C29A0-435B-44FB-A642-A9A8215C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F8483-B273-48AC-9908-62D5B50B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58BF0-69D6-4857-A03D-64689C01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E0FB8-9CF0-4219-8D5F-79822800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E6041-BD32-4056-BE02-E7F968DD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04F3A-ED8F-44DA-B772-D9E05381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24D52-83E9-4F2A-9EB2-199858F3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338E-9856-4C57-96CC-2E4E5940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379-F499-43D8-ADF7-076B8DCE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BE7C2-36F9-44BB-BBD3-631CD077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6FFAB-56FA-47C4-8FAA-E504F82E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96C51-90CA-404B-9538-68CE6B77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07C0-DEA8-4B49-A8DB-AB232F16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5B204-110C-4572-A2C7-7A115B12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94174-D1F8-4DCB-9334-8CF1B918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ECB7-9337-48B0-8CC2-560D1C9F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93226-7689-4102-AFAE-6E7CB157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784AA-009E-411B-83D5-EE9B181D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5731C-081D-4B70-8E47-38D9CB21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A43-C084-4250-9483-6F4FD1C5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B417B-1743-4228-BFE1-A03B98D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D7B36-1D23-4C43-A9FD-E538E970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F9284-0FD1-4FCD-A07C-C3941046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514E1-A529-4B23-B515-07C98CA0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057C9-90A7-4C36-A5EA-78B56842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B4383-2204-4D73-8F08-FE43E6C6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C6EC9-2A51-4194-BF5F-8A6D41D8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7766C-2BFB-497B-991F-352126AD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11227-643B-42B0-890C-AFBCD9C3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29942-8BAB-491F-8576-78F460F7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945-9DD8-4290-AC0B-1FE39DEB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F78A8-9F8C-4242-AD09-E2AF16CA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B3685-2C17-4EDF-8487-FD13FDFE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ACE55-7AA5-4F4F-BF5F-4ABDEA24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7D01C-8130-423A-87D9-7BBB438C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704B8-79F3-4D75-8C0A-4A9A801A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BF5F5-A9F5-4761-967D-AA4070E6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069D6-D0E4-424E-9AEB-28A82739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AAEB0-19EA-4922-9D0C-CADD740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8C122-C9CF-42F4-8BD1-CCE7E290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3B4DA-14E6-47B2-97B3-B634A8F9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56E-D641-43DC-AF34-9F07058D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B5E35-D3C8-48D9-BA20-EABED7E3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F2926-8165-4AF7-800B-6A12D42D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A4DAC-51E6-4E7D-B6D4-DA2ECC77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93610-C090-42CC-97E2-1819DAC9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24059-D44E-4DDC-92D5-998CB334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1E410D-AFE3-4DBD-877C-C26FB247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B176E3-6203-46DF-B010-17EFEC9A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1E10E-B0EA-4715-B08C-F8EFE801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0EC9F-1F25-4FEF-88C6-68285FA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00082-1791-4F28-AAF3-0AF406D8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F76-0C0D-49D1-AE99-2A8E3823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04325-C118-4EB7-93B7-24D4BB6D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B4A10-8DC2-4540-97C6-1111D9D5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F2FBEE-6028-4D23-A7DB-F66B5061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B5533-E4E9-487D-9AD6-8B687302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871E1-C1FD-478D-9BCC-758E602A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DC3E1-E62D-4D79-8438-29571FE4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1FE05-E91D-4EA6-B6A8-94331917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BB63F-CC5F-4A79-B034-ADD9A644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8AE0C-9077-44D8-B43D-E4D2CA6D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B863E-3FE0-41C9-B904-59842FDA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42D-0903-4630-8474-951DE641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48498-BCA9-411D-ACCC-85631125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326AA-DC07-48B9-96D9-56BD91D9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9A297-F996-4A4E-BA08-49FDED6B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24B94-DF1B-4491-9F9E-E1A7177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40F26-A8C1-4AEF-8D4E-218A5EF1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4D72A-2083-495D-BCD3-F9EAB046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31A21-4D0A-4575-AC74-D6A2410E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7B2F-05E3-4624-90E3-08A6ACB6A98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E7B-98F9-4CFD-858B-CBBF08C4264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C2A1-489F-4DDD-AB6E-9D2F9346FA1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3368-8C14-479A-BF19-5B4C9AA61E1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2376-D3E1-443E-AF24-846F20BFDD4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82A3-B01E-4C37-A6D0-D47ABAB957D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F719-71F1-45BC-8C86-BD8248BC413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AACF-2745-4B76-AF60-A95A6E2A4B1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643280" y="1142640"/>
            <a:ext cx="3848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راحل مختلف هضم کربوهیدرات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395280" y="1916280"/>
          <a:ext cx="8136000" cy="425124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62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ذا             دهان           معده              ترشح لوزالمعده در روده باريك         روده باريك</a:t>
                      </a: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ليكوژن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مالتوز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شاسته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كسترين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وز  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گلوكز+گالا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كارز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وكر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گلوكز +فرو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Line 13"/>
          <p:cNvSpPr/>
          <p:nvPr/>
        </p:nvSpPr>
        <p:spPr>
          <a:xfrm flipH="1">
            <a:off x="630072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 flipH="1">
            <a:off x="3708000" y="3284640"/>
            <a:ext cx="158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 flipH="1">
            <a:off x="161928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6"/>
          <p:cNvSpPr/>
          <p:nvPr/>
        </p:nvSpPr>
        <p:spPr>
          <a:xfrm flipH="1">
            <a:off x="630072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7"/>
          <p:cNvSpPr/>
          <p:nvPr/>
        </p:nvSpPr>
        <p:spPr>
          <a:xfrm flipH="1">
            <a:off x="3635280" y="3933720"/>
            <a:ext cx="165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 flipH="1">
            <a:off x="154764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 flipH="1">
            <a:off x="2124000" y="5734080"/>
            <a:ext cx="5616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0"/>
          <p:cNvSpPr/>
          <p:nvPr/>
        </p:nvSpPr>
        <p:spPr>
          <a:xfrm flipH="1">
            <a:off x="1476360" y="4508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1"/>
          <p:cNvSpPr/>
          <p:nvPr/>
        </p:nvSpPr>
        <p:spPr>
          <a:xfrm flipH="1">
            <a:off x="3634920" y="4508640"/>
            <a:ext cx="403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2"/>
          <p:cNvSpPr/>
          <p:nvPr/>
        </p:nvSpPr>
        <p:spPr>
          <a:xfrm flipH="1">
            <a:off x="2123640" y="5157720"/>
            <a:ext cx="5614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84000" y="4647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جذب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جذب ← بعد از هضم قندها ← به صورت منوساکارید جذب می شو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+ گالاکتوز ← مکانیزم انتقال فع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فروکتوز                                 انتشار ساده                                                 منوساکاریدها از طریق سیاهرگ باب ← کب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کبد فروکتوز گالاکتوز ← گلوک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2916000" y="3143160"/>
            <a:ext cx="64764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H="1" flipV="1">
            <a:off x="2916000" y="3576240"/>
            <a:ext cx="64764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0" y="32907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ارد خون می 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H="1">
            <a:off x="5148000" y="3930480"/>
            <a:ext cx="2376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11280" y="60768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3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سوخت و ساز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در هنگام ورود به خون سه سرنوشت دارد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عنوان منبع انرژی اکسید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گلیکوژن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چربی تبدیل شده و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غلظت گلوکز خو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8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گرم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لیتر خون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ت قند خون از میزان طبیعی ← هیپو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ین غلظت برای مغز مه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زایش قند خون از میزان طبیعی ←هایپر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5072040" y="4346640"/>
            <a:ext cx="287280" cy="14396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11280" y="99972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رگاه مقدار زیادی گلوکز از راه لوله گوارش وارد خون شود اضافی آن در کبد و عضلات به صورت گلیکوژن ذخیره می شود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بدیل گلوکز     به      گلیکوژن توسط آزاد شدن هورمون انسولین از لوزالمعده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عضلانی ← منشأ گرما و انرژی در هنگام فعالیت عضلانی است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کبدی ← برای حفظ میزان گلوکز خون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نگامی که مقدار کربوهیدرات مصرفی بیش از مقداری باشد که بدن بتواند آن را در کبد عضلات به صورت گلیکوژن ذخیره کند مازاد آن به چربی تبدیل می شو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6659640" y="3071880"/>
            <a:ext cx="792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5840" y="213840"/>
            <a:ext cx="8246880" cy="42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رود و خروج گلوکز به خون توسط هورمون ها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↓ انسولین ،   ↑ گلوکاکن  ،     آدرنالن ↑   ،    رشد ↑  ،   کورتیزول ↑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هنگام فشار عصبی و هیجانات ← کورتیکو تروپین ← قشر فوق کلیوی ← کورتیزول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لید انرژی از گلیکوژن توسط دستگاه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گلوکز ← اسید پیرویک ← اسید لاکتی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 → 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→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1217160" y="4551480"/>
            <a:ext cx="6599880" cy="221508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دستگاه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گلیکوژن ← گلوکز ← اسید پیرودیک ← چرخه کرب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→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-7128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س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نقش كربوهيدراتها در بدن و رابطه آنها با ورز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13840" y="642600"/>
            <a:ext cx="842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نقش کربوهیدرات در بد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منبع انرژ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صرفه جویی در مصرف پروتئین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تأمین ویتامین (گروه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B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نقش کربوهیدرات در کبد: شامل خنثی کردن مواد سمی و تنظیم سوخت و ساز چربی و پروتئین ها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یگانه منبع سوخت دستگاه عصبی مرکز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Line 2"/>
          <p:cNvSpPr/>
          <p:nvPr/>
        </p:nvSpPr>
        <p:spPr>
          <a:xfrm>
            <a:off x="2995560" y="4292640"/>
            <a:ext cx="1944720" cy="730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"/>
          <p:cNvSpPr/>
          <p:nvPr/>
        </p:nvSpPr>
        <p:spPr>
          <a:xfrm rot="714000">
            <a:off x="2995200" y="4436640"/>
            <a:ext cx="1657440" cy="1008000"/>
          </a:xfrm>
          <a:prstGeom prst="rightArrow">
            <a:avLst>
              <a:gd name="adj1" fmla="val 50000"/>
              <a:gd name="adj2" fmla="val 4110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57120" y="856800"/>
            <a:ext cx="8175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رابطه کربوهیدرات ها با فعالیت های ورزش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زمان استراحت ←       انرژی مورد نیاز بدن توسط چربی ها و       توسط قندها و عمده سیستم تولید انرژی سیستم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8"/>
              <p:cNvSpPr txBox="1"/>
              <p:nvPr/>
            </p:nvSpPr>
            <p:spPr>
              <a:xfrm>
                <a:off x="5759280" y="1857240"/>
                <a:ext cx="312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9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1"/>
              <p:cNvSpPr txBox="1"/>
              <p:nvPr/>
            </p:nvSpPr>
            <p:spPr>
              <a:xfrm>
                <a:off x="1285920" y="1785960"/>
                <a:ext cx="353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Rectangle 12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13"/>
          <p:cNvSpPr/>
          <p:nvPr/>
        </p:nvSpPr>
        <p:spPr>
          <a:xfrm>
            <a:off x="1933560" y="4149720"/>
            <a:ext cx="1366920" cy="1368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2058840" y="4365720"/>
            <a:ext cx="576360" cy="50328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2635200" y="4869000"/>
            <a:ext cx="64944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6"/>
          <p:cNvSpPr/>
          <p:nvPr/>
        </p:nvSpPr>
        <p:spPr>
          <a:xfrm>
            <a:off x="1916280" y="4005360"/>
            <a:ext cx="13683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7"/>
          <p:cNvSpPr/>
          <p:nvPr/>
        </p:nvSpPr>
        <p:spPr>
          <a:xfrm>
            <a:off x="2076480" y="4005360"/>
            <a:ext cx="0" cy="287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142884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پروتیین(ناچی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2293920" y="43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گلوکز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2094840" y="49417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چربی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5011560" y="4221000"/>
            <a:ext cx="721080" cy="3603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5104080" y="422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5877000" y="414972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6235560" y="4221000"/>
            <a:ext cx="914400" cy="360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6143760" y="4221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6"/>
          <p:cNvSpPr/>
          <p:nvPr/>
        </p:nvSpPr>
        <p:spPr>
          <a:xfrm>
            <a:off x="4813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7"/>
          <p:cNvSpPr/>
          <p:nvPr/>
        </p:nvSpPr>
        <p:spPr>
          <a:xfrm>
            <a:off x="68850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5821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9"/>
          <p:cNvSpPr/>
          <p:nvPr/>
        </p:nvSpPr>
        <p:spPr>
          <a:xfrm>
            <a:off x="68634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0"/>
          <p:cNvSpPr/>
          <p:nvPr/>
        </p:nvSpPr>
        <p:spPr>
          <a:xfrm>
            <a:off x="5445000" y="508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1"/>
          <p:cNvSpPr/>
          <p:nvPr/>
        </p:nvSpPr>
        <p:spPr>
          <a:xfrm>
            <a:off x="6505200" y="5105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3490920" y="37162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82520" y="1071360"/>
            <a:ext cx="8461440" cy="3786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های کوتاه ← کمتر از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دقیقه ← عمده سیستم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کربوهیدرات ها به عنوان منبع انرژی اصل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مع اسید لاکتیک مؤید این مورد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فزایش اسید لاکتیک خون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زمان استراحت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قدار طبیعی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m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سی سی خو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2411280" y="1743120"/>
            <a:ext cx="1800360" cy="863640"/>
          </a:xfrm>
          <a:prstGeom prst="rightArrow">
            <a:avLst>
              <a:gd name="adj1" fmla="val 50000"/>
              <a:gd name="adj2" fmla="val 5211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2411280" y="2679840"/>
            <a:ext cx="2305080" cy="863640"/>
          </a:xfrm>
          <a:prstGeom prst="rightArrow">
            <a:avLst>
              <a:gd name="adj1" fmla="val 50000"/>
              <a:gd name="adj2" fmla="val 6672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1332000" y="1814400"/>
            <a:ext cx="1655640" cy="16560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2195640" y="2606760"/>
            <a:ext cx="576000" cy="6476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2195640" y="2606760"/>
            <a:ext cx="72072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476360" y="217476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39d"/>
                </a:solidFill>
                <a:latin typeface="Times New Roman"/>
              </a:rPr>
              <a:t>کربو 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788000" y="1887480"/>
            <a:ext cx="86364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6156360" y="1887480"/>
            <a:ext cx="115236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60720" y="18874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6054840" y="195912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5776560" y="1906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507672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6012000" y="2895480"/>
            <a:ext cx="57456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694836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0050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565272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59446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658944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6881040" y="29671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3148920" y="33987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1707840" y="36147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1714680" y="64296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 ارتباط کربوهیدراتها با فعالیت های کوتاه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25"/>
          <p:cNvSpPr/>
          <p:nvPr/>
        </p:nvSpPr>
        <p:spPr>
          <a:xfrm>
            <a:off x="719280" y="4429080"/>
            <a:ext cx="6924600" cy="26539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7858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بخش سوم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cs typeface="Arial"/>
              </a:rPr>
              <a:t>كربوهيدراتها و نقش آنها در تغذيه 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ea typeface="Arial"/>
              </a:rPr>
              <a:t> ارتباط كربوهيدراتهاي با فعالیت های ورزشي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5" descr="LOAF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4005360"/>
            <a:ext cx="54007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42920" y="428400"/>
            <a:ext cx="8532720" cy="214308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درازمدت و نسبتاً سنگین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← بین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ـ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ساعت  فوتبال: دوها (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3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کیلومتر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شدت فعالیت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درجه اول تأمین انرژی به عمده هیدراتها کربن و سپس چربی ه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214200" y="2992320"/>
            <a:ext cx="8358480" cy="18493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57120" y="2198520"/>
            <a:ext cx="8175600" cy="19447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صیه ها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سه روز قبل خوردن هیدرات کربن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قند در حین مسابق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محلو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گلوکز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شکر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لیتر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2" name="Picture 5" descr="2-cf-supplements-gain"/>
          <p:cNvPicPr/>
          <p:nvPr/>
        </p:nvPicPr>
        <p:blipFill>
          <a:blip r:embed="rId1"/>
          <a:stretch/>
        </p:blipFill>
        <p:spPr>
          <a:xfrm>
            <a:off x="2571840" y="4357800"/>
            <a:ext cx="4000320" cy="244944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sp>
        <p:nvSpPr>
          <p:cNvPr id="503" name="Rectangle 2"/>
          <p:cNvSpPr/>
          <p:nvPr/>
        </p:nvSpPr>
        <p:spPr>
          <a:xfrm>
            <a:off x="142920" y="571680"/>
            <a:ext cx="8572320" cy="1500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Century Schoolbook"/>
              </a:rPr>
              <a:t>فعالیت درازمدت و سبک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←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3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4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ساعت مثل دوی ماراتن، کوهنورد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ابتدای فعالیت هیدرات کربن، انتها چربی (سیستم هواز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2"/>
          <p:cNvSpPr/>
          <p:nvPr/>
        </p:nvSpPr>
        <p:spPr>
          <a:xfrm>
            <a:off x="2367000" y="2421000"/>
            <a:ext cx="2808360" cy="64764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3"/>
          <p:cNvSpPr/>
          <p:nvPr/>
        </p:nvSpPr>
        <p:spPr>
          <a:xfrm rot="1930800">
            <a:off x="2343240" y="3068640"/>
            <a:ext cx="2160360" cy="24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6"/>
          <p:cNvSpPr/>
          <p:nvPr/>
        </p:nvSpPr>
        <p:spPr>
          <a:xfrm>
            <a:off x="1071720" y="2492280"/>
            <a:ext cx="2087280" cy="21607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2079720" y="3500280"/>
            <a:ext cx="718920" cy="865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2079720" y="3500280"/>
            <a:ext cx="10792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5464080" y="2924280"/>
            <a:ext cx="79236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6688080" y="2924280"/>
            <a:ext cx="115092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474336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704844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589608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1398960" y="29005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کربو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2393280" y="3645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5465520" y="2924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6569280" y="292896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47448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59004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7103160" y="4792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3492720" y="20606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755640" y="6429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 ارتباط کربوهیدراتها با فعالیت های دراز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5"/>
          <p:cNvSpPr txBox="1"/>
          <p:nvPr/>
        </p:nvSpPr>
        <p:spPr>
          <a:xfrm>
            <a:off x="1357200" y="857160"/>
            <a:ext cx="6088320" cy="47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او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ساختار، انواع و منابع غذایی كربوهي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4000" y="4284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. کربوهیدراتها و ساختمان آن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قندها مهمترین و ارزانترین منبع انرژی ا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9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فقی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غ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الری مورد نیاز روزانه ازخوردن مواد قندی تامین می گرد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مواد قندی ← روزانه در رژیم غذایی متعادل موجود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ساختمان ← اتمهای کربن، هیدروژن، اکسیژ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نسبت اتم هیدروژن به اکسیژ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Line 5"/>
          <p:cNvSpPr/>
          <p:nvPr/>
        </p:nvSpPr>
        <p:spPr>
          <a:xfrm flipH="1">
            <a:off x="4642920" y="2565360"/>
            <a:ext cx="50508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6"/>
          <p:cNvSpPr/>
          <p:nvPr/>
        </p:nvSpPr>
        <p:spPr>
          <a:xfrm flipH="1" flipV="1">
            <a:off x="4643280" y="2925360"/>
            <a:ext cx="43344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95280" y="2637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از خوردن مواد قندی تامین می شو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6760" y="35712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طبقه بندی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نو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تم کربن </a:t>
            </a:r>
            <a:r>
              <a:rPr b="0" lang="fa-IR" sz="1800" spc="-1" strike="noStrike">
                <a:solidFill>
                  <a:srgbClr val="ff0000"/>
                </a:solidFill>
                <a:latin typeface="Century Schoolbook"/>
                <a:ea typeface="Arial"/>
              </a:rPr>
              <a:t>(گلوکز، فروکتوز، گالاکتوز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د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 ساکارید که یک ملکول آب از دست داده است. [ساکارز (گلوکز+فروکتوز)، لاکتوز (گلوکز+گالاکتوز)، مالتوز (گلوکز+گلوکز)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اهی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ساکارید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642960" y="557280"/>
            <a:ext cx="757224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انواع پلی ساکاریدها :</a:t>
            </a:r>
            <a:r>
              <a:rPr b="0" lang="fa-I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پلی ساکاریدهای گیاه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، نشاسته،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شاسته 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فراوانترین پلی ساکارید گیاهی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 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نگام هضم ← ابتدا به مالتوز ←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 ← سازنده دیواره ساختمان گیاهان ← در برابر آنزیم های گوارشی مقاوم ← در بدن جذب نمی شود ← به دفع مواد زاید کمک می کن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 حیوا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در آب محلول است ← حدود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35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لیکوژن در بدن ذخیره است 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108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کبد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24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عضل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ورزشکاران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هم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مواقع نیاز گلیکوژن تجزیه شده ← گلوکز ← روند تبدیل گلیکوژن کبدی به گلوکز را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یکوژنولیز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زیه مواد غذایی مثل پروتئین و تبدیل آن به گلوکز ←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وکونئوژن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د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هضم، جذب و سوخت و ساز کربوهی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000" y="428760"/>
            <a:ext cx="7848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هضم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ولین مرحله هضم در دهان ← مخلوط با بزاق ← آنزیم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پتیالین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(آلفا ـ آمیلا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تیالن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مالتوز     فقط برای مدت کوتاهی، به علت اینکه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زاق خنثی است با ورود غذا به معده آمیلاز بزاقی غیرفعا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ضم نشاسته در معده به علت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متر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توقف ش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وارش مجدد در دوازدهه ← شیره لوزالمعده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مالتو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روده باریک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آنزیم لاکتاز و سوکراز، مالتازبه ترتیب بر روی لاکتوز ساکارزو مالتوز اثر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Line 5"/>
          <p:cNvSpPr/>
          <p:nvPr/>
        </p:nvSpPr>
        <p:spPr>
          <a:xfrm flipH="1">
            <a:off x="6300360" y="2130480"/>
            <a:ext cx="10796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6"/>
          <p:cNvSpPr/>
          <p:nvPr/>
        </p:nvSpPr>
        <p:spPr>
          <a:xfrm flipH="1">
            <a:off x="2050920" y="3643200"/>
            <a:ext cx="1368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142920" y="5086440"/>
            <a:ext cx="85723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قتی کربوهیدراتها مجددا به مونوساکاریدها تجزیه می‌شوند،آنزیمهای خاصی یونهای هیدروژن و هیدروکسیل را به پلی‌ساکاریدها باز می‌گردانند و به این وسیله مونوساکاریدها را از یکدیگر جدا می‌کنند. این روند، هیدرولیز نامیده می‌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7:35Z</dcterms:modified>
  <cp:revision>97</cp:revision>
  <dc:subject/>
  <dc:title>Slide 1</dc:title>
</cp:coreProperties>
</file>