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A696-6F7F-48E6-923B-149F77148F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7C9B-9777-40A5-A1E2-D9404DBC00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8FAC-C167-4FDD-A776-D560ED1949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7B92-532F-4A18-A387-2C58E23D07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27F0-5C47-499E-8944-A9D406CE7D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6003-27B1-496C-9DEC-74BE1CF1C3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6DC6-00AE-4CD3-B18C-3AF0637520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D020-A291-4D2A-A70E-21ED652967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98B-42AB-4950-8BA5-7F095A641F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397C-FE5E-4EC2-9D92-7B6125ABD2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78EA-6127-4EF6-A845-07FA7DD119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90EA-3522-4407-904C-F8C48D7AD1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FF3E-639C-46B4-948E-73FEE3A427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D9ED-1613-4FD4-931A-B607DA5720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7D8B-C04C-4B8E-B5E0-0D549E93A8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E0FA-CC7F-4826-BF86-9E05367B66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06EA-BDBD-44ED-AA43-3B51EAF9D0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871-2412-447E-9C7A-398A333A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293-F1F1-4834-858D-C7343388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98E4D-B409-4306-95A0-91DE0E27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AAC14-A40F-47F9-9452-1561F1D1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F80CF-4521-482D-AE86-5C30591A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2473A-68C2-4247-B383-9065CBEC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1FA9D-3BEC-4BB7-8961-6535C223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948BC-6763-4D33-9935-1917892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11EF0-0272-428A-8ECC-932EEC2E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9D859-B03C-4CFF-B878-CD50F7CD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89223-64C5-4A0C-A616-4105273D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DA6-B0E3-42E2-BDA4-AAD89736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67D-FFE1-4CC5-A4FD-FCB9CD9F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30B7-401A-483D-90FF-8922573B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F590-32EF-4501-A3E6-9991EF8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AEE3-319F-4314-A391-D53316D4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FDA3-F223-4ACF-A2DF-6D52F42B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FAFB-37AF-421C-A579-B920BEE7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16F8-67F0-461C-9129-B95FCCE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C657-9184-44D9-9C7F-64F39045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649-1D87-48E1-82BB-B10132D1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D1F9-EA73-441E-A558-6A5647A0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1C8-32B3-4B4B-AEC7-4D0AD4AD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8E6D-1717-4E9D-84EA-24159690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FED6-27F8-413F-8591-80275A03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F8CE-B3AA-403D-864F-C1DB38B2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039AE-4352-4880-ADF0-257C083D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DEA3A-881D-4EA0-BAFE-1B1B84E9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6A8FF-A31B-45EC-95BE-78BFE0CA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D3E2E-9426-46C6-BC6F-43570CD0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D9784-E1F5-4B1D-B9F2-2B8191E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B4C-A3D2-454A-91EC-EB5AB3FA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D81B3-8098-4EB0-92D9-018ADEA2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42837-F6EA-4735-8B77-96AE0BAA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48996-85AB-4659-8877-9380F16C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D23EB-A13D-4459-9286-398E2AC4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FF1A4-B35F-4E10-B8EB-B85F8A23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E8122-DA9F-4E0B-A36C-A6105BB7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444C7-696F-4036-A3A2-F20B7F9B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FFC94-560F-456B-AD50-5A687811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157D6-2A1F-46A4-BF9B-EB2396C3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F0C9-59EB-4194-87DD-242DE633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618-609B-4462-ADD1-5819DF32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F253-8B20-4E9C-840D-8DE334C1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9FBC-A594-4299-8334-37E9508D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C6BA-2028-475B-A689-936FAEB3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BDE7-C535-4703-91DC-50B8B72F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291B-4B7C-45B0-BB09-D9481F3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FB65-8FE0-4CCC-880F-981D049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93A2-247B-4E68-8761-DDFDDE2B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FF64-5935-412E-A76C-38A9279A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9729-B31C-4FCC-A893-C2104D62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CFD4B-48F3-4B36-BF71-CE93FB59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59B-C5E9-4DBC-9484-975BA94F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8E062-AB9A-4AE1-988A-92A51D3D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A5B02-513A-4828-8EB1-1A5C8439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72BCA-0904-4D84-B9A6-2EF82C2C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C3383-E526-4D64-8D9D-55FEA871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E8920-26B9-4D4B-9BDA-2FD73905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280E0-573D-44A3-8143-8B294BF4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6213E-7392-40E4-863F-4B8004EB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422AD-B2B6-4456-B64A-D5614D28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792D1-D3BD-48E3-8BCC-50FDE272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10B44-3A69-499F-A013-2F392679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D4A-1647-4EE2-B15C-DCE02066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7A2D2-016E-4515-A300-3274FF43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F7BE9-2DCC-4DA7-BE78-D95638A1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E479F-3785-4A9A-A1D2-D87C9800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C61A9-64C0-42D5-BF56-EB299028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512BF-9267-4E2F-BBEE-E06FE436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6A5D6-A67F-4927-AE50-D3DCF5B9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03374-ED3B-4F78-A76B-5FFDA204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9739A-3A3D-4ED8-B9EE-EE297BD9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4DEFD-74BA-40C2-8F33-FE60828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8FAD7-96B9-4CD6-9452-EEC9B1B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3F1-B1EB-4004-889C-B557658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2304A-337F-4967-A324-657F8F43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AA079-95DB-4D26-A608-0994D204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25B30-9777-49AE-8BC4-98F97825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AC2897-A0CC-463F-9999-F66CA4A6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6A561-90E5-4332-AE81-FC7FD1A2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160FC-3B7C-4055-9174-6ECC1797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A1388-A655-421D-8B41-7545F51B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DC9A1-142E-4E96-818D-71C63812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B2C40-D660-4663-97C4-CB20DBA1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515BC-B34C-4080-AD46-6A347BA2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DB1-7C73-4606-B527-5B6B78CD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7ADC4-CB6F-499B-9884-4FEACEE0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A4F22-4573-4600-BF4C-CFC6985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1ED8A-574D-424A-AF31-825361B6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C4E65-5B35-4990-8BF6-4B72CD1F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121414-3177-474D-BAA2-E074FA88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1BB91-1E60-4B43-90CA-8592AF4D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13043-4E18-4476-AE97-7F77ACA5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5F454-0313-490A-ABB2-81373593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EA2C3-AFC1-4724-9FD1-293C673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06F34-9371-49A9-BCEB-29A2D1DE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7BF-AC7C-44B6-9C55-1955854E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15B1A-A3CA-424A-B901-68F3AF3F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B0689-6B88-4C8E-8E1F-06F15C8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4E56B-6B71-471F-A3A8-540A9E7E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4283B-2B08-4B8E-8C93-128D534A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922DF-1D73-4B9B-AA83-21A1111B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F2152-A936-436F-A57E-2C9D621C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F451B-D1A0-4884-90DE-CD4F70F9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3339D-8F3A-4E4D-967B-8D31D744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FF992-9F3E-4B8B-B32B-16394258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1B1DD-9799-458A-959B-E83C9912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0D75-3FA9-4E7E-A996-E5217ED5F9A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6B1-5117-45C1-8818-B13EAA4B0DB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0184-E0FA-4180-827F-5692C7520C9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19C1-B483-4376-9CD5-B0FF4AD2F4B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B58-A9CC-4BCF-A8CB-118DB0BFB27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4BAD-2A6D-49C3-AAE6-6E4204C866E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7265-C96D-4F11-8512-98A5ABF2C18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6559-18F7-4BEE-BBC5-87A6B30C24D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BE4-A3B4-4884-A415-873C85D5C2C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403280" y="2349360"/>
          <a:ext cx="6553440" cy="3127680"/>
        </p:xfrm>
        <a:graphic>
          <a:graphicData uri="http://schemas.openxmlformats.org/drawingml/2006/table">
            <a:tbl>
              <a:tblPr/>
              <a:tblGrid>
                <a:gridCol w="4105440"/>
                <a:gridCol w="1439640"/>
                <a:gridCol w="100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الری روزانه(سوخت و ساز پای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(سال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 به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*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 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22"/>
          <p:cNvSpPr/>
          <p:nvPr/>
        </p:nvSpPr>
        <p:spPr>
          <a:xfrm>
            <a:off x="622440" y="142884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برآورد میزان سوخت و ساز پایه (از سازمان بهداشت جهان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655560" y="1557360"/>
          <a:ext cx="7559640" cy="4986360"/>
        </p:xfrm>
        <a:graphic>
          <a:graphicData uri="http://schemas.openxmlformats.org/drawingml/2006/table">
            <a:tbl>
              <a:tblPr/>
              <a:tblGrid>
                <a:gridCol w="3229200"/>
                <a:gridCol w="43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کالری مورد نیا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وه سنی و شرایط فیزیولوژیک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گرم وزن بدن 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کیلو گرم وزن بدن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ودک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ز تولید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اهگی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هگی تا یک سالگی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س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: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و بیشتر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خت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 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 بیشتر                                                            آبستنی                                                                  شیرده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15"/>
          <p:cNvSpPr/>
          <p:nvPr/>
        </p:nvSpPr>
        <p:spPr>
          <a:xfrm>
            <a:off x="928800" y="42876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مقدار نیازهای روزانه انرژی به نسبت کالری در سنین و شرایط مختلف فیزیولوژیک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57120" y="642600"/>
            <a:ext cx="8175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ارزش حرارتی مواد غذای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غیر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سوختن غذاها در حضور اکسیژن در بمب حرارت سنج وتعیین کالری بر حسب حرارت تولید شد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رزش حرارتی هر گرم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Line 5"/>
          <p:cNvSpPr/>
          <p:nvPr/>
        </p:nvSpPr>
        <p:spPr>
          <a:xfrm flipH="1" flipV="1">
            <a:off x="3492000" y="1279080"/>
            <a:ext cx="57492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"/>
          <p:cNvSpPr/>
          <p:nvPr/>
        </p:nvSpPr>
        <p:spPr>
          <a:xfrm flipH="1">
            <a:off x="3492000" y="1638360"/>
            <a:ext cx="57492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900000" y="4000680"/>
          <a:ext cx="4751640" cy="1828800"/>
        </p:xfrm>
        <a:graphic>
          <a:graphicData uri="http://schemas.openxmlformats.org/drawingml/2006/table">
            <a:tbl>
              <a:tblPr/>
              <a:tblGrid>
                <a:gridCol w="1619280"/>
                <a:gridCol w="1922400"/>
                <a:gridCol w="1209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دن ا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مب کالری سنج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قند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چربی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پروتئین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85840" y="2357280"/>
            <a:ext cx="82468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مستقیم: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طاقکی سرپوشیده که اطراف آن را حجم معینی از آب گرفته و فرد یا حیوان داخل اطاقک قرار می گیرد و با اندازه گیری تغییرات درجه حرارت آب میزان حرارت آزاد شده را تعیین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غیرمستقیم: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دلیل مشکلات روش مستقیم اندازه گیری تبادلات گازها مد نظر قرار گرف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357120" y="504360"/>
            <a:ext cx="8072640" cy="183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19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چون تمام انرژی تولید شده در بدن سرانجام به صورت حرارت آزاد می شود بنابراین اندازه گیری حرارت آزاد شده با یکی از روشهای زیرصورت می‌گیرد</a:t>
            </a: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400" y="12855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تبادلات گازها (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،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← میزان حرارت دف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یین میزان دفع اوره (پروتئین ها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نسبت تنفسی غذاها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ها 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→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=1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 ها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→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3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3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→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13840" y="928440"/>
            <a:ext cx="8318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 ها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ه دلیل نوع ساختمان شیمیایی و همچنین اوره دفعی نمی توان نسبت تنفسی مشخصی تعیین کرد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غذای مخلوط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2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 گرم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انرزی به ازای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انرژی تولی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5/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4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/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6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5"/>
          <p:cNvSpPr txBox="1"/>
          <p:nvPr/>
        </p:nvSpPr>
        <p:spPr>
          <a:xfrm>
            <a:off x="1500120" y="1714680"/>
            <a:ext cx="6215040" cy="39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SLIDE1_1"/>
          <p:cNvPicPr/>
          <p:nvPr/>
        </p:nvPicPr>
        <p:blipFill>
          <a:blip r:embed="rId1"/>
          <a:stretch/>
        </p:blipFill>
        <p:spPr>
          <a:xfrm>
            <a:off x="0" y="0"/>
            <a:ext cx="5500800" cy="69292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7"/>
          <p:cNvSpPr/>
          <p:nvPr/>
        </p:nvSpPr>
        <p:spPr>
          <a:xfrm>
            <a:off x="6143760" y="90504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بخش اول</a:t>
            </a: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5357880" y="187164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imes New Roman"/>
              </a:rPr>
              <a:t>تاریخچه و شناخت مفاهیم مربوط به تغذی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5023800" y="3741840"/>
            <a:ext cx="46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اول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تاریخچه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دوم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مفاهیم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500040" y="907920"/>
            <a:ext cx="78487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ی از ارتباط بین انسان و موجودات اطراف ← ارتباط تغذیه ای اس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رکیب شیمیایی انسان بالغ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آب  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مواد معدنی 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0%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واد آل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( گلوسید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چربی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7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پروتئین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cs typeface="Arial"/>
              </a:rPr>
              <a:t>سلول برای زنده ماندن باید مرتباً این مواد را به بدن برسان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142920" y="3834360"/>
            <a:ext cx="8501040" cy="2288520"/>
          </a:xfrm>
          <a:prstGeom prst="rect">
            <a:avLst/>
          </a:prstGeom>
          <a:gradFill rotWithShape="0">
            <a:gsLst>
              <a:gs pos="0">
                <a:srgbClr val="fe8637">
                  <a:alpha val="89019"/>
                </a:srgbClr>
              </a:gs>
              <a:gs pos="50000">
                <a:srgbClr val="ffe8d9">
                  <a:alpha val="92156"/>
                </a:srgbClr>
              </a:gs>
              <a:gs pos="100000">
                <a:srgbClr val="fe8637">
                  <a:alpha val="89019"/>
                </a:srgbClr>
              </a:gs>
            </a:gsLst>
            <a:lin ang="2700000"/>
          </a:gra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وع ماده غذایی ← که همه را بدن سنتز نمی ک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ر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عواملی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یماری            ← نیاز انسان به غذا را افزایش می ده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فعالیت جسمان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حرک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684000" y="1699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همین خاطر تغذیه به صورت علم شناخته شده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لاوازیه پایه گذار علم تغذیه در قر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ریف علم تغذیه ← رساندن مواد غذایی به بدن به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مقدار مناسب</a:t>
            </a:r>
            <a:r>
              <a:rPr b="0" lang="fa-IR" sz="2400" spc="-1" strike="noStrike" u="sng">
                <a:solidFill>
                  <a:srgbClr val="000066"/>
                </a:solidFill>
                <a:uFillTx/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انتخاب غذاها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نحوی که احتیاجات روزانه انسان را برآورده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فعل و انفعالاتی که موجب می شود که سلول موجود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زنده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اشد،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رشد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ند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نگهدار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حرارت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جهت تأمین اعمال حیاتی را علم تغذیه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13840" y="856800"/>
            <a:ext cx="83185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کارهایی که مواد غذایی انجام می دهد به شرح زیر اس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رفع گرسن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انرژ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مواد جهت رشد، نموو ترم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ویتامین ها و مواد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شش نوع ماده غذایی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واد غذایی انرژی زا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02920" y="928800"/>
            <a:ext cx="604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0" algn="ct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طبقه بندی عوامل مغذی براساس کاربرد آنها در بد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85880" y="2000160"/>
          <a:ext cx="7143840" cy="3429000"/>
        </p:xfrm>
        <a:graphic>
          <a:graphicData uri="http://schemas.openxmlformats.org/drawingml/2006/table">
            <a:tbl>
              <a:tblPr/>
              <a:tblGrid>
                <a:gridCol w="2427120"/>
                <a:gridCol w="2560680"/>
                <a:gridCol w="2156040"/>
              </a:tblGrid>
              <a:tr h="682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اربرد در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شد و ترمیم باف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نظیم اعمال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بع انرژ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 (آنزیمها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ربوهیدرا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چربی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14200" y="1199880"/>
            <a:ext cx="828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نظیم اعمال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و آنزیم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شد و ترمیم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نبع غذایی برای انسا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یوا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گیاه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این غذاها را به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گروه طبقه بندی می کنن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ارای پروتئین (گوشت)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(گیاهی و حیوانی)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غلات و برن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شیر و فراورده های لب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) سبزی ها و میوه 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نوشیدنی 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684000" y="6426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تابولیسم پایه: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حداقل میزان انرژی که برای زنده ماندن لاز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که صرف (قلب، عروق، تنفس ، گوارش، اعصاب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تقریباً برابر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الری برای یک متر مربع در یک ساعت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رایط تعیین متابولیسم پایه عبارت اند ا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حالت استراحت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الت ناشتا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رجه محیط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لری روزان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ردان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2400 – 4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زنان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600 – 3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786120" y="4397760"/>
            <a:ext cx="44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مقدار محاسبه کالری براساس وزن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6/36 + 815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مرد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1/31 + 580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ز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4000" y="5713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آن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متابولیسم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کات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آن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ذرات شیمیایی غذا به هم پیوسته و ملکول های بزرگ و درشت تر ساخته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ی شو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بدیل گلوکز ← گلیکوژن         اسید آمینه ← پروتئی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این واکنش ها ← انرژی گیر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کات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ملکول های درشت به ذرات ریزتر تبدی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گلوکز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واکنش های انرژی ز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آنابولیسم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در دوره نمو اتفاق می افتد ← حجم ماده بالا می رود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تابولیسم ← در هنگام فعالیت اتفاق می افتد. ← حجم ماده کمتر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Line 5"/>
          <p:cNvSpPr/>
          <p:nvPr/>
        </p:nvSpPr>
        <p:spPr>
          <a:xfrm flipH="1" flipV="1">
            <a:off x="6786720" y="782280"/>
            <a:ext cx="57456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H="1">
            <a:off x="6786720" y="1143000"/>
            <a:ext cx="57600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2:48Z</dcterms:modified>
  <cp:revision>84</cp:revision>
  <dc:subject/>
  <dc:title>Slide 1</dc:title>
</cp:coreProperties>
</file>